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1A0-0D65-4D25-B862-949F93F3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06D-E19B-4523-8C3F-ADDBBED4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BAD-3521-4251-B927-9CAB9C28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930-5D19-4862-B7FF-910708D0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8D33-0BDE-4A6C-8574-8BBACF5A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4D83-356C-432D-941A-D73F4784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198E-FBDD-4C80-AAAB-66F3932A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B385-5A21-4D0E-BE84-ACCA6FEA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C23E-D374-4F5D-90B1-E59211C0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D0EF-9D78-4582-BB59-9219B03F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0F9F-CC55-44FC-BDA5-11DDE5D1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9A9-7077-422A-8242-625A5FC2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28CD-CDFE-46B8-A680-5F5D60E5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7606-B235-4ECF-A1E2-F91ABD56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2B1B-9D95-46D9-84B1-4543FD31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FB14-1B87-4E85-9130-8990E4A9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4928-7594-4636-BDD3-7CA03302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2FB4-698A-475F-A97A-B9A48678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0E1C1-6735-4E21-AA9F-334A1476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B143-3A69-4B8B-87A8-7E856FA3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69EF-2B2D-4082-89F2-8BD6405C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3D6F7-9912-46A9-8B23-5A0B1209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072-5DF9-4649-B737-BF7BF128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1D65-9C6F-4AA9-B319-7E6F64FE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F4B5-C410-4886-915C-5D7EDD5A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B31D-AF98-47FA-A948-EEFD0B3A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D7F5-D441-40FF-93B1-9F69993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8FFF-59AF-45F8-B107-2C43A830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1472-C4E6-4678-AE3D-2BFD17A8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40F3-055E-4674-8143-6BB7EE37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4FE22-1D22-4961-85E8-88F0A85A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B23E-B6E1-4F1A-A733-5D937E46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073C-AA7F-434E-B456-FB3E6C48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E00-CB50-4027-97E0-99FBC581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4E82-D383-454B-B20C-EA294FF1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0AFA0-D39C-4C88-82CC-4CDE8264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BC4A-F5B2-4071-92F6-04331DAD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17BC-F3CA-4E8C-86ED-4F9CCF0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38ED5-504C-44DB-8EDD-202DA7B1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9082-497B-4754-8BC9-A356C24E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115CC-4434-4F09-B8C3-2A05F571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E1AF-5422-43E3-9C73-7F769494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BEA6-2A4E-4323-A75A-5AF54686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E6950-D29C-45B5-94EA-44900160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EBC-ACDB-42F4-9834-CA28281D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3253-4E08-4DA6-8AC0-9818B825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E046-E3E6-4719-8005-F81CD742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8CD24-B57C-497C-9FF8-CC4D9468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EAEBD-8E78-439A-BBD8-D4C74BD8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654F4-58AF-4ABD-A16A-74241ADF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BDA11-F734-457A-9072-CBA57131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1F79-5A31-4D3D-A61E-69038277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24D2-5AA2-4D3D-B1A7-DD126A6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6E23-9006-4576-8B79-528850F7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03952-5000-4321-A161-4D7B91DC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888-75B6-451F-8427-13545129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A484-BEA8-45AB-8466-87252C4E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73D-2272-48C4-810E-D9F65E9F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133-8659-4DBC-A438-97695A60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458-9542-4A23-894F-0B7ECB13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CA0E-70DA-4991-9CCF-BF3297693DC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7F90-DCB4-4606-9756-8C92759D9FA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7D4D-F88A-4498-B0E5-40C1C7BCC12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9D20-3064-4BDB-958B-22F2580C5D4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35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38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42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9C2C-83FA-4CD7-8981-82859C3001B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psr.sk/natu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7"/>
          <p:cNvSpPr/>
          <p:nvPr/>
        </p:nvSpPr>
        <p:spPr>
          <a:xfrm>
            <a:off x="395280" y="167796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vr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b050"/>
                </a:solidFill>
                <a:uFillTx/>
                <a:latin typeface="Arial"/>
              </a:rPr>
              <a:t>Prioritného akčného rámca financovania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atura 2000 v Slovenskej republike v EU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gramovom období 2014-202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600"/>
                </a:solidFill>
                <a:latin typeface="Arial Narrow"/>
              </a:rPr>
              <a:t>Jana Durkošová, Ministerstvo životného prostredia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600"/>
                </a:solidFill>
                <a:latin typeface="Arial Narrow"/>
              </a:rPr>
              <a:t>Andrej Saxa, Štátna ochrana prírody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600"/>
                </a:solidFill>
                <a:latin typeface="Arial Narrow"/>
              </a:rPr>
              <a:t>Financovanie sústavy Natura 2000 - vytváranie príležitostí z fondov EÚ 2014-202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600"/>
                </a:solidFill>
                <a:latin typeface="Arial Narrow"/>
              </a:rPr>
              <a:t>Bratislava 12. 11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Logo_nat1"/>
          <p:cNvPicPr/>
          <p:nvPr/>
        </p:nvPicPr>
        <p:blipFill>
          <a:blip r:embed="rId1"/>
          <a:stretch/>
        </p:blipFill>
        <p:spPr>
          <a:xfrm>
            <a:off x="3900600" y="496800"/>
            <a:ext cx="1199880" cy="99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7"/>
          <p:cNvSpPr/>
          <p:nvPr/>
        </p:nvSpPr>
        <p:spPr>
          <a:xfrm>
            <a:off x="676440" y="115920"/>
            <a:ext cx="763236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Sústreďovanie informácií o doterajších zdrojoch podpory Natura 2000 z EU fond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Časť D v rámci PAF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sústredené podklady 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Úradu vlády SR („nórsky finančný mechanizmus“, „švajčiarsky finančný mechanizmus“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nisterstva pôdohospodárstva a rozvoja vidieka SR (sekcia rozvoja vidieka, cezhraničné program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nisterstvo hospodárstva SR (cestovný ruc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ekcie environmentálnych programov a projektov (operačný program životné prostredie, LIFE+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nvironmentálny fon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6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7"/>
          <p:cNvSpPr/>
          <p:nvPr/>
        </p:nvSpPr>
        <p:spPr>
          <a:xfrm>
            <a:off x="676440" y="115920"/>
            <a:ext cx="7632360" cy="9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Samotný návrh P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AF obsahuje úda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 sústave Natura 200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 stave biotopov a druhov európskeho významu, pre ktoré boli územia Natura 2000 v Slovenskej republike vymedzen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vné vplyvy a ohrozenia 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ioritné opatrenia na dosiahnutie spoločného cieľa EÚ štátov „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do roku 2020 zlepšiť o 100 % stav biotopov európskeho významu a o 50 %  stav druhov európskeho významu“ (vrátane vybraných druhov vtáctva chránených podľa smernice Európskeho parlamentu a Rady 2009/147/ES z 30. novembra 2009 o ochrane voľne žijúceho vtáctv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 skúsenostiach s financovaním Natura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hady pre budúce programové obdobie 2014-202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85 strán, resp. 102 spolu s troma príloh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99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0"/>
          <p:cNvSpPr/>
          <p:nvPr/>
        </p:nvSpPr>
        <p:spPr>
          <a:xfrm>
            <a:off x="1476360" y="1268280"/>
            <a:ext cx="61200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59a8d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Ďakujeme  za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ĺžnik 1"/>
          <p:cNvSpPr/>
          <p:nvPr/>
        </p:nvSpPr>
        <p:spPr>
          <a:xfrm>
            <a:off x="1042920" y="3105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9900"/>
                </a:solidFill>
                <a:latin typeface="Arial"/>
              </a:rPr>
              <a:t>http://ec.europa.eu/environment/nature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ĺžnik 2"/>
          <p:cNvSpPr/>
          <p:nvPr/>
        </p:nvSpPr>
        <p:spPr>
          <a:xfrm>
            <a:off x="3203640" y="40766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56c7aa"/>
                </a:solidFill>
                <a:uFillTx/>
                <a:latin typeface="Arial"/>
                <a:hlinkClick r:id="rId1"/>
              </a:rPr>
              <a:t>www.sopsr.sk/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bdĺžnik 3"/>
          <p:cNvSpPr/>
          <p:nvPr/>
        </p:nvSpPr>
        <p:spPr>
          <a:xfrm>
            <a:off x="2843280" y="4797360"/>
            <a:ext cx="36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na.durkosova@enviro.gov.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7"/>
          <p:cNvSpPr/>
          <p:nvPr/>
        </p:nvSpPr>
        <p:spPr>
          <a:xfrm>
            <a:off x="676440" y="115920"/>
            <a:ext cx="763236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Obs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Čo j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Natura 2000 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a aké sú jej ci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Čo j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PAF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 a aké sú jeho ci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Z čoho vyplýva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povinnosť vypracovať PAF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Proces schvaľovania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formátu PAF 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v E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Proces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prípravy a chvaľovania PAF 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v Slovenskej repub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Sústreďovanie informácií </a:t>
            </a:r>
            <a:r>
              <a:rPr b="0" lang="sk-SK" sz="2800" spc="-1" strike="noStrike">
                <a:solidFill>
                  <a:srgbClr val="000000"/>
                </a:solidFill>
                <a:latin typeface="Arial Narrow"/>
              </a:rPr>
              <a:t>o doterajších zdrojoch podpory Natura 2000 z fondov E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Arial Narrow"/>
              </a:rPr>
              <a:t>Samotný návrh P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7"/>
          <p:cNvSpPr/>
          <p:nvPr/>
        </p:nvSpPr>
        <p:spPr>
          <a:xfrm>
            <a:off x="539640" y="115920"/>
            <a:ext cx="77691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Čo je Natura 2000 a aké sú jej cie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sústava chránených území členských štátov E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b050"/>
                </a:solidFill>
                <a:latin typeface="Arial"/>
                <a:ea typeface="Arial"/>
              </a:rPr>
              <a:t>18 % výmery pevniny EÚ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tvoria ju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  <a:ea typeface="Arial"/>
              </a:rPr>
              <a:t>chránené vtáčie územia 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(EU smernica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2009/147/ES 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o ochrane vtáctva) a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  <a:ea typeface="Arial"/>
              </a:rPr>
              <a:t>územia európskeho významu 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(EU smernica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92/43/EHS </a:t>
            </a: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o ochrane biotopo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spoločné kritériá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cieľom - ochrana prírodného dedičstva/biodiverzity Európ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Arial"/>
                <a:ea typeface="Arial"/>
              </a:rPr>
              <a:t>fázy: vymedzenie lokalít, vyhlasovanie, zabezpečenie starostlivosti – financovan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7"/>
          <p:cNvSpPr/>
          <p:nvPr/>
        </p:nvSpPr>
        <p:spPr>
          <a:xfrm>
            <a:off x="676440" y="115920"/>
            <a:ext cx="7632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Natura 2000 – 41 chránených vtáčích území (26,2 % Slovens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hvu_07_2010"/>
          <p:cNvPicPr/>
          <p:nvPr/>
        </p:nvPicPr>
        <p:blipFill>
          <a:blip r:embed="rId1"/>
          <a:stretch/>
        </p:blipFill>
        <p:spPr>
          <a:xfrm>
            <a:off x="565200" y="1341360"/>
            <a:ext cx="7200720" cy="540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7"/>
          <p:cNvSpPr/>
          <p:nvPr/>
        </p:nvSpPr>
        <p:spPr>
          <a:xfrm>
            <a:off x="676440" y="115920"/>
            <a:ext cx="7632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Natura 2000 – 473 území európskeho významu (11,9% Slovens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9" descr="sci"/>
          <p:cNvPicPr/>
          <p:nvPr/>
        </p:nvPicPr>
        <p:blipFill>
          <a:blip r:embed="rId1"/>
          <a:stretch/>
        </p:blipFill>
        <p:spPr>
          <a:xfrm>
            <a:off x="50760" y="134136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7"/>
          <p:cNvSpPr/>
          <p:nvPr/>
        </p:nvSpPr>
        <p:spPr>
          <a:xfrm>
            <a:off x="676440" y="115920"/>
            <a:ext cx="76323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Čo je PAF a aké sú jeho cie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b050"/>
                </a:solidFill>
                <a:uFillTx/>
                <a:latin typeface="Arial"/>
              </a:rPr>
              <a:t>Prioritný akčný rámec financovania Natura 2000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ďalej len „PAF“ (podľa anglického názvu „Priority Action Framework  for Natura 2000 for the Multiannual Financing Period 2014-2020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Európska komisi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považuje PAF za významný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plánovací nástroj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 uplatňovanie integrovaného financovania sústavy Natura 2000 (financovanie z viacerých EU zdrojo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využije PAF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v procese schvaľovania programových dokumentov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 jednotlivé EU fondy v období 2014-20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AF bude tiež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referenčným materiálom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 rokovania o nastavení podmienok využívania eurofondov na národnej úrovni, ako aj pre prípravu projekto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7"/>
          <p:cNvSpPr/>
          <p:nvPr/>
        </p:nvSpPr>
        <p:spPr>
          <a:xfrm>
            <a:off x="676440" y="115920"/>
            <a:ext cx="763236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Proces schvaľovania formátu PAF v E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201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Európska komisia informovala členské štáty o úlohe, zaslala návrh form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apríl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Výbor pre biotopy schválil formát  PA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máj 2012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urópska komisia zaslala konečný návrh formátu; t.j. bol pre jednotlivé členské štáty rovnaký (kapitoly, zdroje údajov, typy aktivít pre manažment Natura 2000, možné zdroje financovania ai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ecember 2012 – termín predložen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7"/>
          <p:cNvSpPr/>
          <p:nvPr/>
        </p:nvSpPr>
        <p:spPr>
          <a:xfrm>
            <a:off x="676440" y="115920"/>
            <a:ext cx="76323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Proces prípravy a schvaľovania PAF v S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ept. 201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– list  sekcie ochrany prírody a tvorby krajiny na Ministerstvo pôdohospodárstva a rozvoja vidieka SR, Štátnu ochranu prírody SR a relevantné sekcie Ministerstva životného prostredia S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máj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konečný formát;  preklad do slovenčiny (sekcia ochrany prírody a tvorby krajiny); „deľba práce so ŠOP SR“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júl – okt.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príprava (takmer celého) dokumentu - Štátna ochrana prírody S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ov.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oslovené ďalšie subjekty, dopracovanie materiál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dec. 201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interné pripomienkové konanie na Ministerstve životného prostredia SR, zapracované dodatočné podkl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7"/>
          <p:cNvSpPr/>
          <p:nvPr/>
        </p:nvSpPr>
        <p:spPr>
          <a:xfrm>
            <a:off x="676440" y="115920"/>
            <a:ext cx="763236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9900"/>
                </a:solidFill>
                <a:latin typeface="Arial Narrow"/>
              </a:rPr>
              <a:t>Proces prípravy a schvaľovania PAF v S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jan.-feb. 2013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rokovanie s Ministerstvom pôdohospodárstva a rozvoja vidieka SR; zapracovanie pripomieno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25. apríl 2013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k-SK" sz="2000" spc="-1" strike="noStrike">
                <a:solidFill>
                  <a:srgbClr val="00b050"/>
                </a:solidFill>
                <a:latin typeface="Arial"/>
              </a:rPr>
              <a:t>schválenie PAF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úrovni ministerst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26. apríl 2013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list pre Európsku komisiu (cez stále zastúpen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máj 2013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informovanie spolupracujúcich subjekto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6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7:27:37Z</dcterms:created>
  <dc:creator>Černecký</dc:creator>
  <dc:description/>
  <dc:language>en-US</dc:language>
  <cp:lastModifiedBy>Durkošová Jana</cp:lastModifiedBy>
  <dcterms:modified xsi:type="dcterms:W3CDTF">2013-11-11T15:50:18Z</dcterms:modified>
  <cp:revision>190</cp:revision>
  <dc:subject/>
  <dc:title>Snímka 1</dc:title>
</cp:coreProperties>
</file>