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79F-4EFF-4BCC-91A0-FFF20056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14E-DC48-4C93-BDE2-4F66D18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ABA-12F5-46A0-9488-1F4D1119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458-0CD7-42F6-9445-CD20DAAB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8F82-B391-44E4-A923-F545B01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892-F682-4540-BE72-17E8B78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FA9A-8B44-4690-97C2-08924249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049E-45F0-4E46-BC97-9D6624E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E1A-C845-42A1-8711-A7F1C0E8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FA94-F7B7-4B6E-B113-B45D6762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6C9F-C3D5-46B5-9FF7-1D15B95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BA7-63C6-410A-B67D-64BAD6B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B14-5600-4B2F-BFBC-FC3E793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1BC-0816-406E-8371-3F1CE960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51C2-55B1-4346-BD4B-96270ACA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B9C4-F79C-4A63-8061-CB6248BD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43BD-5632-4C6B-A30F-6CE9327B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BFB-3F63-4BD2-9F00-D244A681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BCF-07EC-4C49-887F-664E211C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E9D-E95A-4C37-AEE3-56A6DB49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284-2194-4563-A4AB-9F35212D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968-C838-4A70-86E1-8F8E7C62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8EF-E8D7-4DA4-927F-212C5B4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DB1-8155-44B3-8F5B-AEAA27C5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FE0-F975-4805-AF5D-FEFF1259E1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C269-528C-4EA3-A60D-A173B391A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vlajky a spolufin - SJ"/>
          <p:cNvPicPr/>
          <p:nvPr/>
        </p:nvPicPr>
        <p:blipFill>
          <a:blip r:embed="rId1"/>
          <a:srcRect l="1985" t="3516" r="54282" b="32333"/>
          <a:stretch/>
        </p:blipFill>
        <p:spPr>
          <a:xfrm>
            <a:off x="3635280" y="404640"/>
            <a:ext cx="809640" cy="538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8" name="Picture 12" descr="vlajky a spolufin - SJ"/>
          <p:cNvPicPr/>
          <p:nvPr/>
        </p:nvPicPr>
        <p:blipFill>
          <a:blip r:embed="rId2"/>
          <a:srcRect l="54184" t="3205" r="1901" b="32005"/>
          <a:stretch/>
        </p:blipFill>
        <p:spPr>
          <a:xfrm>
            <a:off x="4572000" y="404640"/>
            <a:ext cx="806400" cy="540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5192640"/>
            <a:ext cx="24192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971640" y="1557360"/>
            <a:ext cx="7380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 rozvoja vidieka S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14 - 2020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ovanie oblastí NATURA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oenvironmentálne operácie súvisiace s klímou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29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677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hľad podopatrení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chrana biotopov poloprírodných a prírodných trávnych poras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tegrovaná produkcia (vinohrady, ovocné sady, zelenina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Ochrana proti erózii na ornej pôde (stabilizačné pás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hov a udržanie ohrozených  druhov zvie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115920"/>
            <a:ext cx="89298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oenvironmentálne operácie súvisiace s klímou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3068640"/>
          <a:ext cx="8603640" cy="1744200"/>
        </p:xfrm>
        <a:graphic>
          <a:graphicData uri="http://schemas.openxmlformats.org/drawingml/2006/table">
            <a:tbl>
              <a:tblPr/>
              <a:tblGrid>
                <a:gridCol w="2087640"/>
                <a:gridCol w="1489680"/>
                <a:gridCol w="1658160"/>
                <a:gridCol w="1852920"/>
                <a:gridCol w="1515240"/>
              </a:tblGrid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grovaná produk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vocné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nohr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len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5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miak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lu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3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,9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58920" y="836640"/>
            <a:ext cx="8604000" cy="13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dmienky podpory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 rámec príslušný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štandardov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zické a právnické osoby podnikajúce v poľnoh. prvovýrob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cročný záväzok (min.5 rokov + predĺženi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ber žiadostí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ýberové kritériá pri pretlaku žiadostí – nariadenie vlá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poklad zaradenia do podpo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5784840"/>
          <a:ext cx="8578440" cy="668160"/>
        </p:xfrm>
        <a:graphic>
          <a:graphicData uri="http://schemas.openxmlformats.org/drawingml/2006/table">
            <a:tbl>
              <a:tblPr/>
              <a:tblGrid>
                <a:gridCol w="2067480"/>
                <a:gridCol w="1494720"/>
                <a:gridCol w="1650240"/>
                <a:gridCol w="1871640"/>
                <a:gridCol w="149436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rozene druhy zvier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čet D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DJ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, kone, ovce, ko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24000" y="2276640"/>
          <a:ext cx="8616600" cy="688320"/>
        </p:xfrm>
        <a:graphic>
          <a:graphicData uri="http://schemas.openxmlformats.org/drawingml/2006/table">
            <a:tbl>
              <a:tblPr/>
              <a:tblGrid>
                <a:gridCol w="2077560"/>
                <a:gridCol w="1478880"/>
                <a:gridCol w="1673640"/>
                <a:gridCol w="1842840"/>
                <a:gridCol w="154368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iotopy 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 kategór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3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1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9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4000" y="4941720"/>
          <a:ext cx="8578440" cy="663480"/>
        </p:xfrm>
        <a:graphic>
          <a:graphicData uri="http://schemas.openxmlformats.org/drawingml/2006/table">
            <a:tbl>
              <a:tblPr/>
              <a:tblGrid>
                <a:gridCol w="2074320"/>
                <a:gridCol w="1490040"/>
                <a:gridCol w="1658520"/>
                <a:gridCol w="1839600"/>
                <a:gridCol w="1515960"/>
              </a:tblGrid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chrana proti erózii na o.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ocha (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vrh platby (€/h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na 1 rok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rokov (mil.€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bilizačné pás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152280"/>
            <a:ext cx="7834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Ekologické poľnohospodárstvo</a:t>
            </a:r>
            <a:br>
              <a:rPr sz="2800"/>
            </a:br>
            <a:r>
              <a:rPr b="0" lang="en-US" sz="1400" spc="-1" strike="noStrike">
                <a:solidFill>
                  <a:srgbClr val="cc6600"/>
                </a:solidFill>
                <a:latin typeface="Arial Black"/>
              </a:rPr>
              <a:t>(nepriama podpora území NATURA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81000"/>
            <a:ext cx="817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mienky podpory: pri splnení stanovených podmienok – GAEC, SMR, greening, min. štandardy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+dodržiavanie pravidiel nariadenia Rady č.834/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yzické a právnické osoby podnikajúce v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ľnohospodárskej prvový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orma podpory: viacročný záväzok (min.5 rokov + predĺženi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žiadostí: Výberové kritériá pri pretlaku žiadostí – nariadenie vlá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poklad zaradenia do podpo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6800" y="3187800"/>
          <a:ext cx="6810480" cy="3195360"/>
        </p:xfrm>
        <a:graphic>
          <a:graphicData uri="http://schemas.openxmlformats.org/drawingml/2006/table">
            <a:tbl>
              <a:tblPr/>
              <a:tblGrid>
                <a:gridCol w="1808280"/>
                <a:gridCol w="1608120"/>
                <a:gridCol w="1608120"/>
                <a:gridCol w="17859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ým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 platby (€/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a na 1 rok       (mil.€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ná pô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le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ia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ocné s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ohr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5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latby pre oblasti s prírodnými alebo inými osobitnými obmedzeniami (ANC)</a:t>
            </a:r>
            <a:br>
              <a:rPr sz="2800"/>
            </a:br>
            <a:r>
              <a:rPr b="1" lang="en-US" sz="1400" spc="-1" strike="noStrike">
                <a:solidFill>
                  <a:srgbClr val="336699"/>
                </a:solidFill>
                <a:latin typeface="Arial Black"/>
              </a:rPr>
              <a:t>(nepriama podpora území Natura 2000)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ieľ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abezpečiť pokračovanie poľnohospodárstva v znevýhodnených oblastia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by: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árokovateľné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ri splnení stanovených podmienok – GAEC, SMR, greening, min. štandard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e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5 – degresivita platieb pre veľkostné kategórie podni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8 – nové vymedzenie OZO – podľa nových 8 biofyzikálnych kritérií – systému dolaďov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 roku 2018 – degresivita platieb pre vypadávajúce úz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elková výmera znevýhodnených oblastí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,2 mil. ha (LP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dpokladaná výška podpo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orské oblasti : 122 - 85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statné oblasti: 79 - 34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pecifické oblasti: 55 - 25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56000" y="620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04840"/>
            <a:ext cx="9144000" cy="6653160"/>
            <a:chOff x="0" y="204840"/>
            <a:chExt cx="9144000" cy="6653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rcRect l="2745" t="1914" r="4722" b="2923"/>
            <a:stretch/>
          </p:blipFill>
          <p:spPr>
            <a:xfrm>
              <a:off x="0" y="204840"/>
              <a:ext cx="9144000" cy="66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27640" y="465120"/>
              <a:ext cx="2916000" cy="620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v 2007-20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6000" y="404280"/>
            <a:ext cx="8243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katívny rozpis verejných finančných zdrojov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projektových opatrení na obdobie 2014-2020 (v €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8120" y="1560600"/>
          <a:ext cx="8209080" cy="3592440"/>
        </p:xfrm>
        <a:graphic>
          <a:graphicData uri="http://schemas.openxmlformats.org/drawingml/2006/table">
            <a:tbl>
              <a:tblPr/>
              <a:tblGrid>
                <a:gridCol w="1009800"/>
                <a:gridCol w="4093920"/>
                <a:gridCol w="1773360"/>
                <a:gridCol w="133200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áno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ov opatr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 (EU+SR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 PRV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evýhodnené oblas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 625 10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environmentálne operáci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697 12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logické poľnohospodárstv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000 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ivotné podmienky zviera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139 605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 2000 + WF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30 05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olu</a:t>
                      </a: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7 391 8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,7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ečo zatiaľ nie</a:t>
            </a:r>
            <a:br>
              <a:rPr sz="2000"/>
            </a:br>
            <a:r>
              <a:rPr b="1" i="1" lang="en-US" sz="2000" spc="-1" strike="noStrike">
                <a:solidFill>
                  <a:srgbClr val="ffffb7"/>
                </a:solidFill>
                <a:latin typeface="Arial"/>
              </a:rPr>
              <a:t>Lesnícko-environmentálne a klimatické služby  ochrana lesov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článok 35 návrhu nariadenia RD - podmienky)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8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v rámci tohto opatrenia sa poskytuje na hektár lesa verejným a súkromným správcom lesov a iným subjektom súkromného práva a verejným subjektom a ich združeniam, ktorí sa dobrovoľne zaviažu vykonávať operácie pozostávajúce z jedného alebo viacerých lesnícko-environmentálnych záväzkov. V prípade lesov vo vlastníctve štátu sa podpora môže poskytovať len vtedy, ak orgán, ktorý takýto les obhospodaruje, je súkromným orgánom alebo obcou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 prípade lesohospodárskych podnikov, ktoré prekračujú určitú prahovú hodno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torú členské štáty určia vo svojich programoch rozvoja vidieka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e podpora podľa odseku 1 podmienená predložením relevantných informácií z plánu obhospodarovania les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ebo rovnocenného nástroja v súlade s udržateľným obhospodarovaním lesov, ako sa vymedzilo na ministerskej konferencii o ochrane lesov v Európe v roku 199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kryjú iba na ti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áväzky, ktoré prekračujú príslušné povinné požiadavky stanovené vnútroštátnym zákonom o lesnom hospodárstve alebo inými príslušnými vnútroštátnymi právnymi predpis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Všetky takéto požiadavky sa určia v progra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áväzky sa prijmú na obdobie piatich až siedmich rokov. V prípade potreby a v riadne odôvodnených prípadoch však členské štáty môžu vo svojich programoch rozvoja vidieka určiť dlhšie obdobie pre osobitné druhy záväzko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čiastočne alebo v plnej výške príjemcom kompenzujú ďalšie náklady a stratu príjmu v dôsledku prijatých záväzkov. V prípade potreby môžu kryť aj transakčné náklady do výšky 20 % prémie vyplatenej za lesnícko-environmentálne záväzky. Podpora sa obmedzuje na maximálnu sumu stanovenú v prílohe 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riadne odôvodnených prípadoch sa na operácie týkajúce sa ochrany životného prostredia môže podpora udeliť vo forme paušálnej alebo jednorazovej platby na jednotku za záväzky vzdať sa obchodného využitia stromov a lesov, vypočítaná na základe vzniknutých ďalších nákladov a straty príjm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Program rozvoja vidieka SR 2014 – 2020</a:t>
            </a:r>
            <a:br>
              <a:rPr sz="3600"/>
            </a:b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(navrhované opatrenia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7640" y="213336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roenvironmentálne operácie súvisiace s klí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logické poľnohospodár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pre oblasti s prírodnými alebo iný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obitnými obmedzeniam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 - podmienky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v rámci tohto opatrenia sa poskytuje príjemcom ročne na hektár poľnohospodárskej plochy alebo hektár lesa na kompenzáciu ich ďalších nákladov a straty príjmu v dôsledku znevýhodnenia v príslušných oblastiach, v súvislosti s vykonávaní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erníc 92/43/EHS, 2009/147/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 výpočte podpory v rámci tohto opatrenia členské štáty odpočítajú sumu potrebnú na vylúčenie dvojitého financovania postupov podľa článku 29 nariadenia (EÚ) č. DP/xxxx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greening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sa poskytuje poľnohospodárom a súkromným správcom lesov a združeniam súkromných správcov lesov. V riadne odôvodnených prípadoch sa môže poskytnúť aj iným pôdohospodá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pora pre poľnohospodárov spojená so smernicami 92/43/EHS a 2009/147/ES sa poskytuje iba v súvislosti so znevýhodnením v dôsledku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žiadaviek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ktoré prekračujú rámec dobrého poľnohospodárskeho a environmentálneho stav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dľa článku 94 a prílohy II k nariadeniu Rady (EÚ) č. HR/xxxx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íslušných kritérií a minimálnych činnost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novených podľa článku 4 ods. 1 písm. c) druhej a tretej zarážky nariadenia (EÚ) č. HR/xxx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ožiadavky sa identifikujú v progr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 príjem platieb sú oprávnené tieto oblasti: (a) poľnohospodárske a lesné oblasti sústavy Natura 2000 určené podľa smerníc 92/43/EHS a 2009/147/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 záujme zabezpečenia vylúčenia možnosti dvojitého financovania, s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Komisi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splnomocňuje prijímať delegované akty v súlade s článkom 90, ktorým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noví metódu výpočtu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ktorá sa má použiť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Požiadavky GAEC (Príloha II horizontálneho nariadenia k 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GAEC 1 - Vytvorenie nárazníkových zón pozdĺž vodných tok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2 - Ak používanie vody na zavlažovanie podlieha udeleniu povolenia, dodržiavanie schvaľovacích postup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3 - Ochrana podzemných vôd proti znečisteniu: zákaz priameho vypúšťania nebezpečných látok do podzemných vôd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4 - Minimálne pokrytie pô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5 - Minimálne obhospodarovanie pôdy odrážajúce špecifické miestne podmienky s cieľom obmedziť erózi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GAEC 6 - Udržiavanie množstva organickej hmoty v pôde pomocou vhodných postupov vrátane zákazu vypaľovania ornej pôdy so strniskom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GAEC </a:t>
            </a:r>
            <a:r>
              <a:rPr b="1" i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7 - 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achovanie krajinných prvkov, vrátane živých plotov, rybníkov, priekop, stromov v rade, v skupine alebo izolovane, medzí a terás vrátane zákazu strihania živých plotov a stromov počas obdobia reprodukcie vtáctva a v období hniezdenia a prípadné opatrenia na vyhnutie sa inváznym druhom rastlín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článok 31 návrhu nariadenia RD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856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íslušné kritériá a minimálne činnosti stanovené podľa článku 4 ods. 1 písm. c) druhej a tretej zarážky nariadenia (EÚ) č. DP/xx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poľnohospodárska činnosť“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ržiavanie poľnohospodárskej plochy v stave, v ktorom je vhodná na pastvu alebo pestovanie bez prípravných činností nad rámec použitia bežných poľnohospodárskych postupov a strojov na základe kritérií, ktor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novia členské štá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ychádzajúc z rámca stanoveného Komisiou, al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konávanie minimálnej činnosti na poľnohospodárskych plochách prirodzene ponechaných v stave vhodnom na pastvu alebo pestovanie, pričom túto činnosť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ymedzia členské štá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ľnohospodárske postupy prospešné pre klímu a životné prostredie (greening) - podmienky článku 29 nariadenia (EÚ) č. DP/xx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iverzifikáci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lodín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min.3 hlavné plodiny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zachovávani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existujúceho trvalého trávneho porast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istenc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blasti ekologického záujmu v rámc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ľnohospodárskej plochy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5 % ornej pôdy -  ležiaca úhorom, terasy, krajinné prvky, nárazníkové zóny, okraje lesov, zalesnené plochy,  medziplodiny, plodiny viažuce dusík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31 návrhu nariadenia RD) – príklad CHVU na poľn.pôde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000" y="1257480"/>
          <a:ext cx="8820000" cy="5600520"/>
        </p:xfrm>
        <a:graphic>
          <a:graphicData uri="http://schemas.openxmlformats.org/drawingml/2006/table">
            <a:tbl>
              <a:tblPr/>
              <a:tblGrid>
                <a:gridCol w="1360440"/>
                <a:gridCol w="2119320"/>
                <a:gridCol w="1687320"/>
                <a:gridCol w="1617840"/>
                <a:gridCol w="20350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VÚ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íva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zakázané činnosti, ktoré môžu mať negatívny vplyv na predmet ochrany chráneného vtáčieho územia, sa považuj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ykonávanie minimálnej činnosti na poľnohospodárskych plochách prirodzene ponechaných v stave vhodnom na pastvu alebo pestov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á Or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yhlášk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ŽP S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173/2005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 p.p.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723,23 h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TP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realizovanie rekultivácie a meliorácie s výnimkou činností realizovaných  v súvislosti s obnovou TTP od 31. júla do 1. máj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chovávanie existujúceho trvalého trávneho poras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mechanizované kosenie TTP od 1.mája do 31. júla na súvisiacej ploche väčšej ako 0,5 ha spôsobom od okrajov do stred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Ak tak určí orgán ochrany prírody !!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odstraňovanie a poškodzovanie stromov s hniezdnymi dutinami ďatľa čierneho, ďatľa trojprstého, kuvika vrabčieho, sov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hochvostej a žlny sivej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chovanie stromov v rade alebo izolovane a stromov počas obdobia reprodukcie vtáctva a v období hniezde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kosenie a mulčovanie od 1. mája do 31. júla na hniezdnych lokalitách chriašteľa poľného a kalužiaka červenonohéh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by týkajúce sa sústavy Natura 2000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31 návrhu nariadenia RD) – príklad CHVU na lesných p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257480"/>
          <a:ext cx="8820000" cy="5459400"/>
        </p:xfrm>
        <a:graphic>
          <a:graphicData uri="http://schemas.openxmlformats.org/drawingml/2006/table">
            <a:tbl>
              <a:tblPr/>
              <a:tblGrid>
                <a:gridCol w="2351160"/>
                <a:gridCol w="3660480"/>
                <a:gridCol w="2808360"/>
              </a:tblGrid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VÚ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íva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zakázané činnosti, ktoré môžu mať negatívny vplyv na predmet ochrany chráneného vtáčieho územia, sa považuj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rovnan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kázanej činnos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 podmien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ákona o leso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á Ora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yhláška MŽP S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173/2005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vykonávanie lesohospodárskej činnosti od 1. marca do 30. júna v časti chráneného vtáčieho územia uvedenej v prílohe č. 2 s výnimkou spracovania kalamity lesných porastov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– majú osobitný režim hospodárenia –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4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cc"/>
                          </a:solidFill>
                          <a:latin typeface="Arial"/>
                        </a:rPr>
                        <a:t>Ak tak určí orgán ochrany prírody !!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odstraňovanie a poškodzovanie stromov s hniezdnymi dutinami ďatľa čierneho, ďatľa trojprstého, kuvika vrabčieho, sovy dlhochvostej a žlny sivej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- majú osobitný režim hospodárenia -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budovanie, údržba a oprava lesnej dopravnej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te,  vykonávanie lesníckyc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 lesníckotechnických meliorácií, náhodnej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oriadnej a úmyselnej ťažby, zalesňovanie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hrana lesa, sústreďovanie dreva a jeho odvoz 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anie ďalších zásahov do lesnéh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stu, ktoré vedú k poškodzovaniu vegetačnéh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ôdneho krytu (ďalej len „lesohospodársk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nnosť“) v blízkosti hniezda bociana čierneho, orl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kľavého, orla skalného, včelára lesného a sov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hochvostej,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Ide o lesy osobitého určenia -  majú osobitný režim hospodárenia -  majú tomu podriadený plán obhospodarovania ??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60280"/>
            <a:ext cx="8194680" cy="719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 Black"/>
              </a:rPr>
              <a:t>Platby Natura 2000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2066400"/>
            <a:ext cx="896472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by Natura 2000 od roku 20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mienky podp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pecifické znevýhodnenia poľnohospodárov a vlastníkov lesov vyplývajúce  zo smerníc ES pre sústavu NATURA 2000 – určené v prog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fická alokáci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trenie má pôsobnosť v stanovených územiach NATURA 2000 (ÚEV + CHV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rávnený žiadateľ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zické a právnické osoby podnikajúce v poľnohospodárskej prvovýro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úkromní vlastní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o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ročné záväz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by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árokovateľn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 splnení stanovených podmien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332000"/>
            <a:ext cx="896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tb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 2000 v roku 2014 – pokračovanie z PRV 07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oenvironmentálne operácie súvisiace s klímou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článok 29 návrhu nariadenia RD - podmienky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677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o-environmentálne platby súvisiace s klímou sa vzťahujú iba na tie záväzky, ktoré presahujú rámec príslušných povinných noriem ustanovených podľa kapitoly I hlavy VI nariadenia (EÚ) č. HR/xxxx,  príslušných kritérií a minimálnych činností stanovených podľa článku 4 ods. 1 písm. c) druhej a tretej zarážky nariadenia (EÚ) č. DP/xxxx, príslušných minimálnych požiadaviek pre používanie hnojív a prípravkov na ochranu rastlín 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ých príslušných povinných požiadaviek stanovených vnútroštátnym práv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Všetky takéto povinné požiadavky sa určia v progra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by sa poskytujú ročne a príjemcom čiastočne alebo v plnej výške kompenzujú ďalšie náklady a stratu príjmu v dôsledku prijatých záväzkov. Pri výpočte platieb uvedených v prvom pododseku členské štáty odpočítajú sumu potrebnú na vylúčenie dvojitého financovania postupov podľa článku 29 nariadenia (EÚ) č. HR/xxx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záujme zabezpečenia vylúčenia možnosti dvojitého financovania, sa Komisia splnomocňuje prijímať delegované akty v súlade s článkom 90, ktorými stanoví metódu výpočtu, ktorá sa má použiť, a to aj v prípade rovnocenných opatrení podľa článku 29 nariadenia (EÚ) č.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/xxxx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je to potrebné na zabezpečenie účinného uplatňovania opatrenia, môžu členské štáty na výber príjemcov použiť postup uvedený v článku 49 ods. 3 (výberové kritériá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 rámci tohto opatrenia sa neposkytuje žiadna podpora za záväzky, na ktoré sa vzťahuje opatrenie ekologického poľnohospodárstv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0:16:07Z</dcterms:created>
  <dc:creator>michal.vacula</dc:creator>
  <dc:description/>
  <dc:language>en-US</dc:language>
  <cp:lastModifiedBy>rudolf.trebaticky</cp:lastModifiedBy>
  <dcterms:modified xsi:type="dcterms:W3CDTF">2013-11-12T07:13:15Z</dcterms:modified>
  <cp:revision>27</cp:revision>
  <dc:subject/>
  <dc:title>Program rozvoja  vidieka SR</dc:title>
</cp:coreProperties>
</file>