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645-6E8F-46AC-84F3-55E443C2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B06-23BC-4756-AE0D-DAAF880A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760-3DB5-4485-A2C9-13440948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CAC-0B40-44EA-A597-6D40D753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B18A-148D-47D8-B00C-D285C4DC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75F2-8D6B-4A59-998F-1F2B9162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8D8C-0234-45B7-9EC6-07700B68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2D1A-2CB5-42A6-8B77-63A08462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CECB-BCB3-403E-A520-D63B8989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A349-5C4A-461A-9710-141F9A1A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9624-6321-4970-9204-5F9A7C17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6A98-4C75-4C5D-83F1-58ACC61E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E102-A6CA-4D17-9758-2E52206D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3724-37FE-4E05-8A15-99A30107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CC7D-993A-454D-89C2-70C02080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41A2-2F00-4BF9-B519-B0F5DB32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3ACE-7EF0-4CDB-B133-CD6A0A12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A0161-DEA0-4DA9-877B-4A1234C3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7B09C-9574-44A5-B8D1-3478A6F2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99F09-FBAC-442D-A62F-27737D31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EECD9-EE61-4E67-BBF5-4C09925D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F039-9BD0-407F-A1DE-EC16FBD4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795-282D-4EEF-A07D-AA090B98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58C5-58AD-47B6-8ECD-A84A6A09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6F0C5-351F-469C-975E-EC4484AA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62C63-B611-42BA-8AE2-E4BB0178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63D75-2125-41F1-B361-EE7469A2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0D0EF-E3B9-4A51-8F76-77F90140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424CD-E6D0-4BED-A243-8AD78CD6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DD7D2-8475-41D3-AFFF-BB28BC2B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171DC-190F-4510-BAB2-5A18440A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ECABD-33EC-4DA9-BEA2-E1D8FB43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ADB79-35BA-4B4F-98B2-823C4558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5BC9-5FD0-4868-8DF0-A434B2C2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37DC6-EE10-4155-AC54-74C8B9AB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ECF5E-5EB4-4995-AB64-3FA1A0FB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E0F6C-E983-4BCE-82CA-97C2A4A5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D887-CFDE-4031-9C85-87847B65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54DB0-9C2A-407A-A4ED-C0223078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5338D-D982-4583-B50F-DC21BCF0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E0748-542D-4B5F-A0C1-CDA09635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DAA87-E84A-4D1D-80BC-2686567B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98804-2434-4E33-829B-AACEF0D1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09A92-8607-4B2D-9891-BE51D480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D83-FC1F-44EC-BF11-B77B90B8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4EB81-A24D-401A-A3D8-9E7C0252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E056B-3660-4C8F-9B22-074FB2B1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71450-33A9-4964-BF8B-99DB6C6B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0A656-A83C-4E2D-9944-B9D557B9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A37F2-C6DB-4C2B-960A-FEF52494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49EBA-4568-4476-B3C6-F471984C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C6EFE-F155-47DF-85FF-A936121D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A84BD-E557-48AA-AA4B-F818BA93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B8C70-DDE8-4EF2-B003-60F0A9FE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C594D-3835-4AF8-B7D0-033642CB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D04E-93C2-4C58-97EE-DC243BDC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AEE51-16A6-40A7-AD40-7803D366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13B-48D1-4102-BF60-A74E280A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FAE-CBDF-48AE-9873-BE7F4508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196-DAFF-4F22-A48B-C13BFD98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CB93-2BAE-4BC3-8B70-6A2012E5933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2" name="Rectangle 10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5" name="Rectangle 11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" name="Oval 13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4DD5-1E45-47D7-9453-CF4CE6ACF46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3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3" name="Rectangle 6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6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0" name="Oval 9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4782-85F3-43A2-82D6-C5A47B97EA0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74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7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1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84" name="Rectangle 7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7" name="Rectangle 8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1" name="Oval 10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C92E-E39C-49FD-A5E3-6DDD7EE77F9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35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38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42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A1F1-EBBD-4024-A86C-AC6078B8B8F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opsr.sk/natur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7"/>
          <p:cNvSpPr/>
          <p:nvPr/>
        </p:nvSpPr>
        <p:spPr>
          <a:xfrm>
            <a:off x="395280" y="1677960"/>
            <a:ext cx="82090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ávr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b050"/>
                </a:solidFill>
                <a:uFillTx/>
                <a:latin typeface="Arial"/>
              </a:rPr>
              <a:t>Prioritného akčného rámca financovania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atura 2000 v Slovenskej republike v EU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gramovom období 2014-202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3600"/>
                </a:solidFill>
                <a:latin typeface="Arial Narrow"/>
              </a:rPr>
              <a:t>Jana Durkošová, Ministerstvo životného prostredia 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3600"/>
                </a:solidFill>
                <a:latin typeface="Arial Narrow"/>
              </a:rPr>
              <a:t>Andrej Saxa, Štátna ochrana prírody 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3600"/>
                </a:solidFill>
                <a:latin typeface="Arial Narrow"/>
              </a:rPr>
              <a:t>Financovanie sústavy Natura 2000 - vytváranie príležitostí z fondov EÚ 2014-202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3600"/>
                </a:solidFill>
                <a:latin typeface="Arial Narrow"/>
              </a:rPr>
              <a:t>Bratislava 12. 11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Logo_nat1"/>
          <p:cNvPicPr/>
          <p:nvPr/>
        </p:nvPicPr>
        <p:blipFill>
          <a:blip r:embed="rId1"/>
          <a:stretch/>
        </p:blipFill>
        <p:spPr>
          <a:xfrm>
            <a:off x="3900600" y="496800"/>
            <a:ext cx="1199880" cy="997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7"/>
          <p:cNvSpPr/>
          <p:nvPr/>
        </p:nvSpPr>
        <p:spPr>
          <a:xfrm>
            <a:off x="676440" y="115920"/>
            <a:ext cx="763236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Sústreďovanie informácií o doterajších zdrojoch podpory Natura 2000 z EU fond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Časť D v rámci PAF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sústredené podklady 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Úradu vlády SR („nórsky finančný mechanizmus“, „švajčiarsky finančný mechanizmus“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nisterstva pôdohospodárstva a rozvoja vidieka SR (sekcia rozvoja vidieka, cezhraničné programy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nisterstvo hospodárstva SR (cestovný ruch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ekcie environmentálnych programov a projektov (operačný program životné prostredie, LIFE+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nvironmentálny fon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6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7"/>
          <p:cNvSpPr/>
          <p:nvPr/>
        </p:nvSpPr>
        <p:spPr>
          <a:xfrm>
            <a:off x="676440" y="115920"/>
            <a:ext cx="7632360" cy="9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Samotný návrh P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AF obsahuje úda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 sústave Natura 200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 stave biotopov a druhov európskeho významu, pre ktoré boli územia Natura 2000 v Slovenskej republike vymedzen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vné vplyvy a ohrozenia 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ioritné opatrenia na dosiahnutie spoločného cieľa EÚ štátov „</a:t>
            </a:r>
            <a:r>
              <a:rPr b="0" lang="sk-SK" sz="2000" spc="-1" strike="noStrike">
                <a:solidFill>
                  <a:srgbClr val="00b050"/>
                </a:solidFill>
                <a:latin typeface="Arial"/>
              </a:rPr>
              <a:t>do roku 2020 zlepšiť o 100 % stav biotopov európskeho významu a o 50 %  stav druhov európskeho významu“ (vrátane vybraných druhov vtáctva chránených podľa smernice Európskeho parlamentu a Rady 2009/147/ES z 30. novembra 2009 o ochrane voľne žijúceho vtáctv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 skúsenostiach s financovaním Natura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hady pre budúce programové obdobie 2014-202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85 strán, resp. 102 spolu s troma príloham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99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0"/>
          <p:cNvSpPr/>
          <p:nvPr/>
        </p:nvSpPr>
        <p:spPr>
          <a:xfrm>
            <a:off x="1476360" y="1268280"/>
            <a:ext cx="61200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59a8d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Ďakujeme  za pozor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bdĺžnik 1"/>
          <p:cNvSpPr/>
          <p:nvPr/>
        </p:nvSpPr>
        <p:spPr>
          <a:xfrm>
            <a:off x="1042920" y="3105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9900"/>
                </a:solidFill>
                <a:latin typeface="Arial"/>
              </a:rPr>
              <a:t>http://ec.europa.eu/environment/nature/index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bdĺžnik 2"/>
          <p:cNvSpPr/>
          <p:nvPr/>
        </p:nvSpPr>
        <p:spPr>
          <a:xfrm>
            <a:off x="3203640" y="407664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56c7aa"/>
                </a:solidFill>
                <a:uFillTx/>
                <a:latin typeface="Arial"/>
                <a:hlinkClick r:id="rId1"/>
              </a:rPr>
              <a:t>www.sopsr.sk/n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bdĺžnik 3"/>
          <p:cNvSpPr/>
          <p:nvPr/>
        </p:nvSpPr>
        <p:spPr>
          <a:xfrm>
            <a:off x="2843280" y="4797360"/>
            <a:ext cx="36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ana.durkosova@enviro.gov.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7"/>
          <p:cNvSpPr/>
          <p:nvPr/>
        </p:nvSpPr>
        <p:spPr>
          <a:xfrm>
            <a:off x="676440" y="115920"/>
            <a:ext cx="763236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Obsa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Čo je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Arial Narrow"/>
              </a:rPr>
              <a:t>Natura 2000 </a:t>
            </a: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a aké sú jej cie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Čo je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Arial Narrow"/>
              </a:rPr>
              <a:t>PAF</a:t>
            </a: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 a aké sú jeho cie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Z čoho vyplýva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Arial Narrow"/>
              </a:rPr>
              <a:t>povinnosť vypracovať PAF</a:t>
            </a: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Proces schvaľovania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Arial Narrow"/>
              </a:rPr>
              <a:t>formátu PAF </a:t>
            </a: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v E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Proces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Arial Narrow"/>
              </a:rPr>
              <a:t>prípravy a chvaľovania PAF </a:t>
            </a: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v Slovenskej repub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Arial Narrow"/>
              </a:rPr>
              <a:t>Sústreďovanie informácií </a:t>
            </a: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o doterajších zdrojoch podpory Natura 2000 z fondov E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Arial Narrow"/>
              </a:rPr>
              <a:t>Samotný návrh P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7"/>
          <p:cNvSpPr/>
          <p:nvPr/>
        </p:nvSpPr>
        <p:spPr>
          <a:xfrm>
            <a:off x="539640" y="115920"/>
            <a:ext cx="776916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Čo je Natura 2000 a aké sú jej cie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sústava chránených území členských štátov E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b050"/>
                </a:solidFill>
                <a:latin typeface="Arial"/>
                <a:ea typeface="Arial"/>
              </a:rPr>
              <a:t>18 % výmery pevniny EÚ</a:t>
            </a: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tvoria ju </a:t>
            </a:r>
            <a:r>
              <a:rPr b="0" lang="sk-SK" sz="2000" spc="-1" strike="noStrike">
                <a:solidFill>
                  <a:srgbClr val="00b050"/>
                </a:solidFill>
                <a:latin typeface="Arial"/>
                <a:ea typeface="Arial"/>
              </a:rPr>
              <a:t>chránené vtáčie územia </a:t>
            </a: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(EU smernica 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2009/147/ES </a:t>
            </a: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o ochrane vtáctva) a </a:t>
            </a:r>
            <a:r>
              <a:rPr b="0" lang="sk-SK" sz="2000" spc="-1" strike="noStrike">
                <a:solidFill>
                  <a:srgbClr val="00b050"/>
                </a:solidFill>
                <a:latin typeface="Arial"/>
                <a:ea typeface="Arial"/>
              </a:rPr>
              <a:t>územia európskeho významu </a:t>
            </a: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(EU smernica 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92/43/EHS </a:t>
            </a: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o ochrane biotopo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spoločné kritériá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cieľom - ochrana prírodného dedičstva/biodiverzity Európ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fázy: vymedzenie lokalít, vyhlasovanie, zabezpečenie starostlivosti – financovan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7"/>
          <p:cNvSpPr/>
          <p:nvPr/>
        </p:nvSpPr>
        <p:spPr>
          <a:xfrm>
            <a:off x="676440" y="115920"/>
            <a:ext cx="7632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Natura 2000 – 41 chránených vtáčích území (26,2 % Slovens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chvu_07_2010"/>
          <p:cNvPicPr/>
          <p:nvPr/>
        </p:nvPicPr>
        <p:blipFill>
          <a:blip r:embed="rId1"/>
          <a:stretch/>
        </p:blipFill>
        <p:spPr>
          <a:xfrm>
            <a:off x="565200" y="1341360"/>
            <a:ext cx="7200720" cy="540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7"/>
          <p:cNvSpPr/>
          <p:nvPr/>
        </p:nvSpPr>
        <p:spPr>
          <a:xfrm>
            <a:off x="676440" y="115920"/>
            <a:ext cx="76323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Natura 2000 – 473 území európskeho významu (11,9% Slovens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9" descr="sci"/>
          <p:cNvPicPr/>
          <p:nvPr/>
        </p:nvPicPr>
        <p:blipFill>
          <a:blip r:embed="rId1"/>
          <a:stretch/>
        </p:blipFill>
        <p:spPr>
          <a:xfrm>
            <a:off x="50760" y="134136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7"/>
          <p:cNvSpPr/>
          <p:nvPr/>
        </p:nvSpPr>
        <p:spPr>
          <a:xfrm>
            <a:off x="676440" y="115920"/>
            <a:ext cx="763236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Čo je PAF a aké sú jeho cie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b050"/>
                </a:solidFill>
                <a:uFillTx/>
                <a:latin typeface="Arial"/>
              </a:rPr>
              <a:t>Prioritný akčný rámec financovania Natura 2000 </a:t>
            </a:r>
            <a:r>
              <a:rPr b="0" lang="sk-SK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ďalej len „PAF“ (podľa anglického názvu „Priority Action Framework  for Natura 2000 for the Multiannual Financing Period 2014-2020“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Európska komisi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považuje PAF za významný </a:t>
            </a:r>
            <a:r>
              <a:rPr b="0" lang="sk-SK" sz="2000" spc="-1" strike="noStrike">
                <a:solidFill>
                  <a:srgbClr val="00b050"/>
                </a:solidFill>
                <a:latin typeface="Arial"/>
              </a:rPr>
              <a:t>plánovací nástroj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 uplatňovanie integrovaného financovania sústavy Natura 2000 (financovanie z viacerých EU zdrojo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využije PAF </a:t>
            </a:r>
            <a:r>
              <a:rPr b="0" lang="sk-SK" sz="2000" spc="-1" strike="noStrike">
                <a:solidFill>
                  <a:srgbClr val="00b050"/>
                </a:solidFill>
                <a:latin typeface="Arial"/>
              </a:rPr>
              <a:t>v procese schvaľovania programových dokumentov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 jednotlivé EU fondy v období 2014-20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AF bude tiež </a:t>
            </a:r>
            <a:r>
              <a:rPr b="0" lang="sk-SK" sz="2000" spc="-1" strike="noStrike">
                <a:solidFill>
                  <a:srgbClr val="00b050"/>
                </a:solidFill>
                <a:latin typeface="Arial"/>
              </a:rPr>
              <a:t>referenčným materiálom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 rokovania o nastavení podmienok využívania eurofondov na národnej úrovni, ako aj pre prípravu projekto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7"/>
          <p:cNvSpPr/>
          <p:nvPr/>
        </p:nvSpPr>
        <p:spPr>
          <a:xfrm>
            <a:off x="676440" y="115920"/>
            <a:ext cx="763236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Proces schvaľovania formátu PAF v E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201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Európska komisia informovala členské štáty o úlohe, zaslala návrh formá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apríl 201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Výbor pre biotopy schválil formát  PA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máj 2012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urópska komisia zaslala konečný návrh formátu; t.j. bol pre jednotlivé členské štáty rovnaký (kapitoly, zdroje údajov, typy aktivít pre manažment Natura 2000, možné zdroje financovania ai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ecember 2012 – termín predložen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7"/>
          <p:cNvSpPr/>
          <p:nvPr/>
        </p:nvSpPr>
        <p:spPr>
          <a:xfrm>
            <a:off x="676440" y="115920"/>
            <a:ext cx="763236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Proces prípravy a schvaľovania PAF v S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ept. 201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– list  sekcie ochrany prírody a tvorby krajiny na Ministerstvo pôdohospodárstva a rozvoja vidieka SR, Štátnu ochranu prírody SR a relevantné sekcie Ministerstva životného prostredia S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máj 201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konečný formát;  preklad do slovenčiny (sekcia ochrany prírody a tvorby krajiny); „deľba práce so ŠOP SR“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júl – okt. 201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príprava (takmer celého) dokumentu - Štátna ochrana prírody S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ov. 201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oslovené ďalšie subjekty, dopracovanie materiál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dec. 201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interné pripomienkové konanie na Ministerstve životného prostredia SR, zapracované dodatočné podkla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7"/>
          <p:cNvSpPr/>
          <p:nvPr/>
        </p:nvSpPr>
        <p:spPr>
          <a:xfrm>
            <a:off x="676440" y="115920"/>
            <a:ext cx="763236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Proces prípravy a schvaľovania PAF v S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jan.-feb. 2013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rokovanie s Ministerstvom pôdohospodárstva a rozvoja vidieka SR; zapracovanie pripomieno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25. apríl 2013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k-SK" sz="2000" spc="-1" strike="noStrike">
                <a:solidFill>
                  <a:srgbClr val="00b050"/>
                </a:solidFill>
                <a:latin typeface="Arial"/>
              </a:rPr>
              <a:t>schválenie PAF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úrovni ministerst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26. apríl 2013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list pre Európsku komisiu (cez stále zastúpeni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máj 2013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informovanie spolupracujúcich subjekto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6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7:27:37Z</dcterms:created>
  <dc:creator>Černecký</dc:creator>
  <dc:description/>
  <dc:language>en-US</dc:language>
  <cp:lastModifiedBy>Durkošová Jana</cp:lastModifiedBy>
  <dcterms:modified xsi:type="dcterms:W3CDTF">2013-11-11T15:50:18Z</dcterms:modified>
  <cp:revision>190</cp:revision>
  <dc:subject/>
  <dc:title>Snímka 1</dc:title>
</cp:coreProperties>
</file>