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05D-7179-49E3-A515-E2DF7E6B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B38-7195-42C4-94DD-27AD30B8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B03-CF3D-408E-B60A-AC6304F8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2B7-D17F-4898-88C8-AA54719A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0D2-B098-4F43-92D0-C9A90261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5DA-1356-4DFA-B46A-E131E064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F01-8AB5-455D-AB04-E35449B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074-F51E-4BF6-8AAB-9EA55F75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651-AA70-4BF6-ACED-D9D7E2B3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FD8-3FFE-4AA6-A3CA-99508519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F83-91E1-4A03-9837-F1B8CD73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71A-E751-4356-96A0-F65DEF94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0E10-8115-41A0-9421-D3E273136932}" type="datetime">
              <a:rPr b="0" lang="en-CA" sz="1400" spc="-1" strike="noStrike">
                <a:solidFill>
                  <a:srgbClr val="5e574e"/>
                </a:solidFill>
                <a:latin typeface="Arial"/>
              </a:rPr>
              <a:t>26-07-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FD6C-5383-4BDF-9E48-D6D0271D3608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Návrh metodiky monitoringu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Netopi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7080017a" descr=""/>
          <p:cNvPicPr/>
          <p:nvPr/>
        </p:nvPicPr>
        <p:blipFill>
          <a:blip r:embed="rId1"/>
          <a:stretch/>
        </p:blipFill>
        <p:spPr>
          <a:xfrm>
            <a:off x="312408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Uchaňa čierna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Barbastella barbastellus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y a podzemné úkry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Netopier obyčajný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Myotis myotis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krovia a podzemné úkry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Raniak malý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Nyctalus leisleri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Časový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harmono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925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dhadované náklad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292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2:09:35Z</dcterms:created>
  <dc:creator>PC</dc:creator>
  <dc:description/>
  <dc:language>en-US</dc:language>
  <cp:lastModifiedBy>PC</cp:lastModifiedBy>
  <dcterms:modified xsi:type="dcterms:W3CDTF">2004-11-14T17:08:38Z</dcterms:modified>
  <cp:revision>8</cp:revision>
  <dc:subject/>
  <dc:title>Návrh metodiky monitoringu - netopiere</dc:title>
</cp:coreProperties>
</file>