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B46-7A8A-4128-8D11-FE7B52A5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63A-513C-4EB9-8B47-629BE749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EEA-DC6C-406F-B536-20BE50B0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5EF-8182-4252-B792-5CDEEE3F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3C4-7C13-4E51-988A-A2875FEC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68E-0240-434B-8EBC-25D113F1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E40-F678-4C49-84BA-B726549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939-B401-4387-98F2-BBF64EEF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C0A-8856-41FF-87E3-29CA3AFC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733-41BC-456E-9BB4-2305945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E25-409C-4365-96AD-A2084B2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242-9E42-4682-8A48-D56D14FA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BC5D-8083-43A3-A6AC-AE095F2FB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219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ing - cicavce (Mammalia)</a:t>
            </a:r>
            <a:br>
              <a:rPr sz="3600"/>
            </a:br>
            <a:br>
              <a:rPr sz="2800"/>
            </a:br>
            <a:r>
              <a:rPr b="0" i="1" lang="sk-SK" sz="2600" spc="-1" strike="noStrike">
                <a:solidFill>
                  <a:srgbClr val="ffff00"/>
                </a:solidFill>
                <a:latin typeface="Arial"/>
              </a:rPr>
              <a:t>Návrh pre stredne veľké a veľké druh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35268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udolf KROP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cká univerzita vo Zvo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nícka fak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tedra ochrany lesa a poľovníc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600"/>
            </a:b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- výberové metódy (okrem Micromammalia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2521080"/>
          <a:ext cx="8136000" cy="4003560"/>
        </p:xfrm>
        <a:graphic>
          <a:graphicData uri="http://schemas.openxmlformats.org/drawingml/2006/table">
            <a:tbl>
              <a:tblPr/>
              <a:tblGrid>
                <a:gridCol w="576000"/>
                <a:gridCol w="1470240"/>
                <a:gridCol w="2820960"/>
                <a:gridCol w="893880"/>
                <a:gridCol w="2374920"/>
              </a:tblGrid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Canis lup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lk dr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Ursus arc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veď hned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lis silve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čka div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ynx lyn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ys ostrov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tes m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una lesn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monitoringu celého areál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2924280"/>
          <a:ext cx="8280360" cy="2801880"/>
        </p:xfrm>
        <a:graphic>
          <a:graphicData uri="http://schemas.openxmlformats.org/drawingml/2006/table">
            <a:tbl>
              <a:tblPr/>
              <a:tblGrid>
                <a:gridCol w="719280"/>
                <a:gridCol w="1309680"/>
                <a:gridCol w="2797200"/>
                <a:gridCol w="934920"/>
                <a:gridCol w="25192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Marmota marmota latirostr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višť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Rupicapra rupicapra tatr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amzík vrchovsk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ison bona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zubor hrivnatý/ zubor les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Monitorované druhy</a:t>
            </a:r>
            <a:br>
              <a:rPr sz="32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 metódy špecálneho monitoringu (okrem Micromammalia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303640"/>
          <a:ext cx="7772400" cy="3501720"/>
        </p:xfrm>
        <a:graphic>
          <a:graphicData uri="http://schemas.openxmlformats.org/drawingml/2006/table">
            <a:tbl>
              <a:tblPr/>
              <a:tblGrid>
                <a:gridCol w="573120"/>
                <a:gridCol w="1382760"/>
                <a:gridCol w="2693880"/>
                <a:gridCol w="892080"/>
                <a:gridCol w="2230560"/>
              </a:tblGrid>
              <a:tr h="718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x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dec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lovenský náz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eversmanni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svetl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ustela putor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chor tmav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stor fi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bor vo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utra lutr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ydra rieč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žiadavky monitoringu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Výber (okrem druhov s nízkou početnosťou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 100 HP na SK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Výhoda u triedy </a:t>
            </a:r>
            <a:r>
              <a:rPr b="1" i="1" lang="sk-SK" sz="2600" spc="-1" strike="noStrike">
                <a:solidFill>
                  <a:srgbClr val="ffffff"/>
                </a:solidFill>
                <a:latin typeface="Arial"/>
              </a:rPr>
              <a:t>Av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ľahká determinácia (vizuálna i akustická)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=&gt; nedeštrukčné metód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ffffff"/>
                </a:solidFill>
                <a:latin typeface="Arial"/>
              </a:rPr>
              <a:t>Nevýho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Arial"/>
              </a:rPr>
              <a:t>škála nárokov na prostredi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Metódy zisťovania početnosti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mapovacia techni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líni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é a kruhové metód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bodový transek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priame vyhľadávanie hniez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časovo-kvadrátová metód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telemetrické sledovani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sahové požiadavk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óda bodového tranzektu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a mapovania hniezdnych okrskov – hniezdne obdobie, 1 x ročne, stanovenie typu ekosystému v mieste bydliska dobrovoľní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terpolácia výsledkov, vyhodnoten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resnosť výsledkov pre druhy, testovanie, trendy T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Materiálne zabezpečenie: ďalekohľad, cestovné náklady, motivačné prv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Personálne zabezpečenie: minimálne 30 spolupracovníkov, zabezpečenie ich distribúc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Vyhodnotenie cez gestora programu a odborného gara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Literatúra: Kropil 1994, 1995  a mnohé iné u nás i v zahranič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3:02Z</dcterms:created>
  <dc:creator>PC</dc:creator>
  <dc:description/>
  <dc:language>en-US</dc:language>
  <cp:lastModifiedBy>Saxa</cp:lastModifiedBy>
  <cp:lastPrinted>2002-10-27T10:55:42Z</cp:lastPrinted>
  <dcterms:modified xsi:type="dcterms:W3CDTF">2004-11-22T07:19:41Z</dcterms:modified>
  <cp:revision>100</cp:revision>
  <dc:subject/>
  <dc:title>Bez nadpisu</dc:title>
</cp:coreProperties>
</file>