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82DD-A54C-4D38-BEE4-50310767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699-2E86-432A-91F3-D90730AA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4F80-C0B4-48EE-95FD-11363CC8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C07-E255-46F7-9A1B-F9CF34D7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548F-ADDA-49C7-81E0-BE1A9AB1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4158-432B-41B4-8E26-19BF0686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2992-5EA4-4F84-BA71-0E08FE48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D24D-884D-4C9F-A534-9692A76E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20CC-6736-474D-ABE9-586B5E8C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F1B8-74C9-43A7-A655-3671247C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A350-CEBE-4AB3-BCB0-4006289C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B843-02F0-49F1-B4D6-79015253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C9A4-2264-45A2-81ED-C8C97C05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2BD5-0AC8-42F2-AEF9-7EEF27F6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C146-D4CC-4CC5-80DA-E969AB9D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7221-B440-4798-A8A5-38DAF598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CDB2-5C4E-46A5-96F1-E8CA4763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F3B-33FE-4B71-9DB6-9141AAEF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9E60-2F03-4913-BB9A-F23BFC31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CFA3-76DB-48C5-93B1-B56FCC96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64E-B326-4E98-B989-4FB46FAA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E71-9137-4172-9D8D-8795A5DB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5AF-6448-49B2-9105-0E4F7125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BF4-0113-41BF-9F4D-E3C619A8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21337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8380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7fb22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D1C4-B851-4D42-A8FD-E94DDAA280C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00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549A-A0DD-4BB0-8BDE-C5F84CCF1C0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Stav zachovania </a:t>
            </a:r>
            <a:r>
              <a:rPr b="1" lang="sk-SK" sz="3000" spc="-1" strike="noStrike">
                <a:solidFill>
                  <a:srgbClr val="669900"/>
                </a:solidFill>
                <a:latin typeface="Tahoma"/>
                <a:ea typeface="Arial"/>
              </a:rPr>
              <a:t>rastl</a:t>
            </a: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inných druhov NATURA 2000 </a:t>
            </a:r>
            <a:r>
              <a:rPr b="1" lang="sk-SK" sz="3000" spc="-1" strike="noStrike">
                <a:solidFill>
                  <a:srgbClr val="669900"/>
                </a:solidFill>
                <a:latin typeface="Tahoma"/>
                <a:ea typeface="Arial"/>
              </a:rPr>
              <a:t>na Slovensku</a:t>
            </a:r>
            <a:br>
              <a:rPr sz="3000"/>
            </a:br>
            <a:br>
              <a:rPr sz="3000"/>
            </a:b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...</a:t>
            </a:r>
            <a:r>
              <a:rPr b="1" lang="en-US" sz="3000" spc="-1" strike="noStrike">
                <a:solidFill>
                  <a:srgbClr val="669900"/>
                </a:solidFill>
                <a:latin typeface="Tahoma"/>
                <a:ea typeface="Arial"/>
              </a:rPr>
              <a:t>a koncepcia jeho monitoringu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3885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Pavol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Mere</a:t>
            </a:r>
            <a:r>
              <a:rPr b="1" lang="sk-SK" sz="1800" spc="-1" strike="noStrike">
                <a:solidFill>
                  <a:srgbClr val="5f5f5f"/>
                </a:solidFill>
                <a:latin typeface="Tahoma"/>
              </a:rPr>
              <a:t>ď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a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 ml.</a:t>
            </a:r>
            <a:r>
              <a:rPr b="0" lang="sk-SK" sz="1800" spc="-1" strike="noStrike" baseline="30000">
                <a:solidFill>
                  <a:srgbClr val="5f5f5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 Iva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Hodálová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 Ján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Šeffer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 Rastislav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Lasák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Daniel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Dít</a:t>
            </a:r>
            <a:r>
              <a:rPr b="1" lang="sk-SK" sz="1800" spc="-1" strike="noStrike">
                <a:solidFill>
                  <a:srgbClr val="5f5f5f"/>
                </a:solidFill>
                <a:latin typeface="Tahoma"/>
              </a:rPr>
              <a:t>ě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 Marta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Kubandová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 Viera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Feráková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Anna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Kubínska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,</a:t>
            </a:r>
            <a:r>
              <a:rPr b="0" lang="sk-SK" sz="1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Karol </a:t>
            </a:r>
            <a:r>
              <a:rPr b="1" lang="en-US" sz="1800" spc="-1" strike="noStrike">
                <a:solidFill>
                  <a:srgbClr val="5f5f5f"/>
                </a:solidFill>
                <a:latin typeface="Tahoma"/>
                <a:ea typeface="Arial"/>
              </a:rPr>
              <a:t>Marhold</a:t>
            </a:r>
            <a:r>
              <a:rPr b="1" lang="sk-SK" sz="1800" spc="-1" strike="noStrike" baseline="30000">
                <a:solidFill>
                  <a:srgbClr val="5f5f5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33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baseline="30000">
                <a:solidFill>
                  <a:srgbClr val="5f5f5f"/>
                </a:solidFill>
                <a:latin typeface="Tahoma"/>
              </a:rPr>
              <a:t>1</a:t>
            </a:r>
            <a:r>
              <a:rPr b="0" lang="sk-SK" sz="1800" spc="-1" strike="noStrike">
                <a:solidFill>
                  <a:srgbClr val="5f5f5f"/>
                </a:solidFill>
                <a:latin typeface="Tahoma"/>
              </a:rPr>
              <a:t> BÚ SAV, </a:t>
            </a:r>
            <a:r>
              <a:rPr b="0" lang="en-US" sz="1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sk-SK" sz="1800" spc="-1" strike="noStrike" baseline="30000">
                <a:solidFill>
                  <a:srgbClr val="5f5f5f"/>
                </a:solidFill>
                <a:latin typeface="Tahoma"/>
              </a:rPr>
              <a:t>2</a:t>
            </a:r>
            <a:r>
              <a:rPr b="0" lang="sk-SK" sz="1800" spc="-1" strike="noStrike">
                <a:solidFill>
                  <a:srgbClr val="5f5f5f"/>
                </a:solidFill>
                <a:latin typeface="Tahoma"/>
              </a:rPr>
              <a:t> DAPHNE,  </a:t>
            </a:r>
            <a:r>
              <a:rPr b="0" lang="sk-SK" sz="1800" spc="-1" strike="noStrike" baseline="30000">
                <a:solidFill>
                  <a:srgbClr val="5f5f5f"/>
                </a:solidFill>
                <a:latin typeface="Tahoma"/>
              </a:rPr>
              <a:t>3</a:t>
            </a:r>
            <a:r>
              <a:rPr b="0" lang="sk-SK" sz="1800" spc="-1" strike="noStrike">
                <a:solidFill>
                  <a:srgbClr val="5f5f5f"/>
                </a:solidFill>
                <a:latin typeface="Tahoma"/>
              </a:rPr>
              <a:t> ŠOP SR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09480" y="1295280"/>
            <a:ext cx="8153640" cy="21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2a3d7a"/>
                </a:solidFill>
                <a:latin typeface="Tahoma"/>
                <a:ea typeface="Arial"/>
              </a:rPr>
              <a:t>4.4.</a:t>
            </a:r>
            <a:r>
              <a:rPr b="0" lang="es-AR" sz="28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r>
              <a:rPr b="0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N</a:t>
            </a:r>
            <a:r>
              <a:rPr b="1" lang="es-AR" sz="2800" spc="-1" strike="noStrike">
                <a:solidFill>
                  <a:srgbClr val="4087ce"/>
                </a:solidFill>
                <a:latin typeface="Tahoma"/>
                <a:ea typeface="Arial"/>
              </a:rPr>
              <a:t>epriaznivé vplyvy</a:t>
            </a:r>
            <a:r>
              <a:rPr b="1" lang="es-AR" sz="28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</a:t>
            </a: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Arial"/>
              </a:rPr>
              <a:t>	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pre druh nepriaznivá zmena charakteru biotopu </a:t>
            </a:r>
            <a:r>
              <a:rPr b="0" lang="es-AR" sz="2000" spc="-1" strike="noStrike" u="sng">
                <a:solidFill>
                  <a:srgbClr val="333300"/>
                </a:solidFill>
                <a:uFillTx/>
                <a:latin typeface="Tahoma"/>
                <a:ea typeface="Arial"/>
              </a:rPr>
              <a:t>prirodzenými procesmi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(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vysychanie, zarastanie ne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ž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iadúcimi druhmi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)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alebo </a:t>
            </a:r>
            <a:r>
              <a:rPr b="0" lang="es-AR" sz="2000" spc="-1" strike="noStrike" u="sng">
                <a:solidFill>
                  <a:srgbClr val="333300"/>
                </a:solidFill>
                <a:uFillTx/>
                <a:latin typeface="Tahoma"/>
                <a:ea typeface="Arial"/>
              </a:rPr>
              <a:t>ľudskými aktivitami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(odvod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ň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ovanie, erózia, eutrofizácia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...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)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●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: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kritérium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sa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hodnotí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 pri všetkých druhoch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AR" sz="2800" spc="-1" strike="noStrike" baseline="30000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838080" y="54100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informácia uvedená sporadicky v poznámkach mapovateľov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1338120"/>
            <a:ext cx="815328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  <a:ea typeface="Arial"/>
              </a:rPr>
              <a:t>4.5. 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Kľ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ú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č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ový ekologický faktor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1000" spc="-1" strike="noStrike">
              <a:solidFill>
                <a:srgbClr val="5b5249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 abiotický faktor nevyhnutný pre výskyt anex. druhu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len pri vybraných druhoch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: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i="1" lang="sk-SK" sz="2000" spc="-1" strike="noStrike">
                <a:solidFill>
                  <a:srgbClr val="333300"/>
                </a:solidFill>
                <a:latin typeface="Tahoma"/>
              </a:rPr>
              <a:t>   </a:t>
            </a:r>
            <a:r>
              <a:rPr b="0" i="1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Marsilea quadrifolia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-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kolísanie hladiny vody po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č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as roka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;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  </a:t>
            </a:r>
            <a:r>
              <a:rPr b="0" i="1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Cyclamen fatrense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-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zastúpenie buka v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E</a:t>
            </a:r>
            <a:r>
              <a:rPr b="0" lang="sk-SK" sz="2000" spc="-1" strike="noStrike" baseline="-25000">
                <a:solidFill>
                  <a:srgbClr val="333300"/>
                </a:solidFill>
                <a:latin typeface="Tahoma"/>
              </a:rPr>
              <a:t>3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,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resp.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E</a:t>
            </a:r>
            <a:r>
              <a:rPr b="0" lang="sk-SK" sz="2000" spc="-1" strike="noStrike" baseline="-25000">
                <a:solidFill>
                  <a:srgbClr val="333300"/>
                </a:solidFill>
                <a:latin typeface="Tahoma"/>
              </a:rPr>
              <a:t>2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etá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ži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● 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: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kritérium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sa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nehodnotí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425124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38080" y="4832280"/>
          <a:ext cx="7848360" cy="88272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5.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Dynamika populácie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=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zmena v po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č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etnosti populácie za posledných 12 rokov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(resp. od zač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atia monitoringu)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●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: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=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  <a:ea typeface="Arial"/>
              </a:rPr>
              <a:t>zmeny v hustote populácie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AR" sz="2800" spc="-1" strike="noStrike" baseline="30000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114300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1.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Zmeny v po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</a:rPr>
              <a:t>č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te lokalít</a:t>
            </a:r>
            <a:r>
              <a:rPr b="1" lang="en-US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 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905120"/>
            <a:ext cx="7391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zmeny v po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č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te lokalít na Slovensku za posledných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12 rokov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(resp.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od za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č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atia monitoringu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f1ca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838080" y="5410080"/>
            <a:ext cx="7925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absencia konkrétnych údajov, ale vedomosti o celkovom trende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viaceré literárne údaje doposiaľ neoverené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3505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76200"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2.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Po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</a:rPr>
              <a:t>č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et lokalít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po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č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et lokalít anex. druhu na Slovensku, na ktorých bol za posledných 6 rokov zaznamenaný aspo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ň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1 jedinec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f1ca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838080" y="54100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viaceré literárne údaje doposiaľ neoverené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3.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Ve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</a:rPr>
              <a:t>ľ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kos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</a:rPr>
              <a:t>ť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 areálu druhu na území Slovenska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2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vzdialenos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ť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medzi dvoma najvzdialenejšími slovenskými populáciami </a:t>
            </a:r>
            <a:r>
              <a:rPr b="0" lang="sk-SK" sz="2000" spc="-1" strike="noStrike">
                <a:solidFill>
                  <a:srgbClr val="333300"/>
                </a:solidFill>
                <a:latin typeface="Symbol"/>
                <a:ea typeface="Symbol"/>
              </a:rPr>
              <a:t>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v km</a:t>
            </a:r>
            <a:r>
              <a:rPr b="0" lang="sk-SK" sz="2000" spc="-1" strike="noStrike">
                <a:solidFill>
                  <a:srgbClr val="333300"/>
                </a:solidFill>
                <a:latin typeface="Symbol"/>
                <a:ea typeface="Symbol"/>
              </a:rPr>
              <a:t></a:t>
            </a:r>
            <a:r>
              <a:rPr b="0" lang="en-US" sz="2400" spc="-1" strike="noStrike">
                <a:solidFill>
                  <a:srgbClr val="33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f1ca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838080" y="54100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u niektorých druhoch neoverené okrajové populácie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09480" y="114300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4.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</a:rPr>
              <a:t>Priemerná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  <a:ea typeface="Arial"/>
              </a:rPr>
              <a:t> kvalita populácií</a:t>
            </a:r>
            <a:r>
              <a:rPr b="1" lang="en-US" sz="2800" spc="-1" strike="noStrike" u="sng">
                <a:solidFill>
                  <a:srgbClr val="993300"/>
                </a:solidFill>
                <a:uFillTx/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6200" indent="-376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priemerný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stav zachova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nia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jednotlivých populácií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anex. druhu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vypočítaný z kritérií lokalitnej úrovne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f1ca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838080" y="54100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kvalita populácií vypočítaná na základe (2-)3-4 kritérií z celkových 8(-9)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1050840"/>
            <a:ext cx="807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Vyhodnotenie stavu zachovania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papraďorastov a semenných rastlín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2362320"/>
          <a:ext cx="4162320" cy="379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62320"/>
                    <a:ext cx="416232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572000" y="22860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2438280"/>
            <a:ext cx="4952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yhynuté d</a:t>
            </a:r>
            <a:r>
              <a:rPr b="1" lang="sk-SK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h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nepotvrdené c. 50 r.):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iranthes aestivalis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sium ebracteatum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3809880"/>
            <a:ext cx="533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Tahoma"/>
                <a:ea typeface="Tahoma"/>
              </a:rPr>
              <a:t>•</a:t>
            </a:r>
            <a:r>
              <a:rPr b="1" lang="sk-SK" sz="1800" spc="-1" strike="noStrike">
                <a:solidFill>
                  <a:srgbClr val="777777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Tahoma"/>
              </a:rPr>
              <a:t>Nezvestné druhy </a:t>
            </a:r>
            <a:r>
              <a:rPr b="0" lang="en-US" sz="1800" spc="-1" strike="noStrike">
                <a:solidFill>
                  <a:srgbClr val="777777"/>
                </a:solidFill>
                <a:latin typeface="Tahoma"/>
              </a:rPr>
              <a:t>(nepotvrdené c. 20 r.):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777777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777777"/>
                </a:solidFill>
                <a:latin typeface="Tahoma"/>
              </a:rPr>
              <a:t>Aldrovanda vesiculosa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777777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777777"/>
                </a:solidFill>
                <a:latin typeface="Tahoma"/>
              </a:rPr>
              <a:t>Coelanthus subtilis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5257800"/>
            <a:ext cx="510516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669900"/>
                </a:solidFill>
                <a:latin typeface="Tahoma"/>
                <a:ea typeface="Tahoma"/>
              </a:rPr>
              <a:t>•</a:t>
            </a:r>
            <a:r>
              <a:rPr b="1" lang="sk-SK" sz="1800" spc="-1" strike="noStrike">
                <a:solidFill>
                  <a:srgbClr val="6699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669900"/>
                </a:solidFill>
                <a:latin typeface="Tahoma"/>
              </a:rPr>
              <a:t>38 druhov s recentným výskytom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669900"/>
                </a:solidFill>
                <a:latin typeface="Tahoma"/>
              </a:rPr>
              <a:t>   </a:t>
            </a:r>
            <a:r>
              <a:rPr b="0" lang="sk-SK" sz="1800" spc="-1" strike="noStrike">
                <a:solidFill>
                  <a:srgbClr val="669900"/>
                </a:solidFill>
                <a:latin typeface="Tahoma"/>
              </a:rPr>
              <a:t>- hodnotených podľa: 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669900"/>
                </a:solidFill>
                <a:latin typeface="Tahoma"/>
              </a:rPr>
              <a:t>     </a:t>
            </a:r>
            <a:r>
              <a:rPr b="0" lang="sk-SK" sz="1800" spc="-1" strike="noStrike">
                <a:solidFill>
                  <a:srgbClr val="669900"/>
                </a:solidFill>
                <a:latin typeface="Tahoma"/>
              </a:rPr>
              <a:t>(1-)3-4 kritérií lokalitnej úrovne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669900"/>
                </a:solidFill>
                <a:latin typeface="Tahoma"/>
              </a:rPr>
              <a:t>     </a:t>
            </a:r>
            <a:r>
              <a:rPr b="0" lang="sk-SK" sz="1800" spc="-1" strike="noStrike">
                <a:solidFill>
                  <a:srgbClr val="669900"/>
                </a:solidFill>
                <a:latin typeface="Tahoma"/>
              </a:rPr>
              <a:t>4 kritérií národnej úrovne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380880" y="990720"/>
          <a:ext cx="8610840" cy="53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61084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09480" y="1033560"/>
          <a:ext cx="8305920" cy="53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33560"/>
                    <a:ext cx="830592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152388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I. 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Stav zachovania </a:t>
            </a:r>
            <a:r>
              <a:rPr b="1" lang="sk-SK" sz="3000" spc="-1" strike="noStrike">
                <a:solidFill>
                  <a:srgbClr val="669900"/>
                </a:solidFill>
                <a:latin typeface="Tahoma"/>
                <a:ea typeface="Arial"/>
              </a:rPr>
              <a:t>rastl</a:t>
            </a: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inných druhov NATURA 2000 </a:t>
            </a:r>
            <a:r>
              <a:rPr b="1" lang="sk-SK" sz="3000" spc="-1" strike="noStrike">
                <a:solidFill>
                  <a:srgbClr val="669900"/>
                </a:solidFill>
                <a:latin typeface="Tahoma"/>
                <a:ea typeface="Arial"/>
              </a:rPr>
              <a:t>na Slovensku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495600"/>
            <a:ext cx="8229600" cy="703800"/>
          </a:xfrm>
          <a:prstGeom prst="rect">
            <a:avLst/>
          </a:prstGeom>
          <a:noFill/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K</a:t>
            </a:r>
            <a:r>
              <a:rPr b="1" lang="en-US" sz="2000" spc="-1" strike="noStrike">
                <a:solidFill>
                  <a:srgbClr val="669900"/>
                </a:solidFill>
                <a:latin typeface="Tahoma"/>
                <a:ea typeface="Arial"/>
              </a:rPr>
              <a:t>ritériá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00"/>
                </a:solidFill>
                <a:latin typeface="Tahoma"/>
                <a:ea typeface="Arial"/>
              </a:rPr>
              <a:t>pre hodnotenie </a:t>
            </a: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stavu zachovania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4876920"/>
            <a:ext cx="8229600" cy="703800"/>
          </a:xfrm>
          <a:prstGeom prst="rect">
            <a:avLst/>
          </a:prstGeom>
          <a:noFill/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Vyhodnotenie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stavu zachovania papraďorastov a semenných rastlín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380880" y="838080"/>
          <a:ext cx="8763120" cy="598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763120" cy="59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14479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II.</a:t>
            </a:r>
            <a:br>
              <a:rPr sz="3000"/>
            </a:b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...</a:t>
            </a:r>
            <a:r>
              <a:rPr b="1" lang="en-US" sz="3000" spc="-1" strike="noStrike">
                <a:solidFill>
                  <a:srgbClr val="669900"/>
                </a:solidFill>
                <a:latin typeface="Tahoma"/>
                <a:ea typeface="Arial"/>
              </a:rPr>
              <a:t>a koncepcia jeho monitoringu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3768840"/>
            <a:ext cx="8229600" cy="398880"/>
          </a:xfrm>
          <a:prstGeom prst="rect">
            <a:avLst/>
          </a:prstGeom>
          <a:noFill/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Frekvencia monitoringu lokalít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4495680"/>
            <a:ext cx="8229600" cy="398880"/>
          </a:xfrm>
          <a:prstGeom prst="rect">
            <a:avLst/>
          </a:prstGeom>
          <a:noFill/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Obdobie monitoringu lokalít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5216400"/>
            <a:ext cx="8229600" cy="398880"/>
          </a:xfrm>
          <a:prstGeom prst="rect">
            <a:avLst/>
          </a:prstGeom>
          <a:noFill/>
          <a:ln w="255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 algn="ctr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Frekvencia monitoringu kritérií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1295280"/>
            <a:ext cx="822960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9900"/>
                </a:solidFill>
                <a:latin typeface="Tahoma"/>
              </a:rPr>
              <a:t>1. Frekvencia monitoringu lokalít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- závisí od: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a) počet lokalít na Slovensku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b) prirodzené zmeny v početnosti populácií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) miera ohrozenia lokality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038480"/>
            <a:ext cx="822960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9900"/>
                </a:solidFill>
                <a:latin typeface="Tahoma"/>
              </a:rPr>
              <a:t>2. Obdobie monitoringu lokalít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Wingdings"/>
                <a:ea typeface="Wingdings"/>
              </a:rPr>
              <a:t>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v čase kvitnutia (príp. v čase zrelosti semien)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- obmedzenia: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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 kosenie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Wingdings 2"/>
                <a:ea typeface="Wingdings 2"/>
              </a:rPr>
              <a:t>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determinácia odkvitnutých jedinc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685800" y="1676520"/>
          <a:ext cx="8153280" cy="2073240"/>
        </p:xfrm>
        <a:graphic>
          <a:graphicData uri="http://schemas.openxmlformats.org/drawingml/2006/table">
            <a:tbl>
              <a:tblPr/>
              <a:tblGrid>
                <a:gridCol w="1905120"/>
                <a:gridCol w="1295280"/>
                <a:gridCol w="1828800"/>
                <a:gridCol w="1600200"/>
                <a:gridCol w="152388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frekvencia monitoringu lokalí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každý 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rok</a:t>
                      </a:r>
                      <a:r>
                        <a:rPr b="1" lang="sk-SK" sz="20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*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3</a:t>
                      </a: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za 6 rokov</a:t>
                      </a:r>
                      <a:r>
                        <a:rPr b="1" lang="sk-SK" sz="20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*</a:t>
                      </a: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/</a:t>
                      </a:r>
                      <a:r>
                        <a:rPr b="1" lang="sk-SK" sz="2000" spc="-1" strike="noStrike">
                          <a:solidFill>
                            <a:srgbClr val="669900"/>
                          </a:solidFill>
                          <a:latin typeface="Tahoma"/>
                        </a:rPr>
                        <a:t>*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2</a:t>
                      </a: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za 6 rokov</a:t>
                      </a:r>
                      <a:r>
                        <a:rPr b="1" lang="sk-SK" sz="2000" spc="-1" strike="noStrike">
                          <a:solidFill>
                            <a:srgbClr val="669900"/>
                          </a:solidFill>
                          <a:latin typeface="Tahoma"/>
                        </a:rPr>
                        <a:t>*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1</a:t>
                      </a: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za 6 rokov</a:t>
                      </a:r>
                      <a:r>
                        <a:rPr b="1" lang="sk-SK" sz="2000" spc="-1" strike="noStrike">
                          <a:solidFill>
                            <a:srgbClr val="669900"/>
                          </a:solidFill>
                          <a:latin typeface="Tahoma"/>
                        </a:rPr>
                        <a:t>*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očet taxónov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očet lokalít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93-104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182-234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686-693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57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609480" y="11430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38 taxónov = 1531-1601 lokalít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962520"/>
            <a:ext cx="82296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Wingdings"/>
                <a:ea typeface="Wingdings"/>
              </a:rPr>
              <a:t>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v jednom roku sa bude monitorovať: </a:t>
            </a:r>
            <a:r>
              <a:rPr b="1" lang="sk-SK" sz="2000" spc="-1" strike="noStrike">
                <a:solidFill>
                  <a:srgbClr val="5b5249"/>
                </a:solidFill>
                <a:latin typeface="Tahoma"/>
              </a:rPr>
              <a:t>509-548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 lokalít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- kombinovaná frekvencia monitoringu?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5050"/>
                </a:solidFill>
                <a:latin typeface="Tahoma"/>
              </a:rPr>
              <a:t>*</a:t>
            </a:r>
            <a:r>
              <a:rPr b="0" lang="sk-SK" sz="20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stabilné al. nedostupné populácie so zriedkavejším monitoringom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669900"/>
                </a:solidFill>
                <a:latin typeface="Tahoma"/>
              </a:rPr>
              <a:t>*</a:t>
            </a:r>
            <a:r>
              <a:rPr b="0" lang="sk-SK" sz="2000" spc="-1" strike="noStrike">
                <a:solidFill>
                  <a:srgbClr val="669900"/>
                </a:solidFill>
                <a:latin typeface="Tahoma"/>
              </a:rPr>
              <a:t>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ohrozené populácie s častejším monitoringom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267080" y="190512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1.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r>
              <a:rPr b="1" lang="es-AR" sz="1800" spc="-1" strike="noStrike">
                <a:solidFill>
                  <a:srgbClr val="2a3d7a"/>
                </a:solidFill>
                <a:latin typeface="Tahoma"/>
                <a:ea typeface="Arial"/>
              </a:rPr>
              <a:t>Ve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ľ</a:t>
            </a:r>
            <a:r>
              <a:rPr b="1" lang="es-AR" sz="1800" spc="-1" strike="noStrike">
                <a:solidFill>
                  <a:srgbClr val="2a3d7a"/>
                </a:solidFill>
                <a:latin typeface="Tahoma"/>
                <a:ea typeface="Arial"/>
              </a:rPr>
              <a:t>kos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ť</a:t>
            </a:r>
            <a:r>
              <a:rPr b="1" lang="es-AR" sz="1800" spc="-1" strike="noStrike">
                <a:solidFill>
                  <a:srgbClr val="2a3d7a"/>
                </a:solidFill>
                <a:latin typeface="Tahoma"/>
                <a:ea typeface="Arial"/>
              </a:rPr>
              <a:t> plochy výskytu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 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2. Po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č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et jedincov 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3. Vitalita populácie 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100476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9900"/>
                </a:solidFill>
                <a:latin typeface="Tahoma"/>
              </a:rPr>
              <a:t>3. Frekvencia monitoringu kritérií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18288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-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pri každej návšteve lokality: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2971800"/>
            <a:ext cx="4647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1. Veľkosť biotopu 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2. % inváznych neofytov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3. Svetelné pomery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4. Nepriaznivé vplyvy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5. Kľúčový ekologický faktor*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5.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Dynamika populácie</a:t>
            </a:r>
            <a:r>
              <a:rPr b="1" lang="en-US" sz="18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295596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- 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pri poslednej návšteve lokality: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48769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- v závere 6-ročného obdobia v ŠOP: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4648320"/>
            <a:ext cx="4648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5200" indent="-565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5.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Dynamika populácie</a:t>
            </a:r>
            <a:r>
              <a:rPr b="1" lang="en-US" sz="18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r>
              <a:rPr b="1" lang="sk-SK" sz="2000" spc="-1" strike="noStrike">
                <a:solidFill>
                  <a:srgbClr val="9933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1.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Zmeny v po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č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te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 lokalít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2.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Po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č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et lokalít</a:t>
            </a: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3.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Ve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ľ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kos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ť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 areálu na Slovensk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4.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Celková kvalita populácií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993300"/>
                </a:solidFill>
                <a:latin typeface="Tahoma"/>
                <a:ea typeface="Arial"/>
              </a:rPr>
              <a:t> </a:t>
            </a:r>
            <a:r>
              <a:rPr b="1" lang="sk-SK" sz="2400" spc="-1" strike="noStrike">
                <a:solidFill>
                  <a:srgbClr val="9933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viola" descr=""/>
          <p:cNvPicPr/>
          <p:nvPr/>
        </p:nvPicPr>
        <p:blipFill>
          <a:blip r:embed="rId1"/>
          <a:stretch/>
        </p:blipFill>
        <p:spPr>
          <a:xfrm>
            <a:off x="457200" y="979560"/>
            <a:ext cx="8458200" cy="5707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648320" y="6095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ahoma"/>
              </a:rPr>
              <a:t>...ďakujem za pozornosť.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8195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636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57636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1.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r>
              <a:rPr b="1" lang="es-AR" sz="1800" spc="-1" strike="noStrike">
                <a:solidFill>
                  <a:srgbClr val="2a3d7a"/>
                </a:solidFill>
                <a:latin typeface="Tahoma"/>
                <a:ea typeface="Arial"/>
              </a:rPr>
              <a:t>Ve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ľ</a:t>
            </a:r>
            <a:r>
              <a:rPr b="1" lang="es-AR" sz="1800" spc="-1" strike="noStrike">
                <a:solidFill>
                  <a:srgbClr val="2a3d7a"/>
                </a:solidFill>
                <a:latin typeface="Tahoma"/>
                <a:ea typeface="Arial"/>
              </a:rPr>
              <a:t>kos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ť</a:t>
            </a:r>
            <a:r>
              <a:rPr b="1" lang="es-AR" sz="1800" spc="-1" strike="noStrike">
                <a:solidFill>
                  <a:srgbClr val="2a3d7a"/>
                </a:solidFill>
                <a:latin typeface="Tahoma"/>
                <a:ea typeface="Arial"/>
              </a:rPr>
              <a:t> plochy výskytu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1. Veľkosť biotopu 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2. Po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č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et jedincov 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2. % inváznych neofytov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3. Vitalita populácie 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3. Svetelné pomery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4. Nepriaznivé vplyvy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4.5. Kľúčový ekologický faktor*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br>
              <a:rPr sz="1800"/>
            </a:b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5.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1800" spc="-1" strike="noStrike">
                <a:solidFill>
                  <a:srgbClr val="2a3d7a"/>
                </a:solidFill>
                <a:latin typeface="Tahoma"/>
                <a:ea typeface="Arial"/>
              </a:rPr>
              <a:t>Dynamika populácie</a:t>
            </a:r>
            <a:r>
              <a:rPr b="1" lang="en-US" sz="18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14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marL="51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1.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Zmeny v po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č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te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 lokalít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3.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Ve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ľ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kos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ť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 areálu na Slovensk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u</a:t>
            </a: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51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2.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Po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č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et lokalít</a:t>
            </a: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</a:rPr>
              <a:t>4. </a:t>
            </a:r>
            <a:r>
              <a:rPr b="1" lang="sk-SK" sz="1800" spc="-1" strike="noStrike">
                <a:solidFill>
                  <a:srgbClr val="993300"/>
                </a:solidFill>
                <a:latin typeface="Tahoma"/>
                <a:ea typeface="Arial"/>
              </a:rPr>
              <a:t>Celková kvalita populácií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51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993300"/>
                </a:solidFill>
                <a:latin typeface="Tahoma"/>
                <a:ea typeface="Arial"/>
              </a:rPr>
              <a:t> </a:t>
            </a:r>
            <a:r>
              <a:rPr b="1" lang="sk-SK" sz="2400" spc="-1" strike="noStrike">
                <a:solidFill>
                  <a:srgbClr val="9933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133720"/>
            <a:ext cx="8001000" cy="520560"/>
          </a:xfrm>
          <a:prstGeom prst="rect">
            <a:avLst/>
          </a:prstGeom>
          <a:noFill/>
          <a:ln w="255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I.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Kritériá lokalitnej úrovne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637160"/>
            <a:ext cx="8001000" cy="52056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II. </a:t>
            </a:r>
            <a:r>
              <a:rPr b="1" lang="sk-SK" sz="2800" spc="-1" strike="noStrike">
                <a:solidFill>
                  <a:srgbClr val="993300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ff6b6b"/>
                </a:solidFill>
                <a:latin typeface="Tahoma"/>
              </a:rPr>
              <a:t>K</a:t>
            </a:r>
            <a:r>
              <a:rPr b="1" lang="en-US" sz="2800" spc="-1" strike="noStrike">
                <a:solidFill>
                  <a:srgbClr val="ff6b6b"/>
                </a:solidFill>
                <a:latin typeface="Tahoma"/>
                <a:ea typeface="Arial"/>
              </a:rPr>
              <a:t>ritéria národnej úrovne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203480"/>
            <a:ext cx="80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K</a:t>
            </a:r>
            <a:r>
              <a:rPr b="1" lang="en-US" sz="3000" spc="-1" strike="noStrike">
                <a:solidFill>
                  <a:srgbClr val="669900"/>
                </a:solidFill>
                <a:latin typeface="Tahoma"/>
                <a:ea typeface="Arial"/>
              </a:rPr>
              <a:t>ritériá pre hodnotenie </a:t>
            </a:r>
            <a:r>
              <a:rPr b="1" lang="sk-SK" sz="3000" spc="-1" strike="noStrike">
                <a:solidFill>
                  <a:srgbClr val="669900"/>
                </a:solidFill>
                <a:latin typeface="Tahoma"/>
              </a:rPr>
              <a:t>stavu zachovania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4953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1.</a:t>
            </a:r>
            <a:r>
              <a:rPr b="1" lang="sk-SK" sz="28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s-AR" sz="2800" spc="-1" strike="noStrike">
                <a:solidFill>
                  <a:srgbClr val="4087ce"/>
                </a:solidFill>
                <a:latin typeface="Tahoma"/>
                <a:ea typeface="Arial"/>
              </a:rPr>
              <a:t>Ve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ľ</a:t>
            </a:r>
            <a:r>
              <a:rPr b="1" lang="es-AR" sz="2800" spc="-1" strike="noStrike">
                <a:solidFill>
                  <a:srgbClr val="4087ce"/>
                </a:solidFill>
                <a:latin typeface="Tahoma"/>
                <a:ea typeface="Arial"/>
              </a:rPr>
              <a:t>kos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ť</a:t>
            </a:r>
            <a:r>
              <a:rPr b="1" lang="es-AR" sz="2800" spc="-1" strike="noStrike">
                <a:solidFill>
                  <a:srgbClr val="4087ce"/>
                </a:solidFill>
                <a:latin typeface="Tahoma"/>
                <a:ea typeface="Arial"/>
              </a:rPr>
              <a:t> plochy výskytu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=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ve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ľ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kos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ť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plochy [m</a:t>
            </a:r>
            <a:r>
              <a:rPr b="0" lang="es-AR" sz="2000" spc="-1" strike="noStrike" baseline="30000">
                <a:solidFill>
                  <a:srgbClr val="333300"/>
                </a:solidFill>
                <a:latin typeface="Tahoma"/>
                <a:ea typeface="Arial"/>
              </a:rPr>
              <a:t>2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], ktorú osíd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ľ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uje na lokalite anex. druh v podobe fertilných, sterilných alebo poškodených jedincov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●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: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pri epifytických druhoch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=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ve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ľ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kos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ť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 plochy, na ktorej sa vyskytujú dreviny (spadnuté alebo stojace, vrátane odumierajúcich) osídlené anex. druhom machorastu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838080" y="5410080"/>
            <a:ext cx="79250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stanovená často z mapy </a:t>
            </a:r>
            <a:r>
              <a:rPr b="1" lang="sk-SK" sz="1600" spc="-1" strike="noStrike">
                <a:solidFill>
                  <a:srgbClr val="5b5249"/>
                </a:solidFill>
                <a:latin typeface="Symbol"/>
                <a:ea typeface="Symbol"/>
              </a:rPr>
              <a:t>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 veľmi nepresná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lokality zadefinované často nejednotne (veľké lokality vs. mikrolokality)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vrátane plochy medzi mikropopuláciami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2.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Po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č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et jedincov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=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Arial"/>
              </a:rPr>
              <a:t>maximálny po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č</a:t>
            </a: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Arial"/>
              </a:rPr>
              <a:t>et jedincov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(fertilných, sterilných a poškodených spolu) na lokalite za obdobie 6 rokov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resp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. v roku monitoringu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●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: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=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pokryvnosť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a distribúcia na lokalite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838080" y="541008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chýba pri neoverovaných lokalitách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3.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Vitalita populácie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=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priemerný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percentuálny podiel kvitnúcich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(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plodných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)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 jedincov z celkového po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č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tu jedincov za obdobie 6 rokov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resp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. v roku monitoringu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●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: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kritérium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sa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nehodnotí</a:t>
            </a: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838080" y="5410080"/>
            <a:ext cx="7925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často chýba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sk-SK" sz="1600" spc="-1" strike="noStrike">
                <a:solidFill>
                  <a:srgbClr val="5b5249"/>
                </a:solidFill>
                <a:latin typeface="Tahoma"/>
              </a:rPr>
              <a:t> 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zisťovaná často na náhodne vybraných štvorcoch 0,5 </a:t>
            </a:r>
            <a:r>
              <a:rPr b="1" lang="sk-SK" sz="1600" spc="-1" strike="noStrike">
                <a:solidFill>
                  <a:srgbClr val="5b5249"/>
                </a:solidFill>
                <a:latin typeface="Symbol"/>
                <a:ea typeface="Symbol"/>
              </a:rPr>
              <a:t></a:t>
            </a:r>
            <a:r>
              <a:rPr b="1" lang="sk-SK" sz="1600" spc="-1" strike="noStrike">
                <a:solidFill>
                  <a:srgbClr val="5b5249"/>
                </a:solidFill>
                <a:latin typeface="Tahoma"/>
              </a:rPr>
              <a:t> 0,5 m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3505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4.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Stav biotopu</a:t>
            </a:r>
            <a:r>
              <a:rPr b="0" lang="en-US" sz="4400" spc="-1" strike="noStrike">
                <a:solidFill>
                  <a:srgbClr val="2a3d7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  <a:ea typeface="Arial"/>
              </a:rPr>
              <a:t>4.1. 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Veľ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kos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ť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 biotopu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plocha reálneho výskytu druhu + okolitá plocha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celého biotopu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●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: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kritérium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sa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hodnotí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 pri všetkých druhoch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AR" sz="2800" spc="-1" strike="noStrike" baseline="30000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1143000"/>
            <a:ext cx="83055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2a3d7a"/>
                </a:solidFill>
                <a:latin typeface="Tahoma"/>
                <a:ea typeface="Arial"/>
              </a:rPr>
              <a:t>4.2.</a:t>
            </a:r>
            <a:r>
              <a:rPr b="1" lang="es-AR" sz="24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r>
              <a:rPr b="1" lang="sk-SK" sz="24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P</a:t>
            </a:r>
            <a:r>
              <a:rPr b="1" lang="es-AR" sz="2800" spc="-1" strike="noStrike">
                <a:solidFill>
                  <a:srgbClr val="4087ce"/>
                </a:solidFill>
                <a:latin typeface="Tahoma"/>
                <a:ea typeface="Arial"/>
              </a:rPr>
              <a:t>ercentuálne zastúpenie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marL="289080" indent="-289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	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inváznych </a:t>
            </a:r>
            <a:r>
              <a:rPr b="1" lang="es-AR" sz="2800" spc="-1" strike="noStrike">
                <a:solidFill>
                  <a:srgbClr val="4087ce"/>
                </a:solidFill>
                <a:latin typeface="Tahoma"/>
                <a:ea typeface="Arial"/>
              </a:rPr>
              <a:t>neofytov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= percentu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álny podiel pokryvnosti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inváznych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neofytných taxónov z celkovej pokryvnosti taxónov vyskytujúcich sa na ploche biotopu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●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: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kritérium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sa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nehodnotí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4419720"/>
          <a:ext cx="784836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1640"/>
                <a:gridCol w="1962000"/>
                <a:gridCol w="196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6172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1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ahoma"/>
                <a:ea typeface="Arial"/>
              </a:rPr>
              <a:t>4.3. </a:t>
            </a:r>
            <a:r>
              <a:rPr b="1" lang="sk-SK" sz="2800" spc="-1" strike="noStrike">
                <a:solidFill>
                  <a:srgbClr val="2a3d7a"/>
                </a:solidFill>
                <a:latin typeface="Tahoma"/>
              </a:rPr>
              <a:t> 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</a:rPr>
              <a:t>S</a:t>
            </a:r>
            <a:r>
              <a:rPr b="1" lang="sk-SK" sz="2800" spc="-1" strike="noStrike">
                <a:solidFill>
                  <a:srgbClr val="4087ce"/>
                </a:solidFill>
                <a:latin typeface="Tahoma"/>
                <a:ea typeface="Arial"/>
              </a:rPr>
              <a:t>vetelné pomery</a:t>
            </a:r>
            <a:r>
              <a:rPr b="0" lang="sk-SK" sz="2800" spc="-1" strike="noStrike">
                <a:solidFill>
                  <a:srgbClr val="2a3d7a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61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=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Arial"/>
              </a:rPr>
              <a:t>miera zatienenia resp. presvetlenia biotopu krovinami a stromami 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Tahoma"/>
              </a:rPr>
              <a:t>[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</a:rPr>
              <a:t>v %</a:t>
            </a:r>
            <a:r>
              <a:rPr b="0" lang="sk-SK" sz="2000" spc="-1" strike="noStrike">
                <a:solidFill>
                  <a:srgbClr val="333300"/>
                </a:solidFill>
                <a:latin typeface="Tahoma"/>
                <a:ea typeface="Tahoma"/>
              </a:rPr>
              <a:t>]</a:t>
            </a:r>
            <a:r>
              <a:rPr b="0" lang="en-US" sz="2000" spc="-1" strike="noStrike">
                <a:solidFill>
                  <a:srgbClr val="33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marL="361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● 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machorast</a:t>
            </a:r>
            <a:r>
              <a:rPr b="1" lang="sk-SK" sz="2000" spc="-1" strike="noStrike">
                <a:solidFill>
                  <a:srgbClr val="333300"/>
                </a:solidFill>
                <a:latin typeface="Tahoma"/>
              </a:rPr>
              <a:t>y:</a:t>
            </a:r>
            <a:r>
              <a:rPr b="1" lang="es-AR" sz="2000" spc="-1" strike="noStrike">
                <a:solidFill>
                  <a:srgbClr val="333300"/>
                </a:solidFill>
                <a:latin typeface="Tahoma"/>
                <a:ea typeface="Arial"/>
              </a:rPr>
              <a:t>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kritérium 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sa </a:t>
            </a:r>
            <a:r>
              <a:rPr b="0" lang="es-AR" sz="1600" spc="-1" strike="noStrike">
                <a:solidFill>
                  <a:srgbClr val="333300"/>
                </a:solidFill>
                <a:latin typeface="Tahoma"/>
                <a:ea typeface="Arial"/>
              </a:rPr>
              <a:t>hodnotí</a:t>
            </a:r>
            <a:r>
              <a:rPr b="0" lang="sk-SK" sz="1600" spc="-1" strike="noStrike">
                <a:solidFill>
                  <a:srgbClr val="333300"/>
                </a:solidFill>
                <a:latin typeface="Tahoma"/>
              </a:rPr>
              <a:t> pri niektorých druhoch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809880"/>
            <a:ext cx="7848720" cy="398880"/>
          </a:xfrm>
          <a:prstGeom prst="rect">
            <a:avLst/>
          </a:prstGeom>
          <a:solidFill>
            <a:srgbClr val="c9ddf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5b5249"/>
                </a:solidFill>
                <a:latin typeface="Tahoma"/>
              </a:rPr>
              <a:t>Charakter existujúcich údajov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38080" y="4419720"/>
          <a:ext cx="7848720" cy="882360"/>
        </p:xfrm>
        <a:graphic>
          <a:graphicData uri="http://schemas.openxmlformats.org/drawingml/2006/table">
            <a:tbl>
              <a:tblPr/>
              <a:tblGrid>
                <a:gridCol w="1962360"/>
                <a:gridCol w="1962000"/>
                <a:gridCol w="1962360"/>
                <a:gridCol w="1962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dostatoč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priemern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slabý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ahoma"/>
                        </a:rPr>
                        <a:t>žiadny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AR" sz="2800" spc="-1" strike="noStrike" baseline="30000">
                          <a:solidFill>
                            <a:srgbClr val="333300"/>
                          </a:solidFill>
                          <a:latin typeface="Tahoma"/>
                          <a:ea typeface="Arial"/>
                        </a:rPr>
                        <a:t>●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3:42:06Z</dcterms:created>
  <dc:creator>Milan</dc:creator>
  <dc:description/>
  <dc:language>en-US</dc:language>
  <cp:lastModifiedBy>general</cp:lastModifiedBy>
  <dcterms:modified xsi:type="dcterms:W3CDTF">2004-11-14T21:10:45Z</dcterms:modified>
  <cp:revision>25</cp:revision>
  <dc:subject/>
  <dc:title>Kritériá pre hodnotenie stavu zachovalosti (CS)  (voľne sa vyskytujúcich) populácií anexových druhov rastlín na Slovensku z hľadiska ich ochrany</dc:title>
</cp:coreProperties>
</file>