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36F-3924-43D3-B75C-2B32055D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EA6-4888-4E68-AD81-C626C52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34F-EBD3-4828-8684-778A3B5C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821-3DD7-46E8-8192-CE949DB9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2D1-9452-4353-B016-BC8E7A1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367-E912-436E-9DFC-F349A310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5CB-46DA-46F4-9E2A-E1A5A640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7E3-F409-4FB9-9721-284B9FB9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E19-868F-4F24-B076-FC9D9D3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AB6-0165-4686-8EAB-E414DA0B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431-B953-484E-BCE6-1B711A4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615-D643-4A24-92F7-6CF9F8B7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F458-B3B5-42FC-8FAC-A32089FAA3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210564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Hodnotenie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tavu zachovania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 a 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160" y="5113440"/>
            <a:ext cx="7162920" cy="9169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ATURA 2000 IN SLOVAKIA – BRIDGING </a:t>
            </a:r>
            <a:br>
              <a:rPr sz="1800"/>
            </a:b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Working 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9000" y="409680"/>
            <a:ext cx="62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dnotenie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u zachovani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esných biotopo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1371600"/>
            <a:ext cx="76579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odnotili sme 59 typov a subtypov biotopov podľa Katalógu biotopov Slovenska a 40 podľa H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kovo bolo spracovaných 17 992 lokalít, kde boli identifikované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hodnotili sme skalné a sutinové biotopy, ktoré vyžadovali prepracovanie ich koncep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Je to prvé priblíženie, v ktorom sme neaplikovali všetky hodnotiace kritéri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860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838080"/>
          <a:ext cx="91440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333880" y="24120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íklad hodnotenia stavu zach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5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6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6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6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7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7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7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User</cp:lastModifiedBy>
  <dcterms:modified xsi:type="dcterms:W3CDTF">2004-11-16T14:24:53Z</dcterms:modified>
  <cp:revision>68</cp:revision>
  <dc:subject/>
  <dc:title>Prezentace aplikace PowerPoint</dc:title>
</cp:coreProperties>
</file>