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8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9051588" cy="152384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DA5E-E4CC-49CF-A1AA-B69386B9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1618956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9920" y="9178200"/>
            <a:ext cx="1618956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A1BC-41C1-4401-99F8-DB8DC7AF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725400" y="440208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9920" y="917820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725400" y="917820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D08-4E35-433E-B60D-D633593F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52128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903720" y="4402080"/>
            <a:ext cx="52128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377520" y="4402080"/>
            <a:ext cx="52128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9920" y="9178200"/>
            <a:ext cx="52128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903720" y="9178200"/>
            <a:ext cx="52128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377520" y="9178200"/>
            <a:ext cx="52128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BC3-1DCE-4126-81D0-8F116E60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9920" y="4402080"/>
            <a:ext cx="16189560" cy="914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B8B-C694-445F-8092-290854A3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16189560" cy="91440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5B87-EF48-4404-865D-2DFDFF5F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7900200" cy="91440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725400" y="4402080"/>
            <a:ext cx="7900200" cy="91440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FCB6-AA48-4629-A957-1D473390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51D0-7A48-4B6E-BA18-C853312F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9920" y="1353960"/>
            <a:ext cx="1618956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CAB-3B70-4597-80C8-510BE1D9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725400" y="4402080"/>
            <a:ext cx="7900200" cy="91440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9920" y="917820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A6A9-4303-411E-B839-662C0242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7900200" cy="91440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725400" y="440208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725400" y="917820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3CD0-A0AB-4152-9AD7-D06C59C1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725400" y="440208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9920" y="9178200"/>
            <a:ext cx="1618956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69C-C5C1-4808-943D-9715DF11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29920" y="4402080"/>
            <a:ext cx="16189560" cy="91440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95560" indent="-4622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2" marL="1838160" indent="-368280"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3" marL="2571840" indent="-36828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05160" indent="-366840">
              <a:spcBef>
                <a:spcPts val="1301"/>
              </a:spcBef>
              <a:buClr>
                <a:srgbClr val="000000"/>
              </a:buClr>
              <a:buFont typeface="Times New Roman"/>
              <a:buChar char="»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05160" indent="-366840">
              <a:spcBef>
                <a:spcPts val="1301"/>
              </a:spcBef>
              <a:buClr>
                <a:srgbClr val="000000"/>
              </a:buClr>
              <a:buFont typeface="Times New Roman"/>
              <a:buChar char="»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05160" indent="-366840">
              <a:spcBef>
                <a:spcPts val="1301"/>
              </a:spcBef>
              <a:buClr>
                <a:srgbClr val="000000"/>
              </a:buClr>
              <a:buFont typeface="Times New Roman"/>
              <a:buChar char="»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30280" y="13885920"/>
            <a:ext cx="3968640" cy="101592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Autofit/>
          </a:bodyPr>
          <a:lstStyle>
            <a:lvl1pPr indent="0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07000" y="13885920"/>
            <a:ext cx="6035760" cy="101592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Autofit/>
          </a:bodyPr>
          <a:lstStyle>
            <a:lvl1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650480" y="13885920"/>
            <a:ext cx="3969000" cy="101592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Autofit/>
          </a:bodyPr>
          <a:lstStyle>
            <a:lvl1pPr indent="0" algn="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fld id="{C36BBA6B-ECD1-48B1-9546-93F785073E32}" type="slidenum"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" descr=""/>
          <p:cNvPicPr/>
          <p:nvPr/>
        </p:nvPicPr>
        <p:blipFill>
          <a:blip r:embed="rId1"/>
          <a:stretch/>
        </p:blipFill>
        <p:spPr>
          <a:xfrm>
            <a:off x="0" y="0"/>
            <a:ext cx="19050120" cy="15239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61840" y="2440080"/>
            <a:ext cx="17419680" cy="46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sk-SK" sz="7500" spc="-1" strike="noStrike">
                <a:solidFill>
                  <a:srgbClr val="ffff00"/>
                </a:solidFill>
                <a:latin typeface="Times New Roman"/>
              </a:rPr>
              <a:t>Zhodnotenie dopadov vyhlásenia lesných území za lokality NATURA 2000 s ohľadom na menežmentové a ekonomické aspekty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29320" y="8431200"/>
            <a:ext cx="684684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sk-SK" sz="6800" spc="-1" strike="noStrike">
                <a:solidFill>
                  <a:srgbClr val="ff3300"/>
                </a:solidFill>
                <a:latin typeface="Times New Roman"/>
              </a:rPr>
              <a:t>NATURA 2000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70720" y="11761920"/>
            <a:ext cx="3106800" cy="15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sk-SK" sz="4900" spc="-1" strike="noStrike">
                <a:solidFill>
                  <a:srgbClr val="ffffff"/>
                </a:solidFill>
                <a:latin typeface="Times New Roman"/>
              </a:rPr>
              <a:t>11/200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sk-SK" sz="4900" spc="-1" strike="noStrike">
                <a:solidFill>
                  <a:srgbClr val="ffffff"/>
                </a:solidFill>
                <a:latin typeface="Times New Roman"/>
              </a:rPr>
              <a:t>Ing. Valach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365120" y="1251000"/>
          <a:ext cx="16665840" cy="1283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1251000"/>
                    <a:ext cx="16665840" cy="128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955800" y="639720"/>
          <a:ext cx="16994160" cy="1379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5800" y="639720"/>
                    <a:ext cx="16994160" cy="137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638360" y="711360"/>
          <a:ext cx="15760800" cy="1452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711360"/>
                    <a:ext cx="15760800" cy="145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46120" y="1176480"/>
          <a:ext cx="17961120" cy="1276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176480"/>
                    <a:ext cx="17961120" cy="127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63480" y="1211400"/>
          <a:ext cx="17749800" cy="1272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1211400"/>
                    <a:ext cx="17749800" cy="127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290600" y="833400"/>
          <a:ext cx="16484760" cy="1357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0600" y="833400"/>
                    <a:ext cx="16484760" cy="135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863640" y="717480"/>
          <a:ext cx="17381520" cy="1361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717480"/>
                    <a:ext cx="17381520" cy="136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432080" y="0"/>
          <a:ext cx="16486200" cy="1462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0"/>
                    <a:ext cx="16486200" cy="146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177920" y="738360"/>
          <a:ext cx="17384760" cy="1339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7920" y="738360"/>
                    <a:ext cx="17384760" cy="133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4080" y="5908680"/>
            <a:ext cx="1619064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1" i="1" lang="sk-SK" sz="7100" spc="-1" strike="noStrike">
                <a:solidFill>
                  <a:srgbClr val="000000"/>
                </a:solidFill>
                <a:latin typeface="Times New Roman"/>
              </a:rPr>
              <a:t>Ďakujem za pozornosť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446200" y="1717560"/>
          <a:ext cx="14157360" cy="1146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6200" y="1717560"/>
                    <a:ext cx="14157360" cy="114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19120" y="1353960"/>
          <a:ext cx="16073640" cy="812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9120" y="1353960"/>
                    <a:ext cx="16073640" cy="812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08040" y="7513560"/>
          <a:ext cx="1732752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7513560"/>
                    <a:ext cx="173275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5400" y="1666800"/>
          <a:ext cx="16968600" cy="1218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666800"/>
                    <a:ext cx="16968600" cy="121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25360" y="896760"/>
          <a:ext cx="16683120" cy="1282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896760"/>
                    <a:ext cx="16683120" cy="128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231920" y="7408800"/>
          <a:ext cx="16167240" cy="115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7408800"/>
                    <a:ext cx="1616724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843200" y="1025640"/>
          <a:ext cx="14739840" cy="1286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0" y="1025640"/>
                    <a:ext cx="14739840" cy="128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70120" y="831960"/>
          <a:ext cx="17451360" cy="1356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831960"/>
                    <a:ext cx="17451360" cy="135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4T06:34:44Z</dcterms:created>
  <dc:creator>Ing. Ivan Laučík</dc:creator>
  <dc:description/>
  <dc:language>en-US</dc:language>
  <cp:lastModifiedBy>Ing. Bortel</cp:lastModifiedBy>
  <dcterms:modified xsi:type="dcterms:W3CDTF">2004-11-12T12:17:44Z</dcterms:modified>
  <cp:revision>91</cp:revision>
  <dc:subject/>
  <dc:title>Prezentácia</dc:title>
</cp:coreProperties>
</file>