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FD3-CB65-4028-BBFC-5068F952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EDDF-5896-42A9-A4E2-E5FF824A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EAD-623B-4CFA-9B07-AE22929C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7D1-B020-4F36-BAAF-AF66A51D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AAA-848C-42A4-A186-25D8944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D19-E6BD-499A-B44B-EB924D0A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DD97-75E4-4D34-B667-908A8D28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89C8-C269-4FC7-BE52-1664F65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BAE-57E0-4E2A-AD3F-FFDDFACB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F6C-1452-4147-98FF-B2C8F1A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CF5-4438-48FF-A31A-E98A2A96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9D5-A056-4032-BB34-4FCABA60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30A-ABDB-492E-9611-A700E229C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blém s druhmi ako Pnat , ktoré majú veľmi malý are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ľuch - návrh rozmiestniť body LMS v rastri DFS (kvadráty vytvorené zlúčen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štvorco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u optimalizovať vzhľadom na maximalizáciu získaných druhových registrác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ber bodov LMS – proporciálne podľa vegetačných stupňov a ich percentuálneho zastúpenia. Pomôckou na rozmiestenie môže byť ra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odov - minimálny variant na získanie výsledkov s výpovednou hodnot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nitoring tejto skupiny je možný vykonávať pracovníkmi o špecializáciou na túto skupinu živočích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v letnom období 1.7 – 3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átum odchytu na lokalite sa bude rotovať v rámci šiestich dekád (10 dní), tak aby odchyt na lokalite bol uskutočnený v prvom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tóda doplnená detektoringom (TE detektor, nahrávacie zariadenie, anylý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Netting a lesná monitorovacia sieť (L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92240"/>
                <a:gridCol w="1189080"/>
                <a:gridCol w="1189800"/>
                <a:gridCol w="1189440"/>
                <a:gridCol w="1189800"/>
                <a:gridCol w="1189080"/>
                <a:gridCol w="118980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. deká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r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-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-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zimoví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30 najvýznamnejších zimovísk pre tieto druhy (Rhip, Rfer, Reur, Mmyo/Mbly, Mmys/Mbra, Mdas, Mema, Ppip/pyg, Bbar, Mschr), urobí sa prienik a doplnia sa významné lokality z území slabo pokrytý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ferencia zimovísk, ktoré je možné skontrolovať komplex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polu 100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15.januára. - 28. febru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itoring letných kolón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trola všetkých najpočetnejších známych úkrytov max. však 30 lokalít pre každý druh u ktorého sa zisťuje početnosť letných kolón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mája – 15. jú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dospelých samí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ama kontrola na podkroví (nie vý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Auto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idsať 30km trans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nsekt zložený zo spektra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d západu slnka cca 2-3 hod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stávky pri vodných plochách a tokoch – zachytenie druhov viazaných na vodné plochy (Mdau, Mdas) a ostatných druh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Jesenný n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ber 10 lokalít pre Mmys/bra a 10 pre Mmyo/bly z monitorovaných zimoví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382680"/>
            <a:ext cx="8136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085760"/>
            <a:ext cx="864216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30:56Z</dcterms:created>
  <dc:creator>Admin</dc:creator>
  <dc:description/>
  <dc:language>en-US</dc:language>
  <cp:lastModifiedBy>Saxa</cp:lastModifiedBy>
  <dcterms:modified xsi:type="dcterms:W3CDTF">2004-11-24T07:10:41Z</dcterms:modified>
  <cp:revision>3</cp:revision>
  <dc:subject/>
  <dc:title>Snímk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9266734</vt:r8>
  </property>
  <property fmtid="{D5CDD505-2E9C-101B-9397-08002B2CF9AE}" pid="3" name="_AuthorEmail">
    <vt:lpwstr>kanuch@sav.savzv.sk</vt:lpwstr>
  </property>
  <property fmtid="{D5CDD505-2E9C-101B-9397-08002B2CF9AE}" pid="4" name="_AuthorEmailDisplayName">
    <vt:lpwstr>Peto Kanuch</vt:lpwstr>
  </property>
  <property fmtid="{D5CDD505-2E9C-101B-9397-08002B2CF9AE}" pid="5" name="_EmailSubject">
    <vt:lpwstr>prezentacia</vt:lpwstr>
  </property>
  <property fmtid="{D5CDD505-2E9C-101B-9397-08002B2CF9AE}" pid="6" name="_ReviewingToolsShownOnce">
    <vt:lpwstr/>
  </property>
</Properties>
</file>