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8D6-624D-42D2-B8EC-8BC0A67A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9A9A-3FAF-4351-9B40-82757740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3BE-4FE9-4476-A93B-9EEA8212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4E6-CB78-40A5-A189-E26218C4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40AB-823D-4158-A4AC-EE973515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F784-FF8B-4886-89C6-4A1CFAF0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E546-6584-431A-85DC-773047C4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6940-63BF-42CE-998E-F5D63FE7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9B3-784F-49B6-B8DB-445CB61C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ADD-2E0E-4A4B-B38A-5A506377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F4F8-E1CE-4AAE-8075-477E7F3E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F1AA-99F1-49D9-8AB3-92B4E9F0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4B91-7F14-4B85-9D24-84C1A57A7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Metodika monitoringu vybraných druhov vtákov - poznám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805360"/>
            <a:ext cx="6400800" cy="479520"/>
          </a:xfrm>
          <a:prstGeom prst="rect">
            <a:avLst/>
          </a:prstGeom>
          <a:solidFill>
            <a:srgbClr val="996600">
              <a:alpha val="55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astislav Rybanič, vedúci tímu pre vt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Cieľe monitorov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Čo chceme dosiahnuť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lhodobo sledovať či sú vtáky v priaznivom stave a či a ako na ich stav pôsobia prijaté manažmentové a ochranné opat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a čo majú získané údaje a výstupy slúžiť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spracovanie početností populácií, ich zmien a trendov (vrátane areálový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posúdenie odozvy populácií na ochranné opat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ázky pokrytia populá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5986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 vzácnych, ohrozených a  koloniálnych druhoch sa dajú monitorovať celé populácie (orol kráľovský, rybár rieč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ýberové metódy sa použijú pri rozptýlených druhoch (lesné spevavce, druhy otvorenej krajiny, ďatlov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 zhromažďujúcich sa druhoch (vodné vtáky) sa uskutoční monitoring vybraných území (sčítanie vodného vtáct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20425" t="12265" r="3192" b="6574"/>
          <a:stretch/>
        </p:blipFill>
        <p:spPr>
          <a:xfrm>
            <a:off x="6877080" y="1708200"/>
            <a:ext cx="1982880" cy="1339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12382" t="0" r="11811" b="0"/>
          <a:stretch/>
        </p:blipFill>
        <p:spPr>
          <a:xfrm>
            <a:off x="6804000" y="5157720"/>
            <a:ext cx="2087640" cy="1436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rcRect l="0" t="6628" r="0" b="17861"/>
          <a:stretch/>
        </p:blipFill>
        <p:spPr>
          <a:xfrm>
            <a:off x="6877080" y="3357720"/>
            <a:ext cx="1835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ázky výberu metó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ornitológia je vybavená odskúšanými kvantitatívnymi metód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ódy monitoringu vtákov musia byť  jednoducho a rýchlo vykonateľ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volené metódy musia byť navzájom porovnateľné medzi seb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227640" y="4941720"/>
            <a:ext cx="2089440" cy="1432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900000" y="4941720"/>
            <a:ext cx="2016360" cy="1424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564000" y="4941720"/>
            <a:ext cx="2077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ázky výberu monitorovaných lokalí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áhodný / stratifikovaný vý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onitorovanie lokalít v rámci i mimo území Natura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eprezentatívne pokrytie bioto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eprezentatívne pokrytie všetkých biogeografických častí Sloven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ber a spracovanie dá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ber dát – najlepšie v elektronickej pod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rifikácia dát a ich zhromažďovanie v datab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entrálne spracovanie dát ich analý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pätná väzba doručenie výstupov sčítavateľom a správcom jednotlivých území, resp. príslušným pracoviskám ŠOP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1:08:36Z</dcterms:created>
  <dc:creator>Rastislav Rybanič</dc:creator>
  <dc:description/>
  <dc:language>en-US</dc:language>
  <cp:lastModifiedBy>Rasto</cp:lastModifiedBy>
  <dcterms:modified xsi:type="dcterms:W3CDTF">2004-11-15T10:20:24Z</dcterms:modified>
  <cp:revision>3</cp:revision>
  <dc:subject/>
  <dc:title>Metodika monitoringu vybraných druhov vtákov - poznámky</dc:title>
</cp:coreProperties>
</file>