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BD3-25EE-4A5A-8336-90B2DD11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3E2-A43A-435A-B807-BF35C41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E72-F669-49C9-A5F8-A3699C64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469-BA61-4A51-BB3A-35A625E1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178-FE50-487C-8243-A579ACFF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2D8-2696-4283-8948-411958F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DEF-72A0-4A91-B1D1-38DA650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9D4-213E-4586-97C3-612B685B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39D-3E38-4807-BB88-AD24E03A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EF5-9407-4A6B-A1C7-D2D203B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422-2104-4510-A2E4-68A1294F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C97-DFD1-4B62-B4F5-52C3D32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E5B-8729-4734-B017-6B40571899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1. Rozsah monitoringu: KOĽKO, KEDY a KD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) Výber populáci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hrozené, lokalizované, koloniálne druhy 100% populác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týlené druhy – dbať na dostatočnú veľkosť vzo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Priestor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ifikovaný výber vzoriek – plôch s dôrazom na CHVU, biogeografické regióny, pokrytie biotopov, Slovenska, dostupnosť mapov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Časo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niezdne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imné obd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igráci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Frekvencia monitoring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AKO Č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5986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álne ročná periodic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iel môže  byť pri monitorovaní niektorých parame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99736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3. Návrh monitorovaných ukazovateľov: Č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581360"/>
            <a:ext cx="59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ritériá a subkritériá použité pri definovaní priaznivého stavu druho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4. Návrh monitorovacej metódy a zberu dá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Ak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o najviac využiť existujúce programy a aktivity monitorujúce vtác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hrozené, lokalizované, koloniálne druhy – špeciálne metó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ozptýlené druhy – bodový transekt, (mapovacia metóda, prípadne iná kompatibiln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odné zhromažďujúce sa dr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imné sčítanie vodného vtáctva (pásová metó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etóda dvoch kontrol / hladinové sčítanie (hniezdne obdob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Materiálne a personálne zabezpečenie monitoringu: ČÍ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601280"/>
            <a:ext cx="842472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ersonálne zabezpečenie (počet sčítavateľov, odborn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treba školenia v použití metodík odbor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chova budúcich spolupracovní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roky na finančné zabezpeč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koordinova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6. Vyhodnocovanie a kontrola údajov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entrálny zber, štandardizácia, verifikácia a spracovanie d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borný gar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ytik, správca databá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7. Testovanie navrhnutej metodi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potrebné testovacie obdobie (okrem niektorých skupín) min. 1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8. Manažmentové odporúčan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7786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ližšia špecifikácia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islav Rybanič</cp:lastModifiedBy>
  <dcterms:modified xsi:type="dcterms:W3CDTF">2004-11-16T10:56:58Z</dcterms:modified>
  <cp:revision>5</cp:revision>
  <dc:subject/>
  <dc:title>Metodika monitoringu vybraných druhov vtákov - poznámky</dc:title>
</cp:coreProperties>
</file>