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D0FF-22B1-49D6-ADFA-3D6F6B27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7340-9B9A-4B29-9BD0-F4EFB55F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E901-BD25-4679-A062-CD8614C3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AF96-4ED7-48B2-B0DC-006E7490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2DC8-98B8-4A79-A117-367588B9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248E-08FB-4F15-B437-55F60296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9AF2-7A52-4F7A-88D3-4148570F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5F4E-5863-4F7B-A462-E5C2F0A4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7E81-A579-4BC0-B72D-6BEE253E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210B-6801-429C-99C5-35CCDA1D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069D-0887-48B6-9BD9-4C63149D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3EB7-2097-4420-A169-0F4AA9D9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50BC-0CC0-40BF-98A7-19762749A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8040" y="1312920"/>
            <a:ext cx="7788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cc00"/>
                </a:solidFill>
                <a:latin typeface="Arial"/>
              </a:rPr>
              <a:t>Rámcový menežment lesných biotop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cc00"/>
                </a:solidFill>
                <a:latin typeface="Arial"/>
              </a:rPr>
              <a:t>Natura 2000</a:t>
            </a:r>
            <a:r>
              <a:rPr b="0" lang="cs-CZ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4869000"/>
            <a:ext cx="5379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Autori:  Ivor Rizman, Pavol Polák, Tomáš Draž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a ostatní členovia WG lesné biot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Bratislava 15.XI.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26920" y="260280"/>
            <a:ext cx="770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Základné menežmentové opatrenia pri hospodárení v európsky významných lesných biotop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2205000"/>
            <a:ext cx="8137440" cy="265428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Nešíriť geograficky nepôvodné druhy drevín. Pri výchove a obnove lesných porastov prednostne odstraňovať geograficky nepôvodné druhy dreví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Do lesných porastov vnášať chýbajúce dreviny prirodzenej druhovej sklad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Umelú obnovu lesných porastov používať len v nevyhnutných prípado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26920" y="260280"/>
            <a:ext cx="7704360" cy="137376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Základné menežmentové opatrenia pri hospodárení v európsky významných lesných biotop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1844640"/>
            <a:ext cx="8137440" cy="375156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99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Uprednostňovať členitejšiu priestorovú výstavbu lesných poras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Udržiavať a zlepšovať vekovú diferencovanosť les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6)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ri hospodárení v lesných porastoch dbať na prítomnosť mŕtveho dreva napr. ponechaním niekoľkých dutinových stromov z prirodzenej druhovej skladby na dožitie a následne ponechať na mieste až do úplného rozpadu drevnej hmo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26920" y="260280"/>
            <a:ext cx="770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Základné menežmentové opatrenia pri hospodárení v európsky významných lesných biotop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1844640"/>
            <a:ext cx="8137440" cy="375156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7)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Výmladkové porasty (nízky les – vegetatívne pestovaný) je potrebné prebudovávať na porasty vysokého tvaru le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8)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ri obhospodarovaní lesných porastov používať jemnejšie spôsoby hospodárenia. Nepoužívať ťažké, hlučné mechanizmy. Využívať ekologicky nezávadné rozložiteľné materiály a chemické lát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9)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Udržiavať diverzitu mikrostanovíšť (čistinky, prameniská, brehy tokov, výstupy materskej horniny, mokri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6920" y="260280"/>
            <a:ext cx="770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Základné menežmentové opatrenia pri hospodárení v európsky významných lesných biotop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1844640"/>
            <a:ext cx="8137440" cy="448308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10)Zabraňovať prenikaniu inváznych druhov (dbať o posilnenie ekologickej stability brehových porastov, včas odstraňovať ohniská výskytu inváznych druh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Zabezpečovať ochranu voči vonkajším škodlivým faktorom (zapláštené okraje oproti narušeným ekosystémom, likvidácia skládok, vytváranie prechodných zó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Zachovávať a podporovať obnovu prirodzených podmienok prostredia nevyhnutných pre existenciu daného biotopu (vodný režim, pastva požadovanej intenzity, udržiavanie medzernatého zápoja  a 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26920" y="260280"/>
            <a:ext cx="77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9900"/>
                </a:solidFill>
                <a:latin typeface="Arial"/>
              </a:rPr>
              <a:t>Základné menežmentové opatrenia pri hospodárení v európsky významných lesných biotop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1844640"/>
            <a:ext cx="8137440" cy="4848840"/>
          </a:xfrm>
          <a:prstGeom prst="rect">
            <a:avLst/>
          </a:prstGeom>
          <a:solidFill>
            <a:srgbClr val="0000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13)Podporovať tradičné formy hospodárenia na okolitých poľnohospodárskych pozemkoch (pokiaľ ich  udržanie alebo rozvoj nevyžaduje nevhodné zásahy do lesných ekosystém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14)Vytvárať bezzásahové zóny v lesoch s cieľom podporiť biodiverzitu a prežitie vzácnych a ohrozených druhov rastlín a živočíchov (extrémne alebo vzdialené stanovištia, stanovištia s výskytom vzácnych  a ohrozených druh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15)Zabezpečiť informovanie verejnosti o dôležitosti zlepšovania stavu a udržania priaznivého stavu lesných biotop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356000" y="3490920"/>
            <a:ext cx="4788000" cy="3367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-7920" y="3375000"/>
            <a:ext cx="4651200" cy="3489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500720" y="-6480"/>
            <a:ext cx="4651200" cy="3489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651200" cy="3489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Príklad riešenia pre skupinu bukových le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89080" y="6237360"/>
            <a:ext cx="39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9110 Luzulo-Fagetum beech fo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3440" y="2924280"/>
            <a:ext cx="41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9130 Asperulo-Fagetum beech fo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4560" y="6093000"/>
            <a:ext cx="39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9140 Subalpine beech woods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Acer and Rumex arifol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57400" y="2852640"/>
            <a:ext cx="43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9150 Medio-European limest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9900"/>
                </a:solidFill>
                <a:latin typeface="Arial"/>
              </a:rPr>
              <a:t>beech forests (Cefaphanthero-Fagion)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Príklad riešenia pre skupinu bukových le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34840"/>
            <a:ext cx="8642160" cy="558252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9900"/>
                </a:solidFill>
                <a:latin typeface="Arial"/>
              </a:rPr>
              <a:t>Ohrozenie biotopov buč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9900"/>
                </a:solidFill>
                <a:latin typeface="Arial"/>
              </a:rPr>
              <a:t>Biotopy bukových lesov nie sú ohrozené ako celok pre pomerne veľkú výmeru, ktorú zaberajú a vysoký zmladzovací potenciál buka, hlavne na juh od hranice rozdeľujúcej územie Slovenska na územie so zreteľným vplyvom klímy od stredozemného mora a územie ovplyvňované klímou od Baltického a Severného mora (Zlatník 1958). Ohrozený je biotop 9140, kde je tento potenciál menší a ostatné oblasti Slovenska na severe. Tu dochádzalo a v menšej miere stále dochádza, podstatne rýchlejšie k ich premene na porasty s vyšším zastúpením ekonomických drevín (sm, bo, sc). Časť porastov je výmladkového charakteru, prevažne však nepravých kmeňovín, pri obnove ktorých nedochádza k podstatnejším odchýlkam ako u semenných porastov. U výmladkových porastov vyšších generácií v minulosti dochádzalo k priamym prevodom s podstatnou zmenou skladby drevín v neprospech buka. Dnes je tento trend už výrazne spomalený nezáujmom vlastníkov o nákladné prevody. V niektorých oblastiach dostatočnej obnove buka zabraňujú vysoké stavy raticovej zvery, ktoré aj takmer úplne decimujú pôvodnú prímes jedle, miestami aj vzácneho tisa v týchto porastoch.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Príklad riešenia pre skupinu bukových le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06416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rovnanie pravdepodobných prípadov základných rozhodnutí, podľa kategórie lesa a SOP a ich vhodnosti z hľadiska stavu A,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79280" y="2205000"/>
          <a:ext cx="8732880" cy="4103640"/>
        </p:xfrm>
        <a:graphic>
          <a:graphicData uri="http://schemas.openxmlformats.org/drawingml/2006/table">
            <a:tbl>
              <a:tblPr/>
              <a:tblGrid>
                <a:gridCol w="1101960"/>
                <a:gridCol w="960480"/>
                <a:gridCol w="1279440"/>
                <a:gridCol w="1023840"/>
                <a:gridCol w="828720"/>
                <a:gridCol w="1122480"/>
                <a:gridCol w="1265040"/>
                <a:gridCol w="1150920"/>
              </a:tblGrid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ó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ísm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ór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peň ochrany prír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bná do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novná do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a hospod. spôsob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hodnosť z hľadiska FCS „A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hodnosť z hľadiska FCS „B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-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vhodn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astočne nevhodn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, d,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-U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astočne nevhodn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hovujú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hovujú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hovujú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-130 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astočne nevhodn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astočne nevhodn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, d,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hovujú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hovujú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Príklad riešenia pre skupinu bukových le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1176840"/>
            <a:ext cx="82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hľad základných rozhodnutí pre stav C a 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2060640"/>
          <a:ext cx="8206920" cy="4247280"/>
        </p:xfrm>
        <a:graphic>
          <a:graphicData uri="http://schemas.openxmlformats.org/drawingml/2006/table">
            <a:tbl>
              <a:tblPr/>
              <a:tblGrid>
                <a:gridCol w="1274400"/>
                <a:gridCol w="1112400"/>
                <a:gridCol w="1479600"/>
                <a:gridCol w="1183680"/>
                <a:gridCol w="1183680"/>
                <a:gridCol w="1973160"/>
              </a:tblGrid>
              <a:tr h="100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ó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ísm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ó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peň ochrany prír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bná do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novná do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a hospod. spôsob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-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, HP (M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-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-U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-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-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, HP (MH) a v 4. S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H vylúče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2197080" y="43930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Príklad riešenia pre skupinu bukových les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7080" y="43930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6200" y="619920"/>
            <a:ext cx="81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áhy jednotlivých indikátorov pre stanovenie FCS biotopov buč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95280" y="981000"/>
          <a:ext cx="8748720" cy="5692680"/>
        </p:xfrm>
        <a:graphic>
          <a:graphicData uri="http://schemas.openxmlformats.org/drawingml/2006/table">
            <a:tbl>
              <a:tblPr/>
              <a:tblGrid>
                <a:gridCol w="2554200"/>
                <a:gridCol w="1354320"/>
                <a:gridCol w="2876400"/>
                <a:gridCol w="1693800"/>
                <a:gridCol w="27000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ér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áha kritériá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ká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áha indikát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ické druhy bioto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5 -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Z strom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-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yliny a k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-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truktúra lesného bioto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-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ková štruktú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mlade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estorová štruktú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rubé stro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ŕtve dre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tívne vply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- 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dravotný sta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-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iršie priestorové súvisl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-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1052640"/>
            <a:ext cx="7704000" cy="58140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9900"/>
                </a:solidFill>
                <a:latin typeface="Arial"/>
              </a:rPr>
              <a:t>Ciele menežmentu lesných biotop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205000"/>
            <a:ext cx="7705440" cy="375156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Cieľom menežmentu biotopov (Natura 2000) je a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výmera biotopu bola stabilná (prinajmenšom neklesala), prípadne sa zvyšov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stav jeho typických druhov bol priaznivý (nezhoršoval sa), prípadne sa zlepš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štruktúra a funkcie biotopu boli zach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97080" y="43930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-1080"/>
            <a:ext cx="88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abuľka úprav doterajšieho tradičného obhospodarovania biotopov bukových lesov od platných modelov hospodáre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56240" y="185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57840" y="2097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42120" y="2097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42120" y="2341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93680" y="523800"/>
          <a:ext cx="8893080" cy="6334200"/>
        </p:xfrm>
        <a:graphic>
          <a:graphicData uri="http://schemas.openxmlformats.org/drawingml/2006/table">
            <a:tbl>
              <a:tblPr/>
              <a:tblGrid>
                <a:gridCol w="1216080"/>
                <a:gridCol w="1630080"/>
                <a:gridCol w="1333800"/>
                <a:gridCol w="1382400"/>
                <a:gridCol w="1616400"/>
                <a:gridCol w="857160"/>
                <a:gridCol w="857160"/>
              </a:tblGrid>
              <a:tr h="291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eľ menežment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atre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vourable 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favourable 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habit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držanie doterajšieho FC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. rubná dob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– fyzický v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. obnovná dob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retržit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jextenzívnejší hospod. spôso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z zásahu prípadne účelový výb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H len pre časti so zmeneným dr. zlo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ľkosť obnovných prvk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hlúči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h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medzenia obnovy porastov ak by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o v rámci hodnoteného polygónu dôjsť k poklesu výmer starších ARS pod hranicu stanovenú pre daný FCS Viď tabuľky FC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chova poras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držanie dostatočne diferencovanej štruktúry pre daný FCS, odstraňovanie nežiadúcich prímesí a inváznych dreví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hospodarovanie výmladkových porastov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doterajších postupov. 1. a 2. generácia prevod výchovou a obnova ako u semenných porastov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ršie generácie – priamy prevod s naliehavosťou podľa kvality porastu, spravidla vo veku, keď sa stráca výmladnosť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é opatre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ď tiež spoločné pre všetky biotop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najlepších prípadoch zmeniť SOP na 5 pre zabezpečenie bezzás. režim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nechanie časti hmoty hrubších a časti živých hrubých a cenných stromov v počtoch spĺňajúcich limit pre daný stav podľa možnosti v pravidelnom rozmiestnení. Viď tabuľky FCS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197080" y="43930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-1080"/>
            <a:ext cx="88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abuľka úprav doterajšieho tradičného obhospodarovania biotopov bukových lesov od platných modelov hospodáre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56240" y="185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57840" y="2097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42120" y="2097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42120" y="2341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635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16240" y="2368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16240" y="2612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7920" y="2857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7920" y="3254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62600" y="3254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0920" y="549360"/>
          <a:ext cx="8713800" cy="6222960"/>
        </p:xfrm>
        <a:graphic>
          <a:graphicData uri="http://schemas.openxmlformats.org/drawingml/2006/table">
            <a:tbl>
              <a:tblPr/>
              <a:tblGrid>
                <a:gridCol w="1050840"/>
                <a:gridCol w="1476360"/>
                <a:gridCol w="487440"/>
                <a:gridCol w="1861920"/>
                <a:gridCol w="2275200"/>
                <a:gridCol w="487080"/>
                <a:gridCol w="1074960"/>
              </a:tblGrid>
              <a:tr h="365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eľ menežmen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atre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vourable 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favourable 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habi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lepšenie FCS o jeden stupe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. úprava rubnej do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 hospod.  lesoch + 20 oproti  mode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 prípadne mierne zvýši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Úprava obnovnej do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 hospod.  lesoch + 20 oproti  mode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 prípadne mierne zvýši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spodársky spôso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 -  postupne prechod k UV a bezzásahovému reži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upne obmedziť a neskôr v najpriaznivejších prípadoch úplne vylúčiť M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ľkosť obnovných prvk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upné zmenšovanie až na úroveň hlúč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upné zmenšovanie od súčasného stav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ľa model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eľ zásahov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siahnutie štruktúry pre stav o stupeň vyššieho FCS, umiestnenie zásahov hlavne do častí s nevhodnou štruktúrou alebo drevinovou skladbou. Postupné likvidovanie prímesí ekonomických drevín (sm, sc, bo). Dôsledná likvidácia inváznych dreví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chova porast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lepšovanie diferenciácie štruktúry pre dosiahnutie stavu o stupeň lepšieho FCS. Postupné likvidovanie ekonomických prímesí drevín (sm, sc, bo) a dôsledná likvidácia inváznych drevín v čo najmladších vývojových fázach porast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71640" y="2492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9900"/>
                </a:solidFill>
                <a:latin typeface="Arial"/>
              </a:rPr>
              <a:t>Ďakujem za pozornos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9840" cy="687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26920" y="26028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Východiská pre stanovenie menežmentu lesných biotop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26828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Bežné obhospodarovanie lesných porastov – súčasný menežment,  legislatíva na úseku L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ovinnosť hospodáriť podľa L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2492280"/>
            <a:ext cx="770544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Záväzné ukazovatele LHP pre jednotku priestorového rozdelenia le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Výška ťažby (neprekročiteľnosť nad 50 rok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Hospodársky spôsob a jeho forma (odborný lesný hospodár môže zjemniť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Obnovné zastúpenie hlavných drevín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±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  <a:ea typeface="Arial"/>
              </a:rPr>
              <a:t> 3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Výchova do 50 rokov (prerezávky, prebier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2060640"/>
            <a:ext cx="7705440" cy="52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Ostatné obmedzenia vyplývajúce z legislatívy na úseku LH a ochrany prír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Ochrana LP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Znižovanie zakmenenia p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Veľkosti obnovných prvkov, vzdialenosti východí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Obmedzenie holorubného hospodárskeho spôsobu z lesného zákona a zákona o ochrane prírody (od SOP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Zákaz akejkoľvek činnosti v 5. S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ovinnosti v ochrane lesa súvisiace s mŕtvym drev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2060640"/>
            <a:ext cx="770544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ostup vyhotovenia L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rieskum ekológie l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ožiadavky dotknutých orgánov (ŠOP, vodári a p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Rámcové plánovanie modely hospodár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Zásady vyhotovenia L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odrobné plánovanie – popis porastov plán hospodársk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Prejednanie pokynov so zainteresovanými stran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Schválenie L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2060640"/>
            <a:ext cx="770544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Rámcové plánovanie – modely hospodárenia, zásady hospodár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Modely hospodárenia kľúčovo ovplyvňuj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Výšku ťažby stanovením rubných a obnovných dôb, použitie hospodárskych spôsob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Obnovné drevinové zlož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Cieľové drevinové zlož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±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  <a:ea typeface="Arial"/>
              </a:rPr>
              <a:t> z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áväznosť pre vyhotoviteľov LHP, jednotnosť modelov pre väčšie územné celky, zásadný význam pre ovplyvnenie hospodárenia v les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6920" y="26028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Východiská pre stanovenie menežmentu lesných biotop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557360"/>
            <a:ext cx="77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2. Všetky biotopy budú mať stanovený FCS podľa jednotných kritérií (Hodnotiace tabuľky biotopov, systém kritérií a indikátorov FCS, kvantifikácia pomocou kvantifikátorov) a budú zaradené do niektorého zo stavov A-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6920" y="26028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9900"/>
                </a:solidFill>
                <a:latin typeface="Arial"/>
              </a:rPr>
              <a:t>Východiská pre stanovenie menežmentu lesných biotop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155736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2. Všetky biotopy budú mať stanovený FCS podľa jednotných kritérií a budú zaradené do niektorého zo stavov A-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6920" y="1773360"/>
            <a:ext cx="7705800" cy="411732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Za biotop v stave A, považujeme taký biotop, ktorý sa všetkými svojimi znakmi blíži k prírodnému lesu (les pralesovitého vzhľadu so stopami ľudskej činnosti) a je schopný ďalšej existencie bez výraznej pomoci človeka. Jedná sa o najcennejšie zachovalé ukážky daného biotopu, spravidla už v dnešnej dobe chránené najvyššími stupňami ochrany prírody alebo zaradené do kategórie lesov ochranných. Existujú však aj porasty, ktoré takto zaradené nie sú a bolo by vhodné ich zachovať).</a:t>
            </a:r>
            <a:r>
              <a:rPr b="0" lang="cs-CZ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549360"/>
            <a:ext cx="7705800" cy="119124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Favourable conservation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 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Statu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1640" y="2205000"/>
            <a:ext cx="7705800" cy="119124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Stav B sa dá vyjadriť termínom prirodzený 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(les vhodnej drevinovej skladby s pozmenenou štruktúrou oproti praleso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549360"/>
            <a:ext cx="7705800" cy="119124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Favourable conservation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 status</a:t>
            </a: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Statu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1044720" y="-963720"/>
            <a:ext cx="10701360" cy="8026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0000" y="3933720"/>
            <a:ext cx="7705800" cy="119124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Stav: les s čiastočne pozmenenou skladbou drevín, pozmenou štruktúrou, alebo narušeným zdravotným stavom, vplyvom  okolia a podob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54936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Unf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avourable conservation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 status</a:t>
            </a: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Status C-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00000" y="3933720"/>
            <a:ext cx="7705800" cy="192276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9900"/>
                </a:solidFill>
                <a:latin typeface="Arial"/>
              </a:rPr>
              <a:t>Nejedná sa o biotop Natura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9900"/>
                </a:solidFill>
                <a:latin typeface="Arial"/>
              </a:rPr>
              <a:t>Potenciálne, vďaka obhospodarovaniu podľa platných modelov hospodárenia – teda bežným hospodárením môže postupne biotop vzniknúť – potenciálny bio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549360"/>
            <a:ext cx="7705800" cy="1191240"/>
          </a:xfrm>
          <a:prstGeom prst="rect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No habi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Status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7920" y="-6480"/>
            <a:ext cx="9159840" cy="6870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26920" y="26028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9900"/>
                </a:solidFill>
                <a:latin typeface="Arial"/>
              </a:rPr>
              <a:t>Východiská pre stanovenie menežmentu lesných biotop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1268280"/>
            <a:ext cx="77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3. Odchýlka od súčasného modelu hospodárenia (bežného hospodárenia) bude základom pre systém stanovenia menežmentu v lesných biotopo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2708280"/>
            <a:ext cx="770580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9900"/>
                </a:solidFill>
                <a:latin typeface="Arial"/>
              </a:rPr>
              <a:t>Stanovovať sa bude osobitne pre každý FCS (A-D, (E)) s definovaním predpokladaného (doterajšieho, tradičného) obhospodarovania a odchýliek pre udržanie, prípadne zlepšovanie o jeden F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ff9900"/>
                </a:solidFill>
                <a:latin typeface="Arial"/>
              </a:rPr>
              <a:t>Zás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9900"/>
                </a:solidFill>
                <a:latin typeface="Arial"/>
              </a:rPr>
              <a:t>Aby mohlo dôjsť k prechodu z horšieho do lepšieho stavu biotopu, je potrebné v prvom rade menežmentom (zásahom) ovplyvniť tú vlastnosť biotopu, ktorá najväčšou mierou (váhou) ovplyvňuje jeho zaradenie do horšieho stav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0:54:38Z</dcterms:created>
  <dc:creator>Rizman</dc:creator>
  <dc:description/>
  <dc:language>en-US</dc:language>
  <cp:lastModifiedBy>Rizman</cp:lastModifiedBy>
  <dcterms:modified xsi:type="dcterms:W3CDTF">2004-11-12T09:28:22Z</dcterms:modified>
  <cp:revision>42</cp:revision>
  <dc:subject/>
  <dc:title>Snímka 1</dc:title>
</cp:coreProperties>
</file>