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0.jpeg" ContentType="image/jpeg"/>
  <Override PartName="/ppt/media/image5.png" ContentType="image/png"/>
  <Override PartName="/ppt/media/image1.jpeg" ContentType="image/jpe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3679E-1429-4E47-8B61-222414EDD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66D1E-C856-4919-B1E7-5565B9A40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CF6E-452A-4366-B706-AABE71FFA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81D7F-1A51-4F54-BC3B-71E74C2AB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24943B-B8AD-4B6A-8901-110ADB50744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1C1F1-EF29-49EF-B4E3-2806EE1870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F634C9-A52C-4493-AB4E-70EB4475CC1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2A90FF-66F8-41BD-BC1B-73FB685BF0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4995A-EA75-42F7-A825-6F9B76D882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8806DB-1DA4-4C05-80EE-D4B14EA853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7B94C-A024-46BA-812F-27EF7C83E7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F738-1A5F-477E-830C-DBA4E652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25EC2-7F35-4D82-829C-EDA4C3E10E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AC53A-F81C-4BA2-BCA5-4B3F3525DF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49E5C4-4F55-4329-8490-41DA6D8308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22156-C4CC-4DB4-BFF6-BA83275F7F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72DCA8-6F3E-4957-B16A-621A3679522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78DD-707D-4387-BF40-C7E7D4492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AB27-BBCE-424B-A092-1336076C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A07B1-2FC5-4F30-B7B7-C20A43CAD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4CF5E-BECC-4DE3-B2B5-3B74AF8E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DFC6-90CA-4F53-A571-E32BD61C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34CA-4068-4AC1-BC17-29495531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34E4A-D78E-4E8E-BD86-970FE5CFF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9922-D5CC-427B-A724-4AEB7603CA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B8FB-54D5-4454-8144-F1A29AE32D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hyperlink" Target="http://www.sopsr.sk/istb/index.php?m=klienti&amp;ac=6&amp;k=3" TargetMode="External"/><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hyperlink" Target="http://www.sopsr.sk/istb/index.php?m=klienti&amp;ac=6&amp;k=5" TargetMode="External"/><Relationship Id="rId7" Type="http://schemas.openxmlformats.org/officeDocument/2006/relationships/image" Target="../media/image6.jpe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oleObject" Target="../embeddings/oleObject2.bin"/><Relationship Id="rId11" Type="http://schemas.openxmlformats.org/officeDocument/2006/relationships/image" Target="../media/image8.png"/><Relationship Id="rId12" Type="http://schemas.openxmlformats.org/officeDocument/2006/relationships/hyperlink" Target="http://www.sopsr.sk/istb/index.php?m=klienti&amp;ac=6&amp;k=2" TargetMode="External"/><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1.png"/><Relationship Id="rId16" Type="http://schemas.openxmlformats.org/officeDocument/2006/relationships/image" Target="../media/image12.jpe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1484280"/>
            <a:ext cx="8280360" cy="16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Tahoma"/>
              </a:rPr>
              <a:t>Zhodnotenie definovania priaznivého stavu živočíšnych druhov</a:t>
            </a:r>
            <a:br>
              <a:rPr sz="3200"/>
            </a:br>
            <a:endParaRPr b="0" lang="en-US" sz="3200" spc="-1" strike="noStrike">
              <a:solidFill>
                <a:srgbClr val="ffffff"/>
              </a:solidFill>
              <a:latin typeface="Tahoma"/>
            </a:endParaRPr>
          </a:p>
        </p:txBody>
      </p:sp>
      <p:sp>
        <p:nvSpPr>
          <p:cNvPr id="84" name="PlaceHolder 2"/>
          <p:cNvSpPr>
            <a:spLocks noGrp="1"/>
          </p:cNvSpPr>
          <p:nvPr>
            <p:ph/>
          </p:nvPr>
        </p:nvSpPr>
        <p:spPr>
          <a:xfrm>
            <a:off x="2340000" y="3573360"/>
            <a:ext cx="4464000" cy="19447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ahoma"/>
              </a:rPr>
              <a:t>Bratislava 15. – 16. november 2004</a:t>
            </a:r>
            <a:endParaRPr b="0" lang="en-US" sz="1200" spc="-1" strike="noStrike">
              <a:solidFill>
                <a:srgbClr val="ffffff"/>
              </a:solidFill>
              <a:latin typeface="Tahoma"/>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 </a:t>
            </a:r>
            <a:endParaRPr b="0" lang="en-US" sz="1600" spc="-1" strike="noStrike">
              <a:solidFill>
                <a:srgbClr val="ffffff"/>
              </a:solidFill>
              <a:latin typeface="Tahoma"/>
            </a:endParaRPr>
          </a:p>
          <a:p>
            <a:pPr marL="343080" indent="0" algn="ct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5" name="" descr=""/>
          <p:cNvPicPr/>
          <p:nvPr/>
        </p:nvPicPr>
        <p:blipFill>
          <a:blip r:embed="rId2"/>
          <a:stretch/>
        </p:blipFill>
        <p:spPr>
          <a:xfrm>
            <a:off x="7308720" y="5300640"/>
            <a:ext cx="1200240" cy="99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2243160" y="2514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5" name=""/>
          <p:cNvGraphicFramePr/>
          <p:nvPr/>
        </p:nvGraphicFramePr>
        <p:xfrm>
          <a:off x="396720" y="765000"/>
          <a:ext cx="8423280" cy="5456520"/>
        </p:xfrm>
        <a:graphic>
          <a:graphicData uri="http://schemas.openxmlformats.org/drawingml/2006/table">
            <a:tbl>
              <a:tblPr/>
              <a:tblGrid>
                <a:gridCol w="365400"/>
                <a:gridCol w="1722240"/>
                <a:gridCol w="2087640"/>
                <a:gridCol w="2016000"/>
                <a:gridCol w="223200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r>
                        <a:rPr b="1" lang="en-US" sz="1800" spc="-1" strike="noStrike">
                          <a:solidFill>
                            <a:srgbClr val="000000"/>
                          </a:solidFill>
                          <a:latin typeface="Tahoma"/>
                          <a:ea typeface="Times New Roman"/>
                        </a:rPr>
                        <a:t>HROZENI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Žiadne vyrušovanie a prenasledovanie na lokalitách výskytu, nízka intenzita športového rybárstva.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Takmer žiadne vyrušovanie a prenasledovanie na lokalitách výskytu samíc s  mláďatami, priemern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yrušovanie a prenasledovanie na lokalitách výskytu samíc s  mláďatami, vysoká intenzita športového rybárstv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64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Žiadne znečistenie, narušenie a likvidácia tečúcich a stojatých čistých a na ryby bohatých vôd s bohato štruktúrovanými brehovými porastami, predovšetkým stredné úseky riek a stredne veľké stojaté vody, resp. zvýšenie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Takmer žiadne (&lt;10 %) znečistenie, narušenie a likvidácia tečúcich a stojatých vôd so štruktúrovanými brehovými porastami, resp. kompenzácia podielu týchto biotop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 </a:t>
                      </a:r>
                      <a:r>
                        <a:rPr b="0" lang="cs-CZ" sz="1400" spc="-1" strike="noStrike">
                          <a:solidFill>
                            <a:srgbClr val="000000"/>
                          </a:solidFill>
                          <a:latin typeface="Tahoma"/>
                          <a:ea typeface="Times New Roman"/>
                        </a:rPr>
                        <a:t>Znečistenie, narušenie a likvidácia tečúcich a stojatých vôd so štruktúrovanými brehovými porastami na rozlohe &gt; 10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877680" y="403920"/>
            <a:ext cx="73760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228600"/>
                <a:tab algn="r" pos="1152360"/>
                <a:tab algn="r" pos="2295360"/>
                <a:tab algn="r" pos="3438360"/>
                <a:tab algn="r" pos="4581360"/>
                <a:tab algn="r" pos="5791320"/>
                <a:tab algn="l" pos="6400800"/>
                <a:tab algn="l" pos="7315200"/>
                <a:tab algn="l" pos="8229600"/>
                <a:tab algn="l" pos="9144000"/>
                <a:tab algn="l" pos="10058400"/>
              </a:tabLst>
            </a:pPr>
            <a:r>
              <a:rPr b="1" lang="cs-CZ" sz="2000" spc="-1" strike="noStrike">
                <a:solidFill>
                  <a:srgbClr val="000000"/>
                </a:solidFill>
                <a:latin typeface="Tahoma"/>
              </a:rPr>
              <a:t>Príklad c</a:t>
            </a:r>
            <a:r>
              <a:rPr b="1" lang="cs-CZ" sz="2000" spc="-1" strike="noStrike">
                <a:solidFill>
                  <a:srgbClr val="000000"/>
                </a:solidFill>
                <a:latin typeface="Tahoma"/>
                <a:ea typeface="Times New Roman"/>
              </a:rPr>
              <a:t>elkové</a:t>
            </a:r>
            <a:r>
              <a:rPr b="1" lang="cs-CZ" sz="2000" spc="-1" strike="noStrike">
                <a:solidFill>
                  <a:srgbClr val="000000"/>
                </a:solidFill>
                <a:latin typeface="Tahoma"/>
              </a:rPr>
              <a:t>ho </a:t>
            </a:r>
            <a:r>
              <a:rPr b="1" lang="cs-CZ" sz="2000" spc="-1" strike="noStrike">
                <a:solidFill>
                  <a:srgbClr val="000000"/>
                </a:solidFill>
                <a:latin typeface="Tahoma"/>
                <a:ea typeface="Times New Roman"/>
              </a:rPr>
              <a:t>vyhodnoteni</a:t>
            </a:r>
            <a:r>
              <a:rPr b="1" lang="cs-CZ" sz="2000" spc="-1" strike="noStrike">
                <a:solidFill>
                  <a:srgbClr val="000000"/>
                </a:solidFill>
                <a:latin typeface="Tahoma"/>
              </a:rPr>
              <a:t>a</a:t>
            </a:r>
            <a:r>
              <a:rPr b="1" lang="cs-CZ" sz="2000" spc="-1" strike="noStrike">
                <a:solidFill>
                  <a:srgbClr val="000000"/>
                </a:solidFill>
                <a:latin typeface="Tahoma"/>
                <a:ea typeface="Times New Roman"/>
              </a:rPr>
              <a:t> stavu</a:t>
            </a:r>
            <a:r>
              <a:rPr b="1" lang="cs-CZ" sz="2000" spc="-1" strike="noStrike">
                <a:solidFill>
                  <a:srgbClr val="000000"/>
                </a:solidFill>
                <a:latin typeface="Tahoma"/>
              </a:rPr>
              <a:t> druhu na lokalite</a:t>
            </a:r>
            <a:r>
              <a:rPr b="1" lang="cs-CZ" sz="2000" spc="-1" strike="noStrike">
                <a:solidFill>
                  <a:srgbClr val="000000"/>
                </a:solidFill>
                <a:latin typeface="Tahoma"/>
                <a:ea typeface="Times New Roman"/>
              </a:rPr>
              <a:t>:</a:t>
            </a:r>
            <a:endParaRPr b="0" lang="en-US" sz="2000" spc="-1" strike="noStrike">
              <a:solidFill>
                <a:srgbClr val="ffffff"/>
              </a:solidFill>
              <a:latin typeface="Arial"/>
            </a:endParaRPr>
          </a:p>
        </p:txBody>
      </p:sp>
      <p:graphicFrame>
        <p:nvGraphicFramePr>
          <p:cNvPr id="117" name=""/>
          <p:cNvGraphicFramePr/>
          <p:nvPr/>
        </p:nvGraphicFramePr>
        <p:xfrm>
          <a:off x="453960" y="907920"/>
          <a:ext cx="8221680" cy="5616720"/>
        </p:xfrm>
        <a:graphic>
          <a:graphicData uri="http://schemas.openxmlformats.org/drawingml/2006/table">
            <a:tbl>
              <a:tblPr/>
              <a:tblGrid>
                <a:gridCol w="517680"/>
                <a:gridCol w="2808360"/>
                <a:gridCol w="780840"/>
                <a:gridCol w="731880"/>
                <a:gridCol w="719280"/>
                <a:gridCol w="865080"/>
                <a:gridCol w="934920"/>
                <a:gridCol w="863640"/>
              </a:tblGrid>
              <a:tr h="10674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um</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B</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Váha parametr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Dosiahnutá hodno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Možná hodnot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806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popul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6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ohroz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1. Vyrušovanie a prenasledovanie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2. reprodukčný a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6"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w="5760">
                      <a:solidFill>
                        <a:srgbClr val="000000"/>
                      </a:solidFill>
                    </a:lnR>
                    <a:lnT w="5760">
                      <a:solidFill>
                        <a:srgbClr val="000000"/>
                      </a:solidFill>
                    </a:lnT>
                    <a:lnB>
                      <a:no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6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Výsledná hodno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64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18" name=""/>
          <p:cNvGraphicFramePr/>
          <p:nvPr/>
        </p:nvGraphicFramePr>
        <p:xfrm>
          <a:off x="1547640" y="5373720"/>
          <a:ext cx="4535640" cy="1278000"/>
        </p:xfrm>
        <a:graphic>
          <a:graphicData uri="http://schemas.openxmlformats.org/drawingml/2006/table">
            <a:tbl>
              <a:tblPr/>
              <a:tblGrid>
                <a:gridCol w="1511640"/>
                <a:gridCol w="1512720"/>
                <a:gridCol w="151128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59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00 – 78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77 - 55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54 - 0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X</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68360" y="598320"/>
            <a:ext cx="80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ť štruktúru, rozlohu a kvalitu tečúcich a stojatých čistých a na ryby bohatých vôd s bohato štruktúrovanými brehovými porastami, predovšetkým stredné úseky riek a stredne veľké stojaté vod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bezpečovať technické riešenie potenciálnych bariér na vodných tokoch a prechodov cez cestné komikác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Obmedziť vstup na lokality, ktoré predstavujú dôležité reprodukčné habitaty.</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lepšiť komunikáciu a zvýšiť informovanosť návštevníkov lokalít s výskytom vydry, najmä rybármi a poľovníkmi.</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eľkoplošné sčítania podľa pobytových znakov na modelových územiach, sledovanie areálu, doplnkovo telemetrické sledovanie.</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Doc. Ing. Rudolf Kropil Cs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1442880"/>
            <a:ext cx="67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cia metodiky monitoringu pre  európsky významné druhy  živočíchov </a:t>
            </a:r>
            <a:endParaRPr b="0" lang="en-US" sz="3200" spc="-1" strike="noStrike">
              <a:solidFill>
                <a:srgbClr val="ffffff"/>
              </a:solidFill>
              <a:latin typeface="Arial"/>
            </a:endParaRPr>
          </a:p>
        </p:txBody>
      </p:sp>
      <p:sp>
        <p:nvSpPr>
          <p:cNvPr id="121" name=""/>
          <p:cNvSpPr/>
          <p:nvPr/>
        </p:nvSpPr>
        <p:spPr>
          <a:xfrm>
            <a:off x="2690640" y="3789360"/>
            <a:ext cx="35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um Natura 2000</a:t>
            </a:r>
            <a:endParaRPr b="0" lang="en-US" sz="2000" spc="-1" strike="noStrike">
              <a:solidFill>
                <a:srgbClr val="ffffff"/>
              </a:solidFill>
              <a:latin typeface="Arial"/>
            </a:endParaRPr>
          </a:p>
        </p:txBody>
      </p:sp>
      <p:pic>
        <p:nvPicPr>
          <p:cNvPr id="122" name="" descr=""/>
          <p:cNvPicPr/>
          <p:nvPr/>
        </p:nvPicPr>
        <p:blipFill>
          <a:blip r:embed="rId2"/>
          <a:stretch/>
        </p:blipFill>
        <p:spPr>
          <a:xfrm>
            <a:off x="7308720" y="5326200"/>
            <a:ext cx="1222560" cy="101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51000" y="620640"/>
            <a:ext cx="8397720" cy="564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ieľ monitoring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Pravidelné zisťovanie a hodnotenie stavu európsky významných živočíchov a ich biotopov na Slovensku a dlhodobé sledovanie stability, zmien a vývojových trendov tohto stav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Organizácia zberu dát a ich uklada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Údaje budú zaznamenávané do vytvorenej aplikácie (resp. modulu prepojeného z ISTB rozšíreného o potrebné polia), ktorá bude pravidelne odosielaná do COPK.</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ahoma"/>
              </a:rPr>
              <a:t>Monitorovacou plochou je územie, kde sú typické podmienky pre existenciu druhu. Monitoring bude orientovaný len do tých typov biotopov, kde je predpoklad prirodzeného výskytu druh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itoring budú zabezpečovať jednotlivé organizačné útvary ŠOP SR prostredníctvom vlastných kapacít, mimovládnych a vedecko-výskumných organizácií a dobrovoľníkov. Potrebné je uváženie spolupráce so školami. Dôležitá je výchova detí a mládeže, propagácia, styk s verejnosťou, osve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692280"/>
            <a:ext cx="7993080" cy="649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Tahoma"/>
              </a:rPr>
              <a:t>Návrh obsahu metodiky monitoringu živočíčnych druhov:</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Rozsah monitoringu:</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 výberový - </a:t>
            </a:r>
            <a:r>
              <a:rPr b="0" lang="sk-SK" sz="2400" spc="-1" strike="noStrike">
                <a:solidFill>
                  <a:srgbClr val="000000"/>
                </a:solidFill>
                <a:latin typeface="Tahoma"/>
              </a:rPr>
              <a:t>%, plocha (alebo inak definovaný rozsah) pokrytia populácie a jej biotopu monitoringo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b) priestorový - </a:t>
            </a:r>
            <a:r>
              <a:rPr b="0" lang="sk-SK" sz="2400" spc="-1" strike="noStrike">
                <a:solidFill>
                  <a:srgbClr val="000000"/>
                </a:solidFill>
                <a:latin typeface="Tahoma"/>
              </a:rPr>
              <a:t>optimálne rozmiestnenie monitorovacích aktivít (plôch) a ich veľkosť pre dlhodobé a sústavné sledovanie druhu. V prípade, že nie je možné vybrať TMP, návrh schémy resp. metódy výberu plôch.</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c) časový - </a:t>
            </a:r>
            <a:r>
              <a:rPr b="0" lang="sk-SK" sz="2400" spc="-1" strike="noStrike">
                <a:solidFill>
                  <a:srgbClr val="000000"/>
                </a:solidFill>
                <a:latin typeface="Tahoma"/>
              </a:rPr>
              <a:t>najvhodnejší čas (resp. časové rozpätie) monitoringu počas roka a dň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63480" y="6350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538200" y="836640"/>
            <a:ext cx="813744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2. Frekvencia monitoringu:</a:t>
            </a:r>
            <a:r>
              <a:rPr b="1" lang="sk-SK" sz="2400" spc="-1" strike="noStrike">
                <a:solidFill>
                  <a:srgbClr val="000000"/>
                </a:solidFill>
                <a:latin typeface="Tahoma"/>
              </a:rPr>
              <a:t>	</a:t>
            </a:r>
            <a:r>
              <a:rPr b="0" lang="sk-SK" sz="2400" spc="-1" strike="noStrike">
                <a:solidFill>
                  <a:srgbClr val="000000"/>
                </a:solidFill>
                <a:latin typeface="Tahoma"/>
              </a:rPr>
              <a:t>Závisí 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citlivosti a zraniteľnosti populácie druhu na vonkajš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zme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ohrozenosti druh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pulačnej dynamiky, prirodzených fluktuác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a vnútrodruhových a medzidruhových zm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populácie, dostatku vhodných biotopov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areálu rozšíre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užitej metódy monitoringu (náročná a podrobná v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menej presná a nenáročn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reportovacej perió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539640" y="635040"/>
            <a:ext cx="828216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3. Návrh monitorovaných parametrov:</a:t>
            </a:r>
            <a:r>
              <a:rPr b="1" lang="sk-SK" sz="2400" spc="-1" strike="noStrike">
                <a:solidFill>
                  <a:srgbClr val="000000"/>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Reporting EK je zameraný na monitorovanie stavu druhov a biotopov.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Parametre monitoringu:</a:t>
            </a:r>
            <a:r>
              <a:rPr b="0" lang="sk-SK" sz="2400" spc="-1" strike="noStrike">
                <a:solidFill>
                  <a:srgbClr val="000000"/>
                </a:solidFill>
                <a:latin typeface="Tahoma"/>
              </a:rPr>
              <a:t> použijú sa subkritériá podľa definície priaznivého stav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azovatele monitoringu </a:t>
            </a:r>
            <a:r>
              <a:rPr b="0" lang="sk-SK" sz="2400" spc="-1" strike="noStrike">
                <a:solidFill>
                  <a:srgbClr val="000000"/>
                </a:solidFill>
                <a:latin typeface="Tahoma"/>
              </a:rPr>
              <a:t>(potrebné pre reporting EK). Použijú sa zákl. kritéria hodnotenia FCS získané sumarizáciou subkritér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reál rozšírenia druhu</a:t>
            </a:r>
            <a:r>
              <a:rPr b="0" lang="sk-SK" sz="2400" spc="-1" strike="noStrike">
                <a:solidFill>
                  <a:srgbClr val="000000"/>
                </a:solidFill>
                <a:latin typeface="Tahoma"/>
              </a:rPr>
              <a:t> – len na úrovni biogeografickéh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                                                       </a:t>
            </a:r>
            <a:r>
              <a:rPr b="0" lang="sk-SK" sz="2400" spc="-1" strike="noStrike">
                <a:solidFill>
                  <a:srgbClr val="000000"/>
                </a:solidFill>
                <a:latin typeface="Tahoma"/>
              </a:rPr>
              <a:t>regiónu /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populácia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biotop druhu</a:t>
            </a:r>
            <a:r>
              <a:rPr b="0" lang="sk-SK" sz="2400" spc="-1" strike="noStrike">
                <a:solidFill>
                  <a:srgbClr val="000000"/>
                </a:solidFill>
                <a:latin typeface="Tahoma"/>
              </a:rPr>
              <a:t> – na 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vplyvy a ohrozenia druhu a jeho biotopu</a:t>
            </a:r>
            <a:r>
              <a:rPr b="0" lang="sk-SK" sz="2400" spc="-1" strike="noStrike">
                <a:solidFill>
                  <a:srgbClr val="000000"/>
                </a:solidFill>
                <a:latin typeface="Tahoma"/>
              </a:rPr>
              <a:t> – n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	</a:t>
            </a:r>
            <a:r>
              <a:rPr b="0" lang="sk-SK" sz="2400" spc="-1" strike="noStrike">
                <a:solidFill>
                  <a:srgbClr val="000000"/>
                </a:solidFill>
                <a:latin typeface="Tahoma"/>
              </a:rPr>
              <a:t>všetkých úrovni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2560" y="793800"/>
            <a:ext cx="7705800" cy="521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4. Návrh monitorovacej metódy a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pis existujúcich metód a postupov (odkaz na zdroj) a zhodnotenie ich využiteľnosti vo vzťahu k cieľom monitoringu a materiálnym a personálnym možnostiam ŠOP S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spracovanie minimálneho a optimálneho variantu metodiky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ípadne viac variantov) a načrtnutie ich silných a slabých stránok. Metóda: Nenáročná na zber a spracovanie údajov alebo zaznamenávanie pozorovaných javov. Podrobný opis terénneho zberu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5640" y="836640"/>
            <a:ext cx="7345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5. Materiálne a personálne zabezpečen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     </a:t>
            </a:r>
            <a:r>
              <a:rPr b="1" lang="sk-SK" sz="2400" spc="-1" strike="noStrike" u="sng">
                <a:solidFill>
                  <a:srgbClr val="000000"/>
                </a:solidFill>
                <a:uFillTx/>
                <a:latin typeface="Tahoma"/>
              </a:rPr>
              <a:t>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reálny náčrt potrebného materiálneho, technického, finančného a personálneho zabezpečenia pre navrhovanú metodiku, s ohľadom na nutnosť dlhodobého monitoring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10920" y="838080"/>
            <a:ext cx="6491160" cy="5904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CS živočíchov v číslach:</a:t>
            </a:r>
            <a:r>
              <a:rPr b="1" lang="en-US" sz="2400" spc="-1" strike="noStrike">
                <a:solidFill>
                  <a:srgbClr val="000000"/>
                </a:solidFill>
                <a:latin typeface="Tahoma"/>
              </a:rPr>
              <a:t> </a:t>
            </a:r>
            <a:endParaRPr b="0" lang="en-US" sz="2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šetkých druhov: 235</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skupín (lídrov): 5/6</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vypracovávateľov,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lupracovníkov a oponentov: 60</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čet zapojených organizácií: 1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 descr=""/>
          <p:cNvPicPr/>
          <p:nvPr/>
        </p:nvPicPr>
        <p:blipFill>
          <a:blip r:embed="rId2"/>
          <a:stretch/>
        </p:blipFill>
        <p:spPr>
          <a:xfrm>
            <a:off x="7350120" y="3284640"/>
            <a:ext cx="1793880" cy="3573360"/>
          </a:xfrm>
          <a:prstGeom prst="rect">
            <a:avLst/>
          </a:prstGeom>
          <a:ln w="0">
            <a:noFill/>
          </a:ln>
        </p:spPr>
      </p:pic>
      <p:pic>
        <p:nvPicPr>
          <p:cNvPr id="88" name="" descr="">
            <a:hlinkClick r:id="rId3"/>
          </p:cNvPr>
          <p:cNvPicPr/>
          <p:nvPr/>
        </p:nvPicPr>
        <p:blipFill>
          <a:blip r:embed="rId4"/>
          <a:stretch/>
        </p:blipFill>
        <p:spPr>
          <a:xfrm>
            <a:off x="7020000" y="3645000"/>
            <a:ext cx="623880" cy="1008000"/>
          </a:xfrm>
          <a:prstGeom prst="rect">
            <a:avLst/>
          </a:prstGeom>
          <a:ln w="0">
            <a:noFill/>
          </a:ln>
        </p:spPr>
      </p:pic>
      <p:pic>
        <p:nvPicPr>
          <p:cNvPr id="89" name="" descr=""/>
          <p:cNvPicPr/>
          <p:nvPr/>
        </p:nvPicPr>
        <p:blipFill>
          <a:blip r:embed="rId5"/>
          <a:stretch/>
        </p:blipFill>
        <p:spPr>
          <a:xfrm>
            <a:off x="7331040" y="0"/>
            <a:ext cx="1812960" cy="3322800"/>
          </a:xfrm>
          <a:prstGeom prst="rect">
            <a:avLst/>
          </a:prstGeom>
          <a:ln w="0">
            <a:noFill/>
          </a:ln>
        </p:spPr>
      </p:pic>
      <p:pic>
        <p:nvPicPr>
          <p:cNvPr id="90" name="" descr="">
            <a:hlinkClick r:id="rId6"/>
          </p:cNvPr>
          <p:cNvPicPr/>
          <p:nvPr/>
        </p:nvPicPr>
        <p:blipFill>
          <a:blip r:embed="rId7"/>
          <a:stretch/>
        </p:blipFill>
        <p:spPr>
          <a:xfrm>
            <a:off x="6948360" y="1557360"/>
            <a:ext cx="773280" cy="798480"/>
          </a:xfrm>
          <a:prstGeom prst="rect">
            <a:avLst/>
          </a:prstGeom>
          <a:ln w="0">
            <a:noFill/>
          </a:ln>
        </p:spPr>
      </p:pic>
      <p:graphicFrame>
        <p:nvGraphicFramePr>
          <p:cNvPr id="91" name=""/>
          <p:cNvGraphicFramePr/>
          <p:nvPr/>
        </p:nvGraphicFramePr>
        <p:xfrm>
          <a:off x="6948360" y="5283360"/>
          <a:ext cx="787680" cy="1574640"/>
        </p:xfrm>
        <a:graphic>
          <a:graphicData uri="http://schemas.openxmlformats.org/presentationml/2006/ole">
            <p:oleObj r:id="rId8" spid="">
              <p:embed/>
              <p:pic>
                <p:nvPicPr>
                  <p:cNvPr id="92" name="" descr=""/>
                  <p:cNvPicPr/>
                  <p:nvPr/>
                </p:nvPicPr>
                <p:blipFill>
                  <a:blip r:embed="rId9"/>
                  <a:stretch/>
                </p:blipFill>
                <p:spPr>
                  <a:xfrm>
                    <a:off x="6948360" y="5283360"/>
                    <a:ext cx="787680" cy="1574640"/>
                  </a:xfrm>
                  <a:prstGeom prst="rect">
                    <a:avLst/>
                  </a:prstGeom>
                  <a:ln w="0">
                    <a:noFill/>
                  </a:ln>
                </p:spPr>
              </p:pic>
            </p:oleObj>
          </a:graphicData>
        </a:graphic>
      </p:graphicFrame>
      <p:graphicFrame>
        <p:nvGraphicFramePr>
          <p:cNvPr id="93" name=""/>
          <p:cNvGraphicFramePr/>
          <p:nvPr/>
        </p:nvGraphicFramePr>
        <p:xfrm>
          <a:off x="7020000" y="2924280"/>
          <a:ext cx="671400" cy="807840"/>
        </p:xfrm>
        <a:graphic>
          <a:graphicData uri="http://schemas.openxmlformats.org/presentationml/2006/ole">
            <p:oleObj r:id="rId10" spid="">
              <p:embed/>
              <p:pic>
                <p:nvPicPr>
                  <p:cNvPr id="94" name="" descr=""/>
                  <p:cNvPicPr/>
                  <p:nvPr/>
                </p:nvPicPr>
                <p:blipFill>
                  <a:blip r:embed="rId11"/>
                  <a:stretch/>
                </p:blipFill>
                <p:spPr>
                  <a:xfrm>
                    <a:off x="7020000" y="2924280"/>
                    <a:ext cx="671400" cy="807840"/>
                  </a:xfrm>
                  <a:prstGeom prst="rect">
                    <a:avLst/>
                  </a:prstGeom>
                  <a:ln w="0">
                    <a:noFill/>
                  </a:ln>
                </p:spPr>
              </p:pic>
            </p:oleObj>
          </a:graphicData>
        </a:graphic>
      </p:graphicFrame>
      <p:pic>
        <p:nvPicPr>
          <p:cNvPr id="95" name="" descr="">
            <a:hlinkClick r:id="rId12"/>
          </p:cNvPr>
          <p:cNvPicPr/>
          <p:nvPr/>
        </p:nvPicPr>
        <p:blipFill>
          <a:blip r:embed="rId13"/>
          <a:stretch/>
        </p:blipFill>
        <p:spPr>
          <a:xfrm>
            <a:off x="6877080" y="2349360"/>
            <a:ext cx="863640" cy="619200"/>
          </a:xfrm>
          <a:prstGeom prst="rect">
            <a:avLst/>
          </a:prstGeom>
          <a:ln w="0">
            <a:noFill/>
          </a:ln>
        </p:spPr>
      </p:pic>
      <p:pic>
        <p:nvPicPr>
          <p:cNvPr id="96" name="" descr=""/>
          <p:cNvPicPr/>
          <p:nvPr/>
        </p:nvPicPr>
        <p:blipFill>
          <a:blip r:embed="rId14"/>
          <a:stretch/>
        </p:blipFill>
        <p:spPr>
          <a:xfrm>
            <a:off x="7101000" y="260280"/>
            <a:ext cx="566640" cy="765360"/>
          </a:xfrm>
          <a:prstGeom prst="rect">
            <a:avLst/>
          </a:prstGeom>
          <a:ln w="0">
            <a:noFill/>
          </a:ln>
        </p:spPr>
      </p:pic>
      <p:pic>
        <p:nvPicPr>
          <p:cNvPr id="97" name="" descr=""/>
          <p:cNvPicPr/>
          <p:nvPr/>
        </p:nvPicPr>
        <p:blipFill>
          <a:blip r:embed="rId15"/>
          <a:stretch/>
        </p:blipFill>
        <p:spPr>
          <a:xfrm>
            <a:off x="6804000" y="0"/>
            <a:ext cx="1163520" cy="689040"/>
          </a:xfrm>
          <a:prstGeom prst="rect">
            <a:avLst/>
          </a:prstGeom>
          <a:ln w="0">
            <a:noFill/>
          </a:ln>
        </p:spPr>
      </p:pic>
      <p:pic>
        <p:nvPicPr>
          <p:cNvPr id="98" name="" descr=""/>
          <p:cNvPicPr/>
          <p:nvPr/>
        </p:nvPicPr>
        <p:blipFill>
          <a:blip r:embed="rId16"/>
          <a:stretch/>
        </p:blipFill>
        <p:spPr>
          <a:xfrm>
            <a:off x="6948360" y="795240"/>
            <a:ext cx="762120" cy="762120"/>
          </a:xfrm>
          <a:prstGeom prst="rect">
            <a:avLst/>
          </a:prstGeom>
          <a:ln w="0">
            <a:noFill/>
          </a:ln>
        </p:spPr>
      </p:pic>
      <p:pic>
        <p:nvPicPr>
          <p:cNvPr id="99" name="" descr=""/>
          <p:cNvPicPr/>
          <p:nvPr/>
        </p:nvPicPr>
        <p:blipFill>
          <a:blip r:embed="rId17"/>
          <a:stretch/>
        </p:blipFill>
        <p:spPr>
          <a:xfrm>
            <a:off x="6948360" y="4508640"/>
            <a:ext cx="811440" cy="811080"/>
          </a:xfrm>
          <a:prstGeom prst="rect">
            <a:avLst/>
          </a:prstGeom>
          <a:ln w="0">
            <a:noFill/>
          </a:ln>
        </p:spPr>
      </p:pic>
      <p:pic>
        <p:nvPicPr>
          <p:cNvPr id="100" name="" descr="Znak fakulty"/>
          <p:cNvPicPr/>
          <p:nvPr/>
        </p:nvPicPr>
        <p:blipFill>
          <a:blip r:embed="rId18"/>
          <a:stretch/>
        </p:blipFill>
        <p:spPr>
          <a:xfrm>
            <a:off x="6948360" y="5643720"/>
            <a:ext cx="809640" cy="8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9" presetSubtype="10">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50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38280" y="620640"/>
            <a:ext cx="8110440" cy="582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Tahoma"/>
              </a:rPr>
              <a:t>6. Vyhodnocovanie a kontrola úda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tvorenie mechanizmu zberu a vyhodnocovania dát z monitoring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doterajších štatistických metód spracovania, v dôsledku množstva spracovávaných dá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užitie existujúcich databáz a GIS vrstiev s ich prepracovaním, alebo doplnením pre účely monitoringu živočíšnych druh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utnosť digitálneho spracovania a vyhodnocovania výsledk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rPr>
              <a:t>Dáta špecifických druhov, ktorými sa podobnejšie nezaoberajú pracovníci ŠOP SR, predkladať na verifikáciu externému odborníkovi za príslušnú skupinu živočíchov, ktorý vykoná analýzu terénnych údajov. Dáta nejednoznačné, sporné, neisté, problematické alebo otázne odborník konzultuje priamo s terénnym pracovníkom.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4360" y="549360"/>
            <a:ext cx="7775280" cy="692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7. Testovanie navrhnutej metodik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návrh vhodného spôsobu praktického preverenia navrhnutej metodiky,</a:t>
            </a:r>
            <a:endParaRPr b="0" lang="en-US" sz="24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kiaľ je možné považovať navrhovaný spôsob (postup) za v praxi overený, len citovať zdroj, prípadne stručne komentovať výsledky jej praktického overovania či využív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8. Manažmentové odporúča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návrh ochranných opatrení nutných pre zabezpečenie priaznivého stavu druhu, ktoré by sa mali premietnuť do programov starostlivosti o chránené územi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u="sng">
                <a:solidFill>
                  <a:srgbClr val="000000"/>
                </a:solidFill>
                <a:uFillTx/>
                <a:latin typeface="Tahoma"/>
              </a:rPr>
              <a:t>9. Prehľad použitých základných informačných zdrojov:</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31640" y="765000"/>
            <a:ext cx="8461440" cy="606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u="sng">
                <a:solidFill>
                  <a:srgbClr val="000000"/>
                </a:solidFill>
                <a:uFillTx/>
                <a:latin typeface="Tahoma"/>
              </a:rPr>
              <a:t>Využitie výsledkov monitoringu vo vzťahu k Smerniciam:</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zistenie a dohľad nad stavom druhov a biotopov (čl.11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2. nasmerovanie manažmentu druhov a biotopov (čl.2 BD a čl.6, 10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3. prijímanie okamžitých opatrení (čl.3, 4, 5 BD a čl.12, 13, 14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4. identifikácia účinkov manažmentových opatrení (čl.13 BD a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5. identifikácia rozhodujúcich vplyvov a zmien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6. podpora výskumu (čl. 10 BD a čl.18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7. reporting EK (čl.12 BD a čl.17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8. komplexné zhodnotenie na úrovni EÚ (čl.9 H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2276280"/>
            <a:ext cx="58435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Ďakujem za pozornosť</a:t>
            </a:r>
            <a:endParaRPr b="0" lang="en-US" sz="4400" spc="-1" strike="noStrike">
              <a:solidFill>
                <a:srgbClr val="ffffff"/>
              </a:solidFill>
              <a:latin typeface="Tahoma"/>
            </a:endParaRPr>
          </a:p>
        </p:txBody>
      </p:sp>
      <p:pic>
        <p:nvPicPr>
          <p:cNvPr id="134" name="" descr=""/>
          <p:cNvPicPr/>
          <p:nvPr/>
        </p:nvPicPr>
        <p:blipFill>
          <a:blip r:embed="rId2"/>
          <a:stretch/>
        </p:blipFill>
        <p:spPr>
          <a:xfrm>
            <a:off x="6877080" y="5157720"/>
            <a:ext cx="1200240" cy="996840"/>
          </a:xfrm>
          <a:prstGeom prst="rect">
            <a:avLst/>
          </a:prstGeom>
          <a:ln w="0">
            <a:noFill/>
          </a:ln>
        </p:spPr>
      </p:pic>
      <p:pic>
        <p:nvPicPr>
          <p:cNvPr id="135" name="" descr=""/>
          <p:cNvPicPr/>
          <p:nvPr/>
        </p:nvPicPr>
        <p:blipFill>
          <a:blip r:embed="rId3"/>
          <a:stretch/>
        </p:blipFill>
        <p:spPr>
          <a:xfrm>
            <a:off x="971640" y="5013360"/>
            <a:ext cx="819000" cy="110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757080" y="1700280"/>
            <a:ext cx="7775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acerta viridis </a:t>
            </a:r>
            <a:r>
              <a:rPr b="1" lang="sk-SK" sz="1800" spc="-1" strike="noStrike">
                <a:solidFill>
                  <a:srgbClr val="000000"/>
                </a:solidFill>
                <a:latin typeface="Tahoma"/>
              </a:rPr>
              <a:t>(Laurenti, 176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 Repti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Squamat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cert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olytypický druh  s 2.  poddruhmi. Na Slovensku žije nominotypický poddruh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r>
              <a:rPr b="1" lang="sk-SK" sz="1800" spc="-1" strike="noStrike">
                <a:solidFill>
                  <a:srgbClr val="000000"/>
                </a:solidFill>
                <a:latin typeface="Tahoma"/>
              </a:rPr>
              <a:t>:</a:t>
            </a:r>
            <a:r>
              <a:rPr b="0" lang="sk-SK" sz="1800" spc="-1" strike="noStrike">
                <a:solidFill>
                  <a:srgbClr val="000000"/>
                </a:solidFill>
                <a:latin typeface="Tahoma"/>
              </a:rPr>
              <a:t> Európa – Od Poľska po Grécko, od Slovinska po Dneper a Tureck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1" lang="sk-SK" sz="1800" spc="-1" strike="noStrike">
                <a:solidFill>
                  <a:srgbClr val="000000"/>
                </a:solidFill>
                <a:latin typeface="Tahoma"/>
              </a:rPr>
              <a:t>:</a:t>
            </a:r>
            <a:r>
              <a:rPr b="0" lang="sk-SK" sz="1800" spc="-1" strike="noStrike">
                <a:solidFill>
                  <a:srgbClr val="000000"/>
                </a:solidFill>
                <a:latin typeface="Tahoma"/>
              </a:rPr>
              <a:t> Teplomilný druh vyskytuje sa v stepných a lesostepných lokalitách spravidla na južne orientovaných svahoch teplých pohorí a pahorkatín. Dolinami riek zasahuje až na stredné Považie, popri Hrone až k Banskej Bystrici, južné svahy Poľany, Slovenský a Drienčanský kras, južné svahy Vihorlatu. Na našom území zriedka prekračuje izohypsu 600 m.n.m., na Muráni bola zaznamenaná až vo výške 1000 m.n.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Stepné a lesostepné lúky, škrapové oblasti, kamenné sute, vinohrady, záhrady, násypy opustených lomy, okraje lesov a rúbaniská.</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1" lang="sk-SK" sz="1800" spc="-1" strike="noStrike">
                <a:solidFill>
                  <a:srgbClr val="000000"/>
                </a:solidFill>
                <a:latin typeface="Tahoma"/>
              </a:rPr>
              <a:t>:</a:t>
            </a:r>
            <a:r>
              <a:rPr b="0" lang="sk-SK" sz="1800" spc="-1" strike="noStrike">
                <a:solidFill>
                  <a:srgbClr val="000000"/>
                </a:solidFill>
                <a:latin typeface="Tahoma"/>
              </a:rPr>
              <a:t> 4b, 6a  (24/2003 Z.z.),  Bern 2, HD 4,  VU</a:t>
            </a:r>
            <a:endParaRPr b="0" lang="en-US" sz="1800" spc="-1" strike="noStrike">
              <a:solidFill>
                <a:srgbClr val="ffffff"/>
              </a:solidFill>
              <a:latin typeface="Arial"/>
            </a:endParaRPr>
          </a:p>
        </p:txBody>
      </p:sp>
      <p:sp>
        <p:nvSpPr>
          <p:cNvPr id="102" name=""/>
          <p:cNvSpPr/>
          <p:nvPr/>
        </p:nvSpPr>
        <p:spPr>
          <a:xfrm>
            <a:off x="147636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jašterice zelenej (</a:t>
            </a:r>
            <a:r>
              <a:rPr b="1" i="1" lang="sk-SK" sz="2400" spc="-1" strike="noStrike">
                <a:solidFill>
                  <a:srgbClr val="000000"/>
                </a:solidFill>
                <a:latin typeface="Tahoma"/>
              </a:rPr>
              <a:t>Lacerta viridis</a:t>
            </a:r>
            <a:r>
              <a:rPr b="1" lang="sk-SK" sz="2400" spc="-1" strike="noStrike">
                <a:solidFill>
                  <a:srgbClr val="000000"/>
                </a:solidFill>
                <a:latin typeface="Tahoma"/>
              </a:rPr>
              <a:t>)</a:t>
            </a:r>
            <a:endParaRPr b="0" lang="en-US" sz="2400" spc="-1" strike="noStrike">
              <a:solidFill>
                <a:srgbClr val="ffffff"/>
              </a:solidFill>
              <a:latin typeface="Arial"/>
            </a:endParaRPr>
          </a:p>
        </p:txBody>
      </p:sp>
      <p:graphicFrame>
        <p:nvGraphicFramePr>
          <p:cNvPr id="103" name=""/>
          <p:cNvGraphicFramePr/>
          <p:nvPr/>
        </p:nvGraphicFramePr>
        <p:xfrm>
          <a:off x="5940360" y="1555920"/>
          <a:ext cx="1554120" cy="1081080"/>
        </p:xfrm>
        <a:graphic>
          <a:graphicData uri="http://schemas.openxmlformats.org/presentationml/2006/ole">
            <p:oleObj r:id="rId2" spid="">
              <p:embed/>
              <p:pic>
                <p:nvPicPr>
                  <p:cNvPr id="104" name="" descr=""/>
                  <p:cNvPicPr/>
                  <p:nvPr/>
                </p:nvPicPr>
                <p:blipFill>
                  <a:blip r:embed="rId3"/>
                  <a:stretch/>
                </p:blipFill>
                <p:spPr>
                  <a:xfrm>
                    <a:off x="5940360" y="1555920"/>
                    <a:ext cx="155412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254160" y="476280"/>
          <a:ext cx="8494560" cy="6168960"/>
        </p:xfrm>
        <a:graphic>
          <a:graphicData uri="http://schemas.openxmlformats.org/drawingml/2006/table">
            <a:tbl>
              <a:tblPr/>
              <a:tblGrid>
                <a:gridCol w="634680"/>
                <a:gridCol w="1338480"/>
                <a:gridCol w="2073240"/>
                <a:gridCol w="2274840"/>
                <a:gridCol w="2173320"/>
              </a:tblGrid>
              <a:tr h="33732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row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hustota, dynamika populácie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znamenávaný pri každej návšteve  lokality. Juvenilné jedince sú pravidelne zaznamenávané.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Druh je zanamenávaný nepravidelne, v malých počtoch.. Reprodukcia zriedkav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prítomný, náhodný výskyt, veľmi vzácny výskyt</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štruktúr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avidelne zaznamenávané všetky vývojové štádi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pravidelne zaznamenávané jedince spravidla len dospelé. Juvenilné jedince zriedkavé alebo chýbajú</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ojedinelé výskyty adultných jedincov, absencia výskytu</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veľkosť, trend a kontinuita areálu</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ľký, stabilný vo vnútri , alebo zväčšujúci sa areál  na okraji celkov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stabilný, pomaly sa zmenšujúci  areál, okrajový pulzujúci areál na okraji geografického, hypsometrického rozšíren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malý, výrazne sa zmenšujúci, degradovaný, zanikajúci, neexistujúci areá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Tahoma"/>
                          <a:ea typeface="Times New Roman"/>
                        </a:rPr>
                        <a:t>prepojenosť / izolácia populác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v blízkosti ďalších populácií, vzájomná migrácia jedincov jednoduch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na okraji výskytu, čiastočná izolácia (prekážka, väčšia vzdialenosť),  od ostatných populácií,  vzájomná migrácia obmedzená</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opulácia izolovaná, žiadna migrác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6" name=""/>
          <p:cNvGraphicFramePr/>
          <p:nvPr/>
        </p:nvGraphicFramePr>
        <p:xfrm>
          <a:off x="322200" y="620640"/>
          <a:ext cx="8497800" cy="5423040"/>
        </p:xfrm>
        <a:graphic>
          <a:graphicData uri="http://schemas.openxmlformats.org/drawingml/2006/table">
            <a:tbl>
              <a:tblPr/>
              <a:tblGrid>
                <a:gridCol w="744480"/>
                <a:gridCol w="1189080"/>
                <a:gridCol w="2006640"/>
                <a:gridCol w="2254320"/>
                <a:gridCol w="2303280"/>
              </a:tblGrid>
              <a:tr h="360360">
                <a:tc gridSpan="2"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rPr>
                        <a:t>Kritéria hodnoteni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1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av biotopu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dobrý stav optimálna veľkosť, pôvodný, alebo pôvodnému stavu podobný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uboptimálna veľkosť, sukcesia , nepôvodný – vhodný, čiastočne nevyhovujúci</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nevyhovujúci, malý,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silná sukces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6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Z</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iotopu a populáci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negatívne vplyvy nie sú, lokality v dostatočnej vzdialenosti od chemicky ošetrovanej krajin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ahoma"/>
                          <a:ea typeface="Times New Roman"/>
                        </a:rPr>
                        <a:t>časté antropogénne vplyvy:  lesnícka,  urbanistická, poľnohospodárska činnosť v blízkom okolí, rekreačný tlak</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ilné negatívne vplyvy, degradované, nevhodné biotop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684360" y="119700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anažmentové opatrenia potrebné pre zachovanie priaznivého stavu druhu:</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Zachovanie pôvodných lesostepných, biotopov, obmedzenie chemizácie krajiny. V období aktivity zákaz vypaľovania trávy a podrastov.  Obmedzenie sukcesie trávnato krovinatých, xerotermných lokalí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Monitoring:</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erénny prieskum vhodných lokalít, pozorovanie, sčítavanie, odchyt do rúk alebo pomocou slučky, dokumentác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pracoval: RNDr. Ján Kautm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754200" y="1273320"/>
            <a:ext cx="7921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1800" spc="-1" strike="noStrike">
                <a:solidFill>
                  <a:srgbClr val="000000"/>
                </a:solidFill>
                <a:latin typeface="Tahoma"/>
              </a:rPr>
              <a:t>Lutra lutra </a:t>
            </a:r>
            <a:r>
              <a:rPr b="1" lang="sk-SK" sz="1800" spc="-1" strike="noStrike">
                <a:solidFill>
                  <a:srgbClr val="000000"/>
                </a:solidFill>
                <a:latin typeface="Tahoma"/>
              </a:rPr>
              <a:t>(Linnaeus, 1758)</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rieda: cicavce (Mammal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rad: šelmotvaré (Carnivo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čeľaď: lasicovité (Mustelida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Celkový areál rozšíren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Vo väčšine Európy, hlavne v jej východnej časti, v západnej časti Pyrenejského polostrova, vo Francúzsku a na Britských ostrovoch, v Ázii po japonské ostrovy, Sumatru a Jávu a tiež v severnej Afri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Rozšírenie na Slovensku:</a:t>
            </a:r>
            <a:r>
              <a:rPr b="0" lang="sk-SK" sz="1800" spc="-1" strike="noStrike">
                <a:solidFill>
                  <a:srgbClr val="000000"/>
                </a:solidFill>
                <a:latin typeface="Tahoma"/>
              </a:rPr>
              <a:t> Na takmer celom území Slovenska s výnimkou jeho západnej a juhovýchodnej čas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Biotop:</a:t>
            </a:r>
            <a:r>
              <a:rPr b="0" lang="sk-SK" sz="1800" spc="-1" strike="noStrike">
                <a:solidFill>
                  <a:srgbClr val="000000"/>
                </a:solidFill>
                <a:latin typeface="Tahoma"/>
              </a:rPr>
              <a:t> Všetky typy tečúcich a stojatých čistých na ryby bohatých vôd, predovšetkým stredné úseky riek s bohatou štruktúrou pobrežia, najmä zákrutami, meandrami, podmytými brehmi a hustým zárast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Status ohrozenosti druhu:</a:t>
            </a:r>
            <a:r>
              <a:rPr b="0" lang="sk-SK" sz="1800" spc="-1" strike="noStrike">
                <a:solidFill>
                  <a:srgbClr val="000000"/>
                </a:solidFill>
                <a:latin typeface="Tahoma"/>
              </a:rPr>
              <a:t> podľa IUCN: V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Zaradenie do národnej a medzinárodnej legislatív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príloha vyhlášky MŽP SR č. 24/2003 Z.z. 4b, 6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HD 2, HD 4, Be 2, W 1, E</a:t>
            </a:r>
            <a:endParaRPr b="0" lang="en-US" sz="1800" spc="-1" strike="noStrike">
              <a:solidFill>
                <a:srgbClr val="ffffff"/>
              </a:solidFill>
              <a:latin typeface="Arial"/>
            </a:endParaRPr>
          </a:p>
        </p:txBody>
      </p:sp>
      <p:sp>
        <p:nvSpPr>
          <p:cNvPr id="109" name=""/>
          <p:cNvSpPr/>
          <p:nvPr/>
        </p:nvSpPr>
        <p:spPr>
          <a:xfrm>
            <a:off x="1555920" y="476280"/>
            <a:ext cx="6400800" cy="792000"/>
          </a:xfrm>
          <a:prstGeom prst="roundRect">
            <a:avLst>
              <a:gd name="adj" fmla="val 16667"/>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Ukážka definície priaznivého stav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vydry riečnej </a:t>
            </a:r>
            <a:r>
              <a:rPr b="1" i="1" lang="sk-SK" sz="2400" spc="-1" strike="noStrike">
                <a:solidFill>
                  <a:srgbClr val="000000"/>
                </a:solidFill>
                <a:latin typeface="Tahoma"/>
              </a:rPr>
              <a:t>(Lutra lutra)</a:t>
            </a:r>
            <a:endParaRPr b="0" lang="en-US" sz="2400" spc="-1" strike="noStrike">
              <a:solidFill>
                <a:srgbClr val="ffffff"/>
              </a:solidFill>
              <a:latin typeface="Arial"/>
            </a:endParaRPr>
          </a:p>
        </p:txBody>
      </p:sp>
      <p:graphicFrame>
        <p:nvGraphicFramePr>
          <p:cNvPr id="110" name=""/>
          <p:cNvGraphicFramePr/>
          <p:nvPr/>
        </p:nvGraphicFramePr>
        <p:xfrm>
          <a:off x="5724360" y="1557360"/>
          <a:ext cx="1511640" cy="1209600"/>
        </p:xfrm>
        <a:graphic>
          <a:graphicData uri="http://schemas.openxmlformats.org/presentationml/2006/ole">
            <p:oleObj r:id="rId2" spid="">
              <p:embed/>
              <p:pic>
                <p:nvPicPr>
                  <p:cNvPr id="111" name="" descr=""/>
                  <p:cNvPicPr/>
                  <p:nvPr/>
                </p:nvPicPr>
                <p:blipFill>
                  <a:blip r:embed="rId3"/>
                  <a:stretch/>
                </p:blipFill>
                <p:spPr>
                  <a:xfrm>
                    <a:off x="5724360" y="1557360"/>
                    <a:ext cx="151164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384120" y="981000"/>
          <a:ext cx="8435520" cy="5113080"/>
        </p:xfrm>
        <a:graphic>
          <a:graphicData uri="http://schemas.openxmlformats.org/drawingml/2006/table">
            <a:tbl>
              <a:tblPr/>
              <a:tblGrid>
                <a:gridCol w="365040"/>
                <a:gridCol w="1715040"/>
                <a:gridCol w="2012400"/>
                <a:gridCol w="1944720"/>
                <a:gridCol w="2398320"/>
              </a:tblGrid>
              <a:tr h="48780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80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6621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OPULA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1.veľkosť populácie / populačná hustot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gt; 500 jedincov, resp. priemerná hustota &gt; 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200-500 jedincov, resp. priemerná hustota 2-10 jedincov/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Celková početnosť na území Slovenska &lt; 200 jedincov, resp. priemerná hustota &lt; 2 jedince/100 km tokov.</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8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2. populačný tre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eloslovenský/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progresívna, stúpa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je stabilná na úrovni prirodzenej fluktuácie so zmenami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opulácia resp. populačná hustota klesá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6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1.3. areálový tren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väč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je stabilný, mierne zmeny sú v rozsahu </a:t>
                      </a:r>
                      <a:r>
                        <a:rPr b="0" lang="cs-CZ" sz="1400" spc="-1" strike="noStrike" u="sng">
                          <a:solidFill>
                            <a:srgbClr val="000000"/>
                          </a:solidFill>
                          <a:uFillTx/>
                          <a:latin typeface="Tahoma"/>
                          <a:ea typeface="Times New Roman"/>
                        </a:rPr>
                        <a:t>+</a:t>
                      </a:r>
                      <a:r>
                        <a:rPr b="0" lang="cs-CZ" sz="1400" spc="-1" strike="noStrike">
                          <a:solidFill>
                            <a:srgbClr val="000000"/>
                          </a:solidFill>
                          <a:latin typeface="Tahoma"/>
                          <a:ea typeface="Times New Roman"/>
                        </a:rPr>
                        <a:t>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Areál sa zmenšuje o viac ako 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395280" y="836640"/>
          <a:ext cx="8497440" cy="5187960"/>
        </p:xfrm>
        <a:graphic>
          <a:graphicData uri="http://schemas.openxmlformats.org/drawingml/2006/table">
            <a:tbl>
              <a:tblPr/>
              <a:tblGrid>
                <a:gridCol w="367920"/>
                <a:gridCol w="1756800"/>
                <a:gridCol w="2124720"/>
                <a:gridCol w="2051280"/>
                <a:gridCol w="2196720"/>
              </a:tblGrid>
              <a:tr h="57924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itéria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 STA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               </a:t>
                      </a:r>
                      <a:r>
                        <a:rPr b="1" lang="cs-CZ" sz="1600" spc="-1" strike="noStrike">
                          <a:solidFill>
                            <a:srgbClr val="000000"/>
                          </a:solidFill>
                          <a:latin typeface="Tahoma"/>
                          <a:ea typeface="Times New Roman"/>
                        </a:rPr>
                        <a:t>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dobr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riemern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C</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nepriaznivý</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319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 </a:t>
                      </a:r>
                      <a:r>
                        <a:rPr b="1" lang="cs-CZ" sz="1800" spc="-1" strike="noStrike">
                          <a:solidFill>
                            <a:srgbClr val="000000"/>
                          </a:solidFill>
                          <a:latin typeface="Tahoma"/>
                          <a:ea typeface="Times New Roman"/>
                        </a:rPr>
                        <a:t>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1. reprodukč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predovšetkým stredné úseky riek s množstvom zákrut, meandrov, podmytými brehmi a hustým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brehy a  štruktúrované brehové porasty tečúcich a stojatých čistých vôd s množstvom zákrut, meandrov, podmytými brehmi a  zárastom.</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Brehy a bohato štruktúrované brehové porasty tečúcich a stojatých čistých vôd s množstvom zákrut, meandrov a hustým zárastom sú len sporadické.</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66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2.2. potravný 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Všetky typy tečúcich a stojatých čistých a na ryby bohatých vôd, predovšetkým stredné úseky riek a stredne veľké stojaté vody.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tečúce a stojaté čisté a na ryby bohaté vody, predovšetkým stredné úseky riek a stredne veľké stoj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ahoma"/>
                          <a:ea typeface="Times New Roman"/>
                        </a:rPr>
                        <a:t>Prevládajú iné ako tečúce a stojaté čisté a na ryby bohaté vod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Saxa</cp:lastModifiedBy>
  <dcterms:modified xsi:type="dcterms:W3CDTF">2004-11-22T07:24:05Z</dcterms:modified>
  <cp:revision>75</cp:revision>
  <dc:subject/>
  <dc:title>Snímek 1</dc:title>
</cp:coreProperties>
</file>