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D7A-A4E6-4CF4-B6AE-5D3993C4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CD9-433F-446E-8174-902B808A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B10-37A9-4D83-B111-79D300D0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E54-22A9-475F-8CA0-67554743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6EF-526C-4C9C-AD11-1D30F41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46D-E625-4683-B023-891E881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9B2-6332-4DFF-A2F5-FB55033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4E4-9FDA-4E86-9374-020E6FBB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F7A-1F50-48B6-8B41-F3753662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CD1-5F2E-46AE-A2EA-43CE1EE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064-7DDB-46FE-8A45-9A79B04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65E9-8878-4747-93C6-66B6773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B156-588C-42F6-A40A-7A702CF097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1. Rozsah monitoringu: KOĽKO, KEDY a KD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) Výber populác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hrozené, lokalizované, koloniálne druhy 100% populác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týlené druhy – dbať na dostatočnú veľkosť vzo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Priestor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ifikovaný výber vzoriek – plôch s dôrazom na CHVU, biogeografické regióny, pokrytie biotopov, Slovenska, dostupnosť mapov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Čas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niezdne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imné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gráci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Frekvencia monitoring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KO Č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5986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álne ročná period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iel môže  byť pri monitorovaní niektorých parame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997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3. Návrh monitorovaných ukazovateľov: Č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58136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ritériá a subkritériá použité pri definovaní priaznivého stavu druho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4. Návrh monitorovacej metódy a zberu dá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A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o najviac využiť existujúce programy a aktivity monitorujúce vtác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hrozené, lokalizované, koloniálne druhy – špeciálne met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ozptýlené druhy – bodový transekt, (mapovacia metóda, prípadne iná kompatibiln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odné zhromažďujúce sa dr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imné sčítanie vodného vtáctva (pásov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tóda dvoch kontrol / hladinové sčítanie (hniezdne obdob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Materiálne a personálne zabezpečenie monitoringu: Č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01280"/>
            <a:ext cx="842472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ersonálne zabezpečenie (počet sčítavateľov, odborn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treba školenia v použití metodík odbor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chova budúcich spolu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roky na finančné zabezpeč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koordinova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6. Vyhodnocovanie a kontrola údajo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y zber, štandardizácia, verifikácia a spracovanie d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borný gar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ytik, správca databá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7. Testovanie navrhnutej metodi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potrebné testovacie obdobie (okrem niektorých skupín) min.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8. Manažmentové odporúčan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ližšia špecifikácia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islav Rybanič</cp:lastModifiedBy>
  <dcterms:modified xsi:type="dcterms:W3CDTF">2004-11-16T10:56:58Z</dcterms:modified>
  <cp:revision>5</cp:revision>
  <dc:subject/>
  <dc:title>Metodika monitoringu vybraných druhov vtákov - poznámky</dc:title>
</cp:coreProperties>
</file>