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602-605F-471A-84B0-A2A1F234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DB9-5015-4197-AEBE-5E5CEA5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164-DFB4-4F94-92B2-64F85F04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1D5-9ED9-4B9B-AB4A-3749D9AF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F52-5E72-42DA-9B48-7EB7276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A5E-FF28-48FC-BD19-975CE333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FF5-6C23-4308-B3B6-54F9830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803-7247-4D35-9A47-9C18C8E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EF5-C084-4044-9B9E-3DC0F12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9BC-F777-4ABD-BA0C-72461B9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1A1-57E7-4514-8028-E0E2755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70-D0A1-4CC6-BD70-8D6D0C0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831A-136D-447B-8BDA-F53625FD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ieľe monitoro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chceme dosiahnu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o sledovať či sú vtáky v priaznivom stave a či a ako na ich stav pôsobia prijaté manažmentové 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majú získané údaje a výstupy slúži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spracovanie početností populácií, ich zmien a trendov (vrátane areálový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posúdenie odozvy populácií n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pokrytia populá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98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vzácnych, ohrozených a  koloniálnych druhoch sa dajú monitorovať celé populácie (orol kráľovský, rybár rieč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berové metódy sa použijú pri rozptýlených druhoch (lesné spevavce, druhy otvorenej krajiny, ďatlov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zhromažďujúcich sa druhoch (vodné vtáky) sa uskutoční monitoring vybraných území (sčítanie vodného vtác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výberu metó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ornitológia je vybavená odskúšanými kvantitatívnymi metó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ódy monitoringu vtákov musia byť  jednoducho a rýchlo vykonate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olené metódy musia byť navzájom porovnateľné med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ázky výberu monitorovaných lokalí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hodný / stratifikovaný vý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onitorovanie lokalít v rámci i mimo území Natura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všetkých biogeografických častí Sloven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ber a spracovanie d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ber dát – najlepšie v elektronickej pod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rifikácia dát a ich zhromažďovanie v data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spracovanie dát ich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ätná väzba doručenie výstupov sčítavateľom a správcom jednotlivých území, resp. príslušným pracoviskám ŠOP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o</cp:lastModifiedBy>
  <dcterms:modified xsi:type="dcterms:W3CDTF">2004-11-15T10:20:24Z</dcterms:modified>
  <cp:revision>3</cp:revision>
  <dc:subject/>
  <dc:title>Metodika monitoringu vybraných druhov vtákov - poznámky</dc:title>
</cp:coreProperties>
</file>