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6F4A-A18C-48A0-8605-DDE7A06B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3592-D818-4F7A-9376-49075E51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2147-0298-4F41-A219-4748C7B4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C3F-39D6-4E12-B956-E227D85A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7BA-8E49-40D8-9603-F3CBE8B4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440" y="1519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01F9-47B1-44F5-86BB-51E324E4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F5E5-780D-45E9-9743-E3B37367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0392-2B82-4677-882C-DBE8FF7D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E6AF-D5C0-41FE-BA68-397E572A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D49E-C1EB-404B-9A32-1C0A95E7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D332-7B2B-40B8-9D85-2A0FDD32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7E2-959E-494F-8FB2-91FB9414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440" y="1519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721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265A-2E43-4F73-BDC9-53672E9D8E48}" type="datetime">
              <a:rPr b="0" lang="en-CA" sz="1400" spc="-1" strike="noStrike">
                <a:solidFill>
                  <a:srgbClr val="5e574e"/>
                </a:solidFill>
                <a:latin typeface="Arial"/>
              </a:rPr>
              <a:t>26-07-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9A47-1C4F-4497-AC1B-45F7D4CB54B2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721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Návrh metodiky monitoringu</a:t>
            </a:r>
            <a:br>
              <a:rPr sz="2800"/>
            </a:b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Netopie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2" name="P7080017a" descr=""/>
          <p:cNvPicPr/>
          <p:nvPr/>
        </p:nvPicPr>
        <p:blipFill>
          <a:blip r:embed="rId1"/>
          <a:stretch/>
        </p:blipFill>
        <p:spPr>
          <a:xfrm>
            <a:off x="3124080" y="234324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80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Uchaňa čierna (</a:t>
            </a:r>
            <a:r>
              <a:rPr b="0" i="1" lang="sk-SK" sz="2800" spc="-1" strike="noStrike">
                <a:solidFill>
                  <a:srgbClr val="000000"/>
                </a:solidFill>
                <a:latin typeface="Arial Black"/>
              </a:rPr>
              <a:t>Barbastella barbastellus</a:t>
            </a: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y a podzemné úkry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80182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Netopier obyčajný (</a:t>
            </a:r>
            <a:r>
              <a:rPr b="0" i="1" lang="sk-SK" sz="2800" spc="-1" strike="noStrike">
                <a:solidFill>
                  <a:srgbClr val="000000"/>
                </a:solidFill>
                <a:latin typeface="Arial Black"/>
              </a:rPr>
              <a:t>Myotis myotis</a:t>
            </a: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dkrovia a podzemné úkry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80182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Raniak malý (</a:t>
            </a:r>
            <a:r>
              <a:rPr b="0" i="1" lang="sk-SK" sz="2800" spc="-1" strike="noStrike">
                <a:solidFill>
                  <a:srgbClr val="000000"/>
                </a:solidFill>
                <a:latin typeface="Arial Black"/>
              </a:rPr>
              <a:t>Nyctalus leisleri</a:t>
            </a: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801828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Časový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 harmonogra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79250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dhadované náklad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42924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4T12:09:35Z</dcterms:created>
  <dc:creator>PC</dc:creator>
  <dc:description/>
  <dc:language>en-US</dc:language>
  <cp:lastModifiedBy>PC</cp:lastModifiedBy>
  <dcterms:modified xsi:type="dcterms:W3CDTF">2004-11-14T17:08:38Z</dcterms:modified>
  <cp:revision>8</cp:revision>
  <dc:subject/>
  <dc:title>Návrh metodiky monitoringu - netopiere</dc:title>
</cp:coreProperties>
</file>