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478-530C-4E02-ADDD-F1F8B377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D91-5595-4C92-A707-0E05EED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BF0-EF56-4018-8E15-32D7A5B2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81C-CDAE-45B7-B659-0C48728C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A1E-79AC-4F6F-92CA-A4EBF23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278-3606-4F23-AD30-7DCD19A1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71E-AF86-4656-86A4-2BC467B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91E-E2DF-4E56-B5C0-D6EFC794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E65-CCF8-4620-A704-679AA95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3BE-7BB7-4333-B05D-2E49087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7AB-0AB1-4B0C-BADD-0AF38FE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9E6-892C-4C6F-9A22-B4585A8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02A2-9AAB-4E58-B762-4106BF79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 s druhmi ako Pnat , ktoré majú veľmi malý are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ľuch - návrh rozmiestniť body LMS v rastri DFS (kvadráty vytvorené zlúčen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štvor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u optimalizovať vzhľadom na maximalizáciu získaných druhových registrác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ov LMS – proporciálne podľa vegetačných stupňov a ich percentuálneho zastúpenia. Pomôckou na rozmiestenie môže byť r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odov - minimálny variant na získanie výsledkov s výpovednou hodno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nitoring tejto skupiny je možný vykonávať pracovníkmi o špecializáciou na túto skupinu živočí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v letnom období 1.7 – 3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átum odchytu na lokalite sa bude rotovať v rámci šiestich dekád (10 dní), tak aby odchyt na lokalite bol uskutočnený v prvom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tóda doplnená detektoringom (TE detektor, nahrávacie zariadenie, anylý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92240"/>
                <a:gridCol w="1189080"/>
                <a:gridCol w="1189800"/>
                <a:gridCol w="1189440"/>
                <a:gridCol w="1189800"/>
                <a:gridCol w="1189080"/>
                <a:gridCol w="118980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zimoví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30 najvýznamnejších zimovísk pre tieto druhy (Rhip, Rfer, Reur, Mmyo/Mbly, Mmys/Mbra, Mdas, Mema, Ppip/pyg, Bbar, Mschr), urobí sa prienik a doplnia sa významné lokality z území slabo pokryt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ferencia zimovísk, ktoré je možné skontrolovať komplex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lu 100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15.januára. - 28. febru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letných kolón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všetkých najpočetnejších známych úkrytov max. však 30 lokalít pre každý druh u ktorého sa zisťuje početnosť letných kolón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mája – 15. jú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dospelých samí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ama kontrola na podkroví (nie vý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Auto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idsať 30km trans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nsekt zložený zo spektra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d západu slnka cca 2-3 h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stávky pri vodných plochách a tokoch – zachytenie druhov viazaných na vodné plochy (Mdau, Mdas) a ostatných druh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Jesenný n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10 lokalít pre Mmys/bra a 10 pre Mmyo/bly z monitorovaných zimoví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382680"/>
            <a:ext cx="8136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085760"/>
            <a:ext cx="8642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30:56Z</dcterms:created>
  <dc:creator>Admin</dc:creator>
  <dc:description/>
  <dc:language>en-US</dc:language>
  <cp:lastModifiedBy>Saxa</cp:lastModifiedBy>
  <dcterms:modified xsi:type="dcterms:W3CDTF">2004-11-24T07:10:41Z</dcterms:modified>
  <cp:revision>3</cp:revision>
  <dc:subject/>
  <dc:title>Snímk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9266734</vt:r8>
  </property>
  <property fmtid="{D5CDD505-2E9C-101B-9397-08002B2CF9AE}" pid="3" name="_AuthorEmail">
    <vt:lpwstr>kanuch@sav.savzv.sk</vt:lpwstr>
  </property>
  <property fmtid="{D5CDD505-2E9C-101B-9397-08002B2CF9AE}" pid="4" name="_AuthorEmailDisplayName">
    <vt:lpwstr>Peto Kanuch</vt:lpwstr>
  </property>
  <property fmtid="{D5CDD505-2E9C-101B-9397-08002B2CF9AE}" pid="5" name="_EmailSubject">
    <vt:lpwstr>prezentacia</vt:lpwstr>
  </property>
  <property fmtid="{D5CDD505-2E9C-101B-9397-08002B2CF9AE}" pid="6" name="_ReviewingToolsShownOnce">
    <vt:lpwstr/>
  </property>
</Properties>
</file>