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3A9-CD4A-4FAB-AF77-4DCDF5B8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07F-3649-414F-8F13-41696F08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ADD-9A3E-4132-B355-48AEDB72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3A4-E53D-42F6-A30E-02324D3B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5D96-01A4-4B15-8D25-5408F75C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E7E-D087-4EC9-A165-E5A06C71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485-6E51-48DF-A0DD-639F501D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761-7FD3-4C6D-8192-C64CDE80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077-E72A-4217-A4F6-1F009292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73DC-E20A-4362-A2C0-02B06E7B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EDC-8507-4C2E-8E72-179D19F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F0F-817C-42EF-B24F-28CCC8BE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0443-8DEB-490E-9D72-06F883EB37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07960" y="291960"/>
            <a:ext cx="8128080" cy="210564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Hodnotenie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stavu zachovania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 a k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oncepcia monitoringu 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elesných biotopov</a:t>
            </a:r>
            <a:r>
              <a:rPr b="1" lang="cs-CZ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Ján Šeffer, Rastislav Lasák, Ivan Jarolímek, Milan Valachovi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č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, </a:t>
            </a:r>
            <a:br>
              <a:rPr sz="1800"/>
            </a:b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Richard Hrivnák, Viera Stanová, Helena O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ť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ahelová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</a:rPr>
              <a:t>, Marta Kubandová</a:t>
            </a: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65160" y="5113440"/>
            <a:ext cx="7162920" cy="91692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NATURA 2000 IN SLOVAKIA – BRIDGING </a:t>
            </a:r>
            <a:br>
              <a:rPr sz="1800"/>
            </a:b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HE IMPLEMENTATION PROCES</a:t>
            </a:r>
            <a:r>
              <a:rPr b="1" lang="sk-SK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Working Grou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3320" y="1198440"/>
            <a:ext cx="7367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 5-ročnom intervale v úze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ach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európskeho význam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plnená náhodným (v štatistickom zmysle) výberom lokalít mimo Ú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áhodný výber sa bude realizovať tak, že sa celý súbor lokalít biotopu rozdelí na niekoľko homogénnych skupín definovaných podľa kritérií špecifických pre každý typ biotopu (nadmorská výška, región atď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pre typy biotopov, ktoré majú počet lokalít rádovo v stovkách. Poskytne dostatočné údaje o stave lokalít v chránených územiach a s rozumnou spoľahlivosťou o stave lokalít mi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berovej vzorky sa musí dostať aspoň 10% lokalít z území mimo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0360" y="1150920"/>
            <a:ext cx="74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ventarizácia vybraných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 kratšom ako 5-ročnom cyk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3320" y="3398760"/>
            <a:ext cx="87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áhodný výber dostatoč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j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zor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lokal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zo základného súboru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3320" y="4351320"/>
            <a:ext cx="7729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ýber sa b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ude riadiť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ľa nadefinovaných homogénnych skupí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lán zb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a urobí na začiatku 6-ročného reportovacieho cyklu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možno využiť dočasne v prípade typov s veľkým množstvom lokalít, alebo v prípade málo ohrozovaných biotopov. Do výberovej vzorky sa musí dostať minimálne 20% lokalí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3320" y="1701720"/>
            <a:ext cx="811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spôsob sa navrhuje pre typy biotopov s dynamickým režimom (napr. vodné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 rašeliniskové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topy), u ktorých z praktických dôvodov (množstvo lokalít) nemožno predpokladať celoplošnejšie pokryt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3320" y="1039680"/>
            <a:ext cx="72583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pôsob organizácie zberu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ôže byť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lišný v období, ktoré možno označiť ako prechodné, keď programy starostlivosti o ÚEV buď nie sú, alebo nezabezpečujú pravidelné informácie o stave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čas tohto obdobia je možné pripustiť v odôvodnených prípadoch náhodný výber pri monitoringu niektorých ty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 ďalšom období, keď programy starostlivosti budú zabezpečovať dostatočné množstvo kvalitných dát, sa bu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ú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užívať iba inventarizačné metó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1680" y="44136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e každý typ biotopu sa stanov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základe počtu lokalít, ich rozmiestnenia a stupňa poznani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arametre pre jeho monitoring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ožno odlíšiť spôsob monitoringu v prechodnom období od monitoringu „definitívneho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8760" y="500040"/>
            <a:ext cx="64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ff"/>
                </a:solidFill>
                <a:latin typeface="Arial"/>
              </a:rPr>
              <a:t>Parametre monitoringu jednotlivých typov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3440" y="1163520"/>
            <a:ext cx="81612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hodnotenie stavu pozn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rátke zhodnotenie, v prípade potreby navrhnúť zmapovan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Organizácia zberu dá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ú sa dva spôsoby – optimálny a dostatočn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Zber dát v prechodnom obdob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ak sa líši od prechádzajúce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Kritériá pre homogénne skup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Uvedú sa špecifické kritéria pre typ biotopu (nadmorská výška, región atď.) podľa jeho distribúcie na Slovens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Interval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en v prípade inventarizácie v kratšom ako 5-ročnom cyk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Arial"/>
              </a:rPr>
              <a:t>Čas 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avrhne sa optimálny čas monitoring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14440"/>
            <a:ext cx="79246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Hodnotenie monitorovacích d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dľa metodiky pre D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efinovanie a hodnotenie stavu zachovania biotop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835280"/>
            <a:ext cx="8292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okality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EV alebo inak definovaných území ako sú CHÚ, orografické celky,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vodia a p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biogeografických regiónov, resp. národnej úr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267080"/>
            <a:ext cx="8292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lokalitnej úrovni je možné použiť jednak vážené hodnoty jednotlivých kritérií a jednak syntetickú hodnoty stavu biotopu na lokalite v časovej ra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 vhodnejšie využívať tieto hodnoty, pretože umožňujú rozpoznať aj zmeny, ktoré sa dejú v rámci kategórií (A – 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6210t" descr=""/>
          <p:cNvPicPr/>
          <p:nvPr/>
        </p:nvPicPr>
        <p:blipFill>
          <a:blip r:embed="rId1"/>
          <a:stretch/>
        </p:blipFill>
        <p:spPr>
          <a:xfrm>
            <a:off x="0" y="249120"/>
            <a:ext cx="6553080" cy="1670040"/>
          </a:xfrm>
          <a:prstGeom prst="rect">
            <a:avLst/>
          </a:prstGeom>
          <a:ln w="0">
            <a:noFill/>
          </a:ln>
        </p:spPr>
      </p:pic>
      <p:pic>
        <p:nvPicPr>
          <p:cNvPr id="127" name="6210" descr=""/>
          <p:cNvPicPr/>
          <p:nvPr/>
        </p:nvPicPr>
        <p:blipFill>
          <a:blip r:embed="rId2"/>
          <a:stretch/>
        </p:blipFill>
        <p:spPr>
          <a:xfrm>
            <a:off x="3035160" y="3921120"/>
            <a:ext cx="6108840" cy="2948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66760" y="2101680"/>
            <a:ext cx="854712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yp biotopu je zachytený mapovaním travinnej vegetá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oritný typ sa bude monitorovať celoplošnou inventarizáciou. Neprioritný spôsobom 2 prípadne 4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 prípade neprioritného typu 4. spôso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výber viazať na orografické celky – pohor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áj až jú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6510t" descr=""/>
          <p:cNvPicPr/>
          <p:nvPr/>
        </p:nvPicPr>
        <p:blipFill>
          <a:blip r:embed="rId1"/>
          <a:stretch/>
        </p:blipFill>
        <p:spPr>
          <a:xfrm>
            <a:off x="0" y="203040"/>
            <a:ext cx="5578560" cy="971640"/>
          </a:xfrm>
          <a:prstGeom prst="rect">
            <a:avLst/>
          </a:prstGeom>
          <a:ln w="0">
            <a:noFill/>
          </a:ln>
        </p:spPr>
      </p:pic>
      <p:pic>
        <p:nvPicPr>
          <p:cNvPr id="130" name="6510" descr=""/>
          <p:cNvPicPr/>
          <p:nvPr/>
        </p:nvPicPr>
        <p:blipFill>
          <a:blip r:embed="rId2"/>
          <a:stretch/>
        </p:blipFill>
        <p:spPr>
          <a:xfrm>
            <a:off x="3065400" y="3924360"/>
            <a:ext cx="6078600" cy="293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7040" y="1465200"/>
            <a:ext cx="680400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travinnej veget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zhľadom na množstvo lokalít navrhujeme 4. spôsob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lokalít podľa základnej regionalizácie Slovenska (západ, stred a výcho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ed prvým kosení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7140t" descr=""/>
          <p:cNvPicPr/>
          <p:nvPr/>
        </p:nvPicPr>
        <p:blipFill>
          <a:blip r:embed="rId1"/>
          <a:stretch/>
        </p:blipFill>
        <p:spPr>
          <a:xfrm>
            <a:off x="0" y="263520"/>
            <a:ext cx="4976640" cy="987480"/>
          </a:xfrm>
          <a:prstGeom prst="rect">
            <a:avLst/>
          </a:prstGeom>
          <a:ln w="0">
            <a:noFill/>
          </a:ln>
        </p:spPr>
      </p:pic>
      <p:pic>
        <p:nvPicPr>
          <p:cNvPr id="133" name="7140" descr=""/>
          <p:cNvPicPr/>
          <p:nvPr/>
        </p:nvPicPr>
        <p:blipFill>
          <a:blip r:embed="rId2"/>
          <a:stretch/>
        </p:blipFill>
        <p:spPr>
          <a:xfrm>
            <a:off x="2895480" y="3838680"/>
            <a:ext cx="6067440" cy="293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4640" y="1682640"/>
            <a:ext cx="655488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hodnotenie stavu pozn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iotop je zachytený v rámci mapovania rašelinís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ganizácia zberu dá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oplošná inventarizá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ber dát v prechodnom obdob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tatistický náhodný vý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ritériá pre homogénne skupi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ber sa uskutoční podľa orografického člen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as monitorin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ún až septe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9000" y="409680"/>
            <a:ext cx="62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dnotenie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u zachovani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esných biotopo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1371600"/>
            <a:ext cx="76579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odnotili sme 59 typov a subtypov biotopov podľa Katalógu biotopov Slovenska a 40 podľa HD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kovo bolo spracovaných 17 992 lokalít, kde boli identifikované nelesné biot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ehodnotili sme skalné a sutinové biotopy, ktoré vyžadovali prepracovanie ich koncep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Je to prvé priblíženie, v ktorom sme neaplikovali všetky hodnotiace kritéri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2860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838080"/>
          <a:ext cx="9144000" cy="52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333880" y="24120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íklad hodnotenia stavu zacho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1346040"/>
            <a:ext cx="75056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podával aktuálne informácie o stave všetkých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prepojený s plánovaním a realizáciou manažmen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uskutočniteľný z hľadiska expertných kapací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finančne efektív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by bol napojený na ďalšie monitorovacie systémy (AEP, RSV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720" y="425520"/>
            <a:ext cx="819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o očakávame od monitorovacieho systému pre nelesné biotop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57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60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63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66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70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73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78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0240" y="1503360"/>
            <a:ext cx="8191800" cy="39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ávrh monitoringu nelesných biotopov vychádza z údajovej bázy, ktorá bola vytvorená pre potreby návrhu sústavy N20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Koncep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je postavený na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m systéme lúk a rašelinísk, ktorý je plne kompatibilný s ISTB Štá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av naplnenia a kvalita dát v rámci týchto IS je v porovnaní s ostatnými údajovými bázami uspokojivý. Nedostato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e pokrytých je len niekoľko typov biotopov (napr. kroviny, skalné a vodné biotopy), ktoré sú z hľadiska plochy menej významné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daje s týchto informa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ých systémov sa ukázali ako plne vyhovujúce pre hodnotenie stavu zachovania biotopo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609480"/>
            <a:ext cx="68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Východis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960" y="595440"/>
            <a:ext cx="7848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ôsob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ber dát sa bude realizovať opakovanou inventarizáciou vymapovaných polygónov (lokalít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je sa metodika mapovania biotopov (Šeffer et al. 2002) s tým, že monitorované budú polygóny, kde boli identifikované biotopy z Dodatku I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 Smernice o biotopo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960" y="4094280"/>
            <a:ext cx="7454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Ukladanie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 ukladanie dát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ud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lúžiť ISTB, ktorý má všetky polia z formulára, ktorý bol pre túto metodiku pripraven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8720" y="542880"/>
            <a:ext cx="8013960" cy="16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finovali sme štyri zásadné spôsoby zberu údajov, ktoré vychádzajú zo stavu údajovej základne pre nelesné biotop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4160" y="2314440"/>
            <a:ext cx="831852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46800" anchor="t">
            <a:spAutoFit/>
          </a:bodyPr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loplošná inventarizácia, ktorá v päťročnom intervale zabezpečí hodnotenie každej lokali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 5-ročnom intervale v územiach európskeho významu (ÚEV), ktorá bude doplnená náhodným výberom lokalít mimo ÚE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ventarizácia vybraných lokalít v kratšom ako 5-ročnom cyk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6676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áhodný výber dostatočnej vzorky lokalít zo základného súboru (množina všetkých známych lokalí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8280" y="49068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ffff"/>
                </a:solidFill>
                <a:latin typeface="Arial"/>
                <a:ea typeface="Times New Roman"/>
              </a:rPr>
              <a:t>Organizácia zberu dát</a:t>
            </a:r>
            <a:r>
              <a:rPr b="1" lang="sk-SK" sz="2000" spc="-1" strike="noStrike">
                <a:solidFill>
                  <a:srgbClr val="00ffff"/>
                </a:solidFill>
                <a:latin typeface="Arial"/>
              </a:rPr>
              <a:t> - pokračova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2043000"/>
            <a:ext cx="69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nto postup je optimálny a zabezpečuje nielen kvalitné dáta o všetkých lokalitách pre potreby národných správ o stave zachovania, ale aj, čo je dôležitejšie, pre potreby konkrétnej ochrany prír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5680" y="1138320"/>
            <a:ext cx="805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eloplošná inventarizác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ktorá v päťročnom intervale zabezpečí inventarizáciu každej lok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5680" y="3606840"/>
            <a:ext cx="78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äťročný interval je zvolený kvôli prepojeniu s programovaním starostlivosti a agro-environmentálnym programom (projekty sú schvaľované na dobu 5 rokov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User</cp:lastModifiedBy>
  <dcterms:modified xsi:type="dcterms:W3CDTF">2004-11-16T14:24:53Z</dcterms:modified>
  <cp:revision>68</cp:revision>
  <dc:subject/>
  <dc:title>Prezentace aplikace PowerPoint</dc:title>
</cp:coreProperties>
</file>