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4961-8C17-4648-B756-950D63CD5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8CDA-8F99-4BDB-B255-82C4EE1A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667B-F8A0-4F9D-91A2-9E0E4A6CC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81E9-9F47-47B3-96FC-44B5F6E2D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F057-4C34-4BEB-9368-C0D14569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1909-6842-43B3-8F41-BB4E6613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F2D3-FC5B-4C04-81CB-B7F230C1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2FD2-D076-4264-B39B-EE1795C3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84C4-D75E-4CCF-BB99-18E7E17B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BCA0-3BEA-4816-AA4B-6314AF35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DDE6-EB59-41BC-A672-B3EAB33C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F28B-9144-4271-8BD8-DFC183DD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DD20-FA77-4E70-92D7-324F588D2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image" Target="../media/image30.wmf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Times New Roman"/>
              </a:rPr>
              <a:t>Koncept metodiky monitoringu lesných biotopov</a:t>
            </a:r>
            <a:br>
              <a:rPr sz="4400"/>
            </a:b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4400" spc="-1" strike="noStrike">
                <a:solidFill>
                  <a:srgbClr val="000000"/>
                </a:solidFill>
                <a:latin typeface="Times New Roman"/>
              </a:rPr>
              <a:t>na Slovensku</a:t>
            </a: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Prof. Ing. Štefan  Š m e l k o, DrSc.,  EFRA Zvo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cc99"/>
                </a:solidFill>
                <a:latin typeface="Times New Roman"/>
              </a:rPr>
              <a:t>Hodnotenie stavu biotopov</a:t>
            </a:r>
            <a:br>
              <a:rPr sz="3600"/>
            </a:b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i="1" lang="cs-CZ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i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Kvantitatívne hodnote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jadrenie stavu biotopu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omocou číselného  kvantifikátor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priemerná bodová hodnota (známka) Z  ........ menej vhodn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kvantifikátor Q1 - operátor OR ...................... orientačn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kvantifikátor Q2 - operátor AND ................... nevhodn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kvantifikátor Q3 - kombinácia oper. OR a AND ... najvhodnejš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tegóriám A,B,C,D, kritériám a indikátorom sú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ridelené váhy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„w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e každý biotop individuálne i zovšeobecnené, môžu sa ľubovoľne meniť),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e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utomatizovaný výpoče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je vyprac. program na 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vantifikátor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vojou hodnotou priam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udáva relatívne priblíženie sa stavu biotopu k želanému „optimu“ = 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 hodnoty Q (napr.= 82,9%) možno ľahk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znovu prejsť 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valitatívne hodnoteni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podľa zvoleného kľúča, napr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52240" y="57308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80800" y="57308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63640" y="57308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09720" y="57308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5715000"/>
            <a:ext cx="3909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5715000"/>
            <a:ext cx="47210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5867280"/>
            <a:ext cx="484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5638680"/>
            <a:ext cx="8305920" cy="2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Tab.2. Príklad kvantitatívneho hodnotenia stavu bioto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795240"/>
            <a:ext cx="8305560" cy="60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lavné menu programu pre výpoč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vantifikátorv Q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6059520" cy="5722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010280" y="1981080"/>
            <a:ext cx="6446880" cy="37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086600" y="2666880"/>
            <a:ext cx="5761080" cy="3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Metódy monitorovan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925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Treba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diferencovať a optimalizovať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s ohľadom n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ľkosť biotopu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ho charakter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vnútornú variabilit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ôležitosť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vzácnosť výskytu)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disponibilné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finančné a personálne zdroj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úroveň a obsah využiteľných externých informačných zdrojov v čase vykonania monitoring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skutočnosť, že základnými priestorovými jednotkami pre hodnotenie FCS majú byť polygóny do 100-150 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Uprednostniť postupy, ktoré najlepšie splnia všetky základ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ožiadavky kladené na monitorovan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cc99"/>
                </a:solidFill>
                <a:latin typeface="Times New Roman"/>
              </a:rPr>
              <a:t>Metódy monitorovan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Uvažujú a hodnotia sa tieto možné varianty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zatie údajov z existujúcej databázy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oprojektu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HP) a ich doplnenie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 chýbajúce úd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oplošné zisťov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berové zisťovanie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– diferencované podľa veľkostnýc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h            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ategórií biotop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binované dvojfázové zisťov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užitie údajov veľkoplošnej národnej inventarizácie lesov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SR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005-2006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nzívny monitoring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vzácnych biotop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cc99"/>
                </a:solidFill>
                <a:latin typeface="Times New Roman"/>
              </a:rPr>
              <a:t>Metódy monitorovania</a:t>
            </a:r>
            <a:br>
              <a:rPr sz="2400"/>
            </a:b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evzatie údajov z existujúcej databázy</a:t>
            </a: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esoprojektu</a:t>
            </a: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LHP) a ich doplnenie</a:t>
            </a: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 chýbajúce údaje</a:t>
            </a:r>
            <a:r>
              <a:rPr b="1" lang="sk-SK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 sa uskutočniť pomerne jednoducho, rýchlo a hospodárn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žaduje prevod údajov o porastových veličinách (JPRL) na ich prirodzené zoskupenia – polygón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yžaduje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plnenie dosť veľkého počtu chýbajúcich údajov potrebných  pre  hodnotenie FCS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amym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aním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alebo približným modelovaní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ôže poskytnúť výsledky len s  veľmi nízkou a úplne neznámou (nekvantifikovateľnou) vypovedacou hodnoto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žiteľn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en pre všeobecné informatívne úč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cc99"/>
                </a:solidFill>
                <a:latin typeface="Times New Roman"/>
              </a:rPr>
              <a:t>Metódy monitorovania</a:t>
            </a:r>
            <a:br>
              <a:rPr sz="2800"/>
            </a:br>
            <a:r>
              <a:rPr b="0" i="1" lang="sk-SK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sk-SK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eloplošné zisťovanie</a:t>
            </a:r>
            <a:r>
              <a:rPr b="0" lang="sk-SK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žne používan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ód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a,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konáva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ná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rénnou pochôdzkou po celom hodnotenom území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ôže poskytnú len súhrnné posúdenie jednotlivých indikátorov FCS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za celé územi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dáva žiadne informácie o vnútornej variabilite FCS po hodnotenej ploch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možňuje stanoviť ani vypovedaciu hodnotu (chybu) výsledného hodnotenia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ôžu vzniknúť oprávnené pochybnosti, či sa hodnotiteľovi v rozsiahlejších územiach podarí dostatočne objektívne určiť „súhrnný výsledok“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použiteľné je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a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pre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ľmi malé biotopy, resp. ich lokality do výmery cca 3 až 5 ha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cc99"/>
                </a:solidFill>
                <a:latin typeface="Times New Roman"/>
              </a:rPr>
              <a:t>Metódy monitorovania</a:t>
            </a:r>
            <a:br>
              <a:rPr sz="2800"/>
            </a:br>
            <a:r>
              <a:rPr b="0" i="1" lang="sk-SK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ýberové zisťovanie</a:t>
            </a:r>
            <a:r>
              <a:rPr b="0" lang="sk-SK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chádza z teórie matematicko-štatistických metód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 je objektívne a hospodárn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str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ďuje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ornosť na vhodne zvolené miesta biotopu - tzv. výberové jednotk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umožňuje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 výsledkov hodnotenia  kritérií a indikátorov FCS odvodiť všetky požadované parametre biotop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 kvantifikovať mieru ich presnosti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a spoľahlivost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 prípade, že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sa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berové jednotky v  teréne vhodn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bilizujú (najlepšie neviditeľn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– vreckovým GPS), opakované zisťovanie  sa môže robiť vždy na tých istých miestach, získa sa tesná korelácia medzi údajmi a chyba zmeny stavu sa zníži až o 1/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ácia -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ferencovane podľa veľkostných kategórií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biotopov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 troch samostatných systémoch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I, II, III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r>
              <a:rPr b="0" lang="sk-SK" sz="3200" spc="-1" strike="noStrike">
                <a:solidFill>
                  <a:srgbClr val="00cc99"/>
                </a:solidFill>
                <a:latin typeface="Times New Roman"/>
              </a:rPr>
              <a:t>3. Výberové zisťovanie</a:t>
            </a:r>
            <a:br>
              <a:rPr sz="2800"/>
            </a:b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</a:rPr>
              <a:t>Výberový systém I – pre malé územia do 100-150 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ní sa jednoduchý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stupňový vý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berovej jednotk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(VJ) -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uh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ásov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úsek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y,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ás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(ich rozmery v teréne nevytyčované – FCS posudzované „na dohľad“) – obr. 1-3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počet VJ (n)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– v závislosti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 stupňa variability FCS po ploche biotopu (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SR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3,4) a od požadovanej presnosti výberového výsledku (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Q=7-15%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SR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=   1-malý     2-stredný     3-veľký    4-veľmi veľk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=   10 – 8       33 – 18        73 – 36          130 - 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miestnenie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VJ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 hodnotenom území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systematické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v konštantných odstupoch (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hodnotenie FCS a záznam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výsledkov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na každej VJ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počet ukazovateľov charakterizujúcich FCS biotopu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odľa špeciálneho algoritmu – tab.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cc99"/>
                </a:solidFill>
                <a:latin typeface="Times New Roman"/>
              </a:rPr>
              <a:t>                                          </a:t>
            </a:r>
            <a:r>
              <a:rPr b="0" lang="sk-SK" sz="2800" spc="-1" strike="noStrike">
                <a:solidFill>
                  <a:srgbClr val="00cc99"/>
                </a:solidFill>
                <a:latin typeface="Times New Roman"/>
              </a:rPr>
              <a:t>3. Výberové zisťovanie</a:t>
            </a:r>
            <a:br>
              <a:rPr sz="2800"/>
            </a:b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ýberové jednotky – vybraté miesta pre hodnotenie FCS biotopu</a:t>
            </a:r>
            <a:br>
              <a:rPr sz="2800"/>
            </a:b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90920" y="914400"/>
            <a:ext cx="39956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Východiskové údaj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V sústave chránených území európskeho významu NATURA 2000 na Slovensku j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19 lesných biotopov, z toho 8  prioritných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v každom biotope väčší počet lokalít (až 5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premenlivá výmera (30 - 650 tisíc) , spolu cca 940 tisíc h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veľká rôznorodosť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veľký teritoriálny rozptyl po území SR.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cc99"/>
                </a:solidFill>
                <a:latin typeface="Times New Roman"/>
              </a:rPr>
              <a:t>3. Výberové zisťovanie</a:t>
            </a:r>
            <a:br>
              <a:rPr sz="2800"/>
            </a:b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ýberový systém II. – pre stredne veľké územia od 200 do 5000  ha</a:t>
            </a:r>
            <a:r>
              <a:rPr b="0" lang="sk-SK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n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í sa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 stratifikovaného výberu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zostaví sa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án výberu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– východiskom bude stupeň variability FCS celého územia (napr. 3), podľa neho sa určí celkový počet VJ (napr.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</a:rPr>
              <a:t> n = 75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), tie sa rozdelia na jednotlivé polygóny (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) úmerne ich veľkosti, alebo aj variabilite FCS (napr. 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</a:rPr>
              <a:t>nj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</a:rPr>
              <a:t>3-11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vlastné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</a:rPr>
              <a:t>hodnotenie FCS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sa vykoná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</a:rPr>
              <a:t>v každom polygóne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podobne ako pri  systéme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kazovatele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</a:rPr>
              <a:t>FCS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</a:rPr>
              <a:t>celého biotopu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sa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dvodia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egovaním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gónových výsledkov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– špeciálny algoritmus – tab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</a:rPr>
              <a:t>postup je veľmi efektívny - z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ľadní skutočný stav a vnútornú štruktúru každého vyskytujúceho sa polygónu a celkový výsledok poskytne s vysokou presnosť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Times New Roman"/>
              </a:rPr>
              <a:t>problém –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určiť hornú, ešte ekonomicky únosnú hranicu veľkosti územia (počet polygónov v ňom) pre aplikáciu systému II.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cc99"/>
                </a:solidFill>
                <a:latin typeface="Times New Roman"/>
              </a:rPr>
              <a:t>3. Výberové zisťovanie</a:t>
            </a:r>
            <a:br>
              <a:rPr sz="2800"/>
            </a:b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ýberový systém III. – pre veľké územia nad 5000 ha</a:t>
            </a:r>
            <a:r>
              <a:rPr b="0" lang="sk-SK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čet 100-hektárových polygóno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v nich taký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ľký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50 až vyše 5300), že použitie výberových systémov I a II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by  bolo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už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onomick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neúnos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nen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í sa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 dvojstupňového výberu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 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upni sa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 celkového počtu M polygónov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yberie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áhodným alebo systematickým spôsobom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nší počet  m polygónov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 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pni  sa  vo všetkých vybratých  polygónoch uskutoční  zisťovanie výberovým systémom 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 celý biotop sa ukazovatele FCS odvodia špeciálnym postupom,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orý je pomerne zložitý a musí zohľadniť zdroje variability FCS tak vo vnútri polygónov ako aj medzi n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problémy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– nižšia presnosť, potreba poznať biometrické vlastnosti FCS veľkých biotopov, výskumne doriešiť optimalizáciu nákladov a presnosti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cc99"/>
                </a:solidFill>
                <a:latin typeface="Times New Roman"/>
              </a:rPr>
              <a:t>Metódy monitorovania</a:t>
            </a:r>
            <a:br>
              <a:rPr sz="2800"/>
            </a:br>
            <a:r>
              <a:rPr b="1" i="1" lang="sk-SK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ombinované dvojfázové zisťovanie</a:t>
            </a:r>
            <a:r>
              <a:rPr b="0" lang="sk-SK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Ide o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hodn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epojen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ie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acerých metód a technológií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tatočne presn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 hospodárn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oužiteľné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 všetkých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eľkostných kategóriách biotopov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v 1.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áze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údaje o FCS získajú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nej presne, ale jednoducho, rýchlo a lacno,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to celoplošne - pre všetky polygón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áz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 uskutoční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ber malého počtu n zo všetkých  N polygóno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 zistí sa v nich stav FCS výberovým systémom I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výsledky z 2. fáz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sa pomocou špeciálnych biometrických postupov využijú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na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orig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ovanie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 spres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ne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ôvodn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odhadnut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ých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daj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ov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1. fáz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isťovania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realizácia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(asi r. 2015) –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redpokladá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inováciu LHP (doplnenie o údaje pre FCS), letecké a kozmické snímky s vysokou rozlišovacou schopnosťou, GIS 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00cc99"/>
                </a:solidFill>
                <a:latin typeface="Times New Roman"/>
              </a:rPr>
              <a:t>Metódy monitorovania</a:t>
            </a:r>
            <a:br>
              <a:rPr sz="2800"/>
            </a:br>
            <a:r>
              <a:rPr b="1" i="1" lang="sk-SK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yužitie údajov veľkoplošnej národnej inventarizácie lesov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</a:rPr>
              <a:t> SR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(2005-2006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Inventarizácia sa uskutoční v rokoch 2005-2006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ryje všetky lesy na území SR trvalými inventarizačnými plochami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(IP)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 sieti 4x4 km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ipovaná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, že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na IP sa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stia o .i. aj  všetky znaky potrebné pre hodnotenie stavu lesa podľa kritéri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í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indikátorov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URA 2000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ýsledk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y umožnia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dvodiť súhrnné charakteristiky  FCS vo všetkých lesných ekosystémoch celej 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Pre územia NATURA , najmä vo veľmi veľkých  biotopoch, by bolo potrebné monitorovaciu sieť zahustiť na 2x2 resp. 1x1 km – ako alternatívu k výberovému systému II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Times New Roman"/>
              </a:rPr>
              <a:t>Problém: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FCS sa vzťahujú na rozdielne jednotky (na 100 ha polygón a na malú IP a jej najbližšie okolie), ich kompatibilitu treba preskúmať  a definíciu FCS  podľa potreby inovovať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cc99"/>
                </a:solidFill>
                <a:latin typeface="Times New Roman"/>
              </a:rPr>
              <a:t>Metódy monitorovania</a:t>
            </a:r>
            <a:br>
              <a:rPr sz="2800"/>
            </a:br>
            <a:r>
              <a:rPr b="1" i="1" lang="sk-SK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sk-SK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tenzívny monitoring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</a:rPr>
              <a:t> vzácnych biotopov</a:t>
            </a:r>
            <a:r>
              <a:rPr b="1" lang="sk-SK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chádza do úvahy pre mimoriadne významné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alebo vzácne sa vyskytujúce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topy a ich lok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Takéto biotopy môžu slúžiť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o demonštračné objekty pre výskum, výchovno-vzdelávaciu, osvetovú a propagačnú činnos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ožiť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ich treba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o trvalé výskumné plochy, v teréne stabilizovať,  stav  podchytiť  a zdokumentovať komplexne a veľmi detailne, dlhodobo sledovať ich vývo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Uplatniť pri tom najmodernejšie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ógi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eld-Map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pre mapovanie,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zualizáciu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re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k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štruktúr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mulačné postupy pre prognózovani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vývoja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ai.)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čet biotopov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ch lokalít a hodnotených polygónov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mera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otopu a jeho lokalít (P,  ha) - potencionálna a skutočn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pa rozmiestnenia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otopov a ich lokalít po území 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ívne plošné zastúpenie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otopov (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v jednotlivých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FCS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tegóriách A, B, C, D a chyba určenia tohto podielu (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t.j. zhodnotenie stavu biotopov pomocou  kvalitatívnych veličí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íselné kvantifikátory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vu biotopov v jednotlivých kategóriách A, B, C, D i spoločne za všetky kategórie, ich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emerná hodnota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ilita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sk-SK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yba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rčenia výsledného kvantifikátora (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EQ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t.j. zhodnotenie stavu biotopov pomocou kvantitatívnych veličí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Porovnanie dvoch stavov biotopu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– zhodnotenie zmeny parametrov FCS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v časovom rade, resp medzi viacerými biotopmi navzájom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– špeciálny  algoritmus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52280"/>
            <a:ext cx="83059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Times New Roman"/>
              </a:rPr>
              <a:t>Výsledky monitorovan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</a:rPr>
              <a:t>V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ýstupn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</a:rPr>
              <a:t>é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informáci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</a:rPr>
              <a:t>e 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 st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</a:rPr>
              <a:t>ave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biotop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cc99"/>
                </a:solidFill>
                <a:latin typeface="Times New Roman"/>
              </a:rPr>
              <a:t>Výsledky monitorovania</a:t>
            </a:r>
            <a:br>
              <a:rPr sz="3600"/>
            </a:br>
            <a:r>
              <a:rPr b="1" lang="sk-SK" sz="2800" spc="-1" strike="noStrike">
                <a:solidFill>
                  <a:srgbClr val="00cc99"/>
                </a:solidFill>
                <a:latin typeface="Times New Roman"/>
              </a:rPr>
              <a:t>    </a:t>
            </a:r>
            <a:r>
              <a:rPr b="1" i="1" lang="sk-SK" sz="2800" spc="-1" strike="noStrike" u="sng">
                <a:solidFill>
                  <a:srgbClr val="00cc99"/>
                </a:solidFill>
                <a:uFillTx/>
                <a:latin typeface="Times New Roman"/>
              </a:rPr>
              <a:t>V</a:t>
            </a:r>
            <a:r>
              <a:rPr b="1" i="1" lang="sk-SK" sz="2800" spc="-1" strike="noStrike" u="sng">
                <a:solidFill>
                  <a:srgbClr val="00cc99"/>
                </a:solidFill>
                <a:uFillTx/>
                <a:latin typeface="Times New Roman"/>
                <a:ea typeface="Times New Roman"/>
              </a:rPr>
              <a:t>ýstupn</a:t>
            </a:r>
            <a:r>
              <a:rPr b="1" i="1" lang="sk-SK" sz="2800" spc="-1" strike="noStrike" u="sng">
                <a:solidFill>
                  <a:srgbClr val="00cc99"/>
                </a:solidFill>
                <a:uFillTx/>
                <a:latin typeface="Times New Roman"/>
              </a:rPr>
              <a:t>é</a:t>
            </a:r>
            <a:r>
              <a:rPr b="1" i="1" lang="sk-SK" sz="2800" spc="-1" strike="noStrike" u="sng">
                <a:solidFill>
                  <a:srgbClr val="00cc99"/>
                </a:solidFill>
                <a:uFillTx/>
                <a:latin typeface="Times New Roman"/>
                <a:ea typeface="Times New Roman"/>
              </a:rPr>
              <a:t> informáci</a:t>
            </a:r>
            <a:r>
              <a:rPr b="1" i="1" lang="sk-SK" sz="2800" spc="-1" strike="noStrike" u="sng">
                <a:solidFill>
                  <a:srgbClr val="00cc99"/>
                </a:solidFill>
                <a:uFillTx/>
                <a:latin typeface="Times New Roman"/>
              </a:rPr>
              <a:t>e</a:t>
            </a:r>
            <a:r>
              <a:rPr b="1" i="1" lang="sk-SK" sz="2800" spc="-1" strike="noStrike" u="sng">
                <a:solidFill>
                  <a:srgbClr val="00cc99"/>
                </a:solidFill>
                <a:uFillTx/>
                <a:latin typeface="Times New Roman"/>
                <a:ea typeface="Times New Roman"/>
              </a:rPr>
              <a:t> o st</a:t>
            </a:r>
            <a:r>
              <a:rPr b="1" i="1" lang="sk-SK" sz="2800" spc="-1" strike="noStrike" u="sng">
                <a:solidFill>
                  <a:srgbClr val="00cc99"/>
                </a:solidFill>
                <a:uFillTx/>
                <a:latin typeface="Times New Roman"/>
              </a:rPr>
              <a:t>ave</a:t>
            </a:r>
            <a:r>
              <a:rPr b="1" i="1" lang="sk-SK" sz="2800" spc="-1" strike="noStrike" u="sng">
                <a:solidFill>
                  <a:srgbClr val="00cc99"/>
                </a:solidFill>
                <a:uFillTx/>
                <a:latin typeface="Times New Roman"/>
                <a:ea typeface="Times New Roman"/>
              </a:rPr>
              <a:t> biotop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Diferencia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FCS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medzi dvomi  porovnávanými biotopmi (1) a (2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Chyba diferencie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(pri 95 = spoľahlivosti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sk-SK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,2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upeň tesnosti korelácie medzi (1) a  (2)  stavom bioto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Posúdenie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erenci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e (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men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y FSC)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diferenciu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važovať za skutočnú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 95 % spoľahlivosťou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za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ifikantnú), ak platí, ž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ačnom prípade ju považovať iba za náhodnú, spôsobenú chybami zisťovania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1504800" cy="397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00600" y="1768320"/>
            <a:ext cx="1523880" cy="398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990720" y="2666880"/>
            <a:ext cx="3733560" cy="519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876920" y="2666880"/>
            <a:ext cx="3809880" cy="493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2286000" y="4724280"/>
            <a:ext cx="102106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Tab.4. Príklad odvodenia parametrov FCS na úrovni jedného polygónu (P = 110 ha,  n =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772400" cy="2954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52480" y="4114800"/>
            <a:ext cx="5761080" cy="581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914400" y="4800600"/>
            <a:ext cx="1695600" cy="609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429000" y="4724280"/>
            <a:ext cx="4724280" cy="660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762120" y="5638680"/>
            <a:ext cx="2286000" cy="520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3200400" y="5638680"/>
            <a:ext cx="1828800" cy="520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5181480" y="5715000"/>
            <a:ext cx="6370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Tab.5. Príklad odvodenia parametrov FCS na úrovni jedného biotopu zloženého z 10 polygón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9480" y="1870200"/>
            <a:ext cx="80773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Tab.5. Príklad odvodenia parametrov FCS na úrovni jedného biotopu zloženého z 10 polygónov - pokračov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382240" cy="2636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04920" y="3429000"/>
            <a:ext cx="7832520" cy="237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495680" y="3505320"/>
            <a:ext cx="1295640" cy="606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7086600" y="3505320"/>
            <a:ext cx="1219320" cy="7254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914400" y="4114800"/>
            <a:ext cx="1219320" cy="1216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2590920" y="4267080"/>
            <a:ext cx="1523880" cy="1141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4648320" y="4343400"/>
            <a:ext cx="1218960" cy="838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6400800" y="4495680"/>
            <a:ext cx="1905120" cy="379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1066680" y="5494320"/>
            <a:ext cx="8077320" cy="320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0"/>
          <a:stretch/>
        </p:blipFill>
        <p:spPr>
          <a:xfrm>
            <a:off x="2743200" y="5867280"/>
            <a:ext cx="81532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Cieľ monitorovania</a:t>
            </a:r>
            <a:r>
              <a:rPr b="1" lang="sk-SK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000000"/>
                </a:solidFill>
                <a:latin typeface="Times New Roman"/>
              </a:rPr>
              <a:t>zisťovať (mapovať a hodnotiť) stav lesných biotopov  o p a k o v a n e </a:t>
            </a:r>
            <a:r>
              <a:rPr b="0" i="1" lang="sk-SK" sz="3200" spc="-1" strike="noStrike">
                <a:solidFill>
                  <a:srgbClr val="000000"/>
                </a:solidFill>
                <a:latin typeface="Times New Roman"/>
              </a:rPr>
              <a:t>v dohodnutých časových intervaloch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000000"/>
                </a:solidFill>
                <a:latin typeface="Times New Roman"/>
              </a:rPr>
              <a:t>porovnávať tieto stav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000000"/>
                </a:solidFill>
                <a:latin typeface="Times New Roman"/>
              </a:rPr>
              <a:t>posudzovať vzniknuté zmeny a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000000"/>
                </a:solidFill>
                <a:latin typeface="Times New Roman"/>
              </a:rPr>
              <a:t>odvodzovať vývojové trend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Koncept informačného systému pre monitoring FCS lesných biotopov (Fabrika 20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624040" y="914400"/>
            <a:ext cx="3659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kvencia monitorovania</a:t>
            </a:r>
            <a:br>
              <a:rPr sz="1800"/>
            </a:b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jekt NATURA 2000  predpokladá 6 ročný cyklus monitorov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 SR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úvahy prichádza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ácia termíno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NATURA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 dvomi celoštátnymi aktivitami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kon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ávanie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árodnej inventarizácie lesa, kde sa počíta s 1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čným cyklom opakovania  (v r. 2005-06, 2015-16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 atď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hotovovani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úhrnných informácií 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o stave lesov 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 LHP (kde je cyklus 5–ročný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ravdepodobný termín prvého monitoringu lesných biotopov NATURA-SR ..... r. 2007-2009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ácia monitoringu lesných biotopov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yžaduj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pracovanie metodiky a podrobných pracovných postupov monitorovania a ich experimentálne overenie v modelových územiach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adenie resp. poverenie špecializovanej organizácie (subjektu) pre túto činnosť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tvorenie organizačných štruktúr pre rutinné vykonávanie monitoringu (riadiace, koordinačné, odborné skupiny)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ýber a zaškolenie pracovníkov pre terénne práce, kontrolu a spracovanie výsledkov monitoringu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ezpečenie finančných prostriedkov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ovanie metodík, materiálne a prístrojové vybavenie a vykonanie prvého cyklu monitoring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šeobecné požiadavky na monitorovanie lesných biotopov</a:t>
            </a:r>
            <a:r>
              <a:rPr b="0" lang="sk-SK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topy charakterizovať sústavou parametro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toré by  vyjadrovali jednak rozsah (počet a veľkosť) i teritoriálne rozmiestnenie biotopov, jednak  stav biotopov a stupeň  ich priblíženia sa k žiadanému vopred definovaném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aznivému stavu ochr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re zvoliť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k, aby boli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ktívne, jednoznačné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čo najjednoduchšie,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logick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ochopiteľné a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obre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ovateľn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bezpečiť porovnateľnosť údajo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stave biotopov navzájom i v dlhšom časovom slede, na domácej i medzinárodnej úrovni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uplatniť biometrické princípy monitorovania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Všeobecné požiadavky na monitorovanie</a:t>
            </a:r>
            <a:r>
              <a:rPr b="1" lang="sk-SK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mapovanie a hodnotenie stavu biotopov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užiť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 maximálnej miere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šetk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stupné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 existujúce informačné zdroje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5)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ý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nitoring metodicky koncipovať tak, ab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špektoval veľkú rôznorodosť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dnotlivých typov lesných biotopov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ol univerzáln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dobre využiteľný nielen  pre biotopy  európskeho, ale aj národného význam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6)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sledk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nitoringu o stave biotopov a ich vývoji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acovať a prezentovať vo forme uceleného informačného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ém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 úzkej väzbe na ostatné s nim súvisiace domáce i medzinárodné informačné systém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erarchické úrovne monitorovania</a:t>
            </a:r>
            <a:r>
              <a:rPr b="0" lang="sk-SK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290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venská republika (všetky lesné biotopy NATURA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290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t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290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kality biotop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290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kladné priestorové jednotky le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olygóny– prirodzené zoskupenia lesných porastov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ktorých sa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má sta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otopov posudz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ovať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daje o stave biotopov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treba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isťovať a postup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egovať smerom od najnižšej k najvyššej úrovni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povanie lesných biotopov</a:t>
            </a:r>
            <a:br>
              <a:rPr sz="3600"/>
            </a:br>
            <a:r>
              <a:rPr b="1" lang="sk-SK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hotoviť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znam biotopo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NATURA 2000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ich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redbežnú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okalizáci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 území SR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praviť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klady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re mapovateľa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 existujúcich  informačných zdrojo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ekryť vrstvy GIS Lesoprojektu, vyhotoviť mapovú  dokumentáciu a dať k dispozícii výpis aktuálnych ekologických a porastových charakteristík tých lesných porastov, ktoré príslušný biotop vytvárajú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 teréne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anice biotopu overiť, skorigovať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hodným (dohodnutým) spôsobom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značiť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zároveň navrhnúť a  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líšiť hodnotiace polygón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a všetko zdokumentovať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zistiť výmer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biotopov a lokalí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k-SK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dnotenie stavu biotopov</a:t>
            </a:r>
            <a:br>
              <a:rPr sz="3600"/>
            </a:br>
            <a:r>
              <a:rPr b="1" i="1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valitatívne hodnotenie</a:t>
            </a: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160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5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zaradenie biotopu - podľa toho ako spĺňa jednotlivé k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téri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indikátor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y  FCS - do 4 kategórií: A,B,C,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0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napr. A,B – A,D,B,A,C – A,B  .......... tab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05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éto ohodnotenie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stihuje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elkom dobre a rovnakými kritériami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dôležitejšie stránky biotopu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však každú z nich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olovane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05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možňuje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ovnako dobre a objektívne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hodnotiť komplexne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kový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v biotopu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 danej priestorovej jednotke lesa (v hodnotenom polygóne) a potom toto hodnotenie agregovať do vyšších hierarchických roví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05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egórie A,B,C,D sú totiž typické kvalitatívne veličiny, pre ktoré neplatia bežné matematické operác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05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rem toho jednotlivé hodnotiace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itériá a indikátory nemajú rovnakú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áhu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ýznamnosť).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0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.1. Príklad konkrétneho kvalitatívneho ohodnotenia stavu bioto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1998720"/>
            <a:ext cx="777240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20:01:45Z</dcterms:created>
  <dc:creator>Student</dc:creator>
  <dc:description/>
  <dc:language>en-US</dc:language>
  <cp:lastModifiedBy>Admin</cp:lastModifiedBy>
  <dcterms:modified xsi:type="dcterms:W3CDTF">2004-11-12T13:46:28Z</dcterms:modified>
  <cp:revision>86</cp:revision>
  <dc:subject/>
  <dc:title>Koncept metodiky monitoringu lesných biotopov  na Slovensku </dc:title>
</cp:coreProperties>
</file>