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EDE-BB58-4955-85DD-F3125250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F03-6867-456B-9F7D-C1B8A02C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5E4-3FAB-45A3-B649-81F29012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6EC-5FCE-4731-BFE1-3AB0C3A1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547-4B21-4350-A271-F9550C19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F36-A667-43AD-A002-55E26AA4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77A-1779-42D5-9ADA-B76748F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D13-A183-4EB5-9793-7CD7079F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6B1-756F-490D-ADFE-1F9D0C1A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D6B-2C1B-4FCC-B440-D269C85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7FC-85A8-4F9D-A099-6AF70E5A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3AD-7B96-421F-BA27-58155E7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5BA7-8754-4D7F-AF71-770FF2C0A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19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Monitoring - cicavce (Mammalia)</a:t>
            </a:r>
            <a:br>
              <a:rPr sz="3600"/>
            </a:br>
            <a:br>
              <a:rPr sz="2800"/>
            </a:br>
            <a:r>
              <a:rPr b="0" i="1" lang="sk-SK" sz="2600" spc="-1" strike="noStrike">
                <a:solidFill>
                  <a:srgbClr val="ffff00"/>
                </a:solidFill>
                <a:latin typeface="Arial"/>
              </a:rPr>
              <a:t>Návrh pre stredne veľké a veľké druh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udolf KROP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ká univerzita vo Zvo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nícka fak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edra ochrany lesa a poľovníc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600"/>
            </a:b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- výberové metódy (okrem Micromammalia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2521080"/>
          <a:ext cx="8136000" cy="4003560"/>
        </p:xfrm>
        <a:graphic>
          <a:graphicData uri="http://schemas.openxmlformats.org/drawingml/2006/table">
            <a:tbl>
              <a:tblPr/>
              <a:tblGrid>
                <a:gridCol w="576000"/>
                <a:gridCol w="1470240"/>
                <a:gridCol w="2820960"/>
                <a:gridCol w="893880"/>
                <a:gridCol w="2374920"/>
              </a:tblGrid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Canis lup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lk drav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Ursus arc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veď hned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lis silvestr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čka di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ynx lyn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ys ostrov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tes ma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una les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2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 metódy monitoringu celého areálu (okrem Micromammali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9640" y="2924280"/>
          <a:ext cx="8280360" cy="2801880"/>
        </p:xfrm>
        <a:graphic>
          <a:graphicData uri="http://schemas.openxmlformats.org/drawingml/2006/table">
            <a:tbl>
              <a:tblPr/>
              <a:tblGrid>
                <a:gridCol w="719280"/>
                <a:gridCol w="1309680"/>
                <a:gridCol w="2797200"/>
                <a:gridCol w="934920"/>
                <a:gridCol w="25192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Marmota marmota latirostr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višť vrchov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Rupicapra rupicapra tatr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mzík vrchov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son bona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ubor hrivnatý/ zubor les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2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 metódy špecálneho monitoringu (okrem Micromammali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303640"/>
          <a:ext cx="7772400" cy="3501720"/>
        </p:xfrm>
        <a:graphic>
          <a:graphicData uri="http://schemas.openxmlformats.org/drawingml/2006/table">
            <a:tbl>
              <a:tblPr/>
              <a:tblGrid>
                <a:gridCol w="573120"/>
                <a:gridCol w="1382760"/>
                <a:gridCol w="2693880"/>
                <a:gridCol w="892080"/>
                <a:gridCol w="2230560"/>
              </a:tblGrid>
              <a:tr h="718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stela eversmanni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hor svetl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stela putor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hor tmav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or fib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bor vo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tra lu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dra rieč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žiadavky monitoringu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Výber (okrem druhov s nízkou početnosťou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 100 HP na SK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Výhoda u triedy </a:t>
            </a:r>
            <a:r>
              <a:rPr b="1" i="1" lang="sk-SK" sz="2600" spc="-1" strike="noStrike">
                <a:solidFill>
                  <a:srgbClr val="ffffff"/>
                </a:solidFill>
                <a:latin typeface="Arial"/>
              </a:rPr>
              <a:t>A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ľahká determinácia (vizuálna i akustická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=&gt; nedeštrukčné metód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Nevýho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škála nárokov na prostredi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Metódy zisťovania početnosti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mapovacia tech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líniové metó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Bodové a kruhové metó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bodový transe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priame vyhľadávanie hniez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časovo-kvadrátová metód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telemetrické sledovani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sahové požiadavk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óda bodového tranzektu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a mapovania hniezdnych okrskov – hniezdne obdobie, 1 x ročne, stanovenie typu ekosystému v mieste bydliska dobrovoľní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terpolácia výsledkov, vyhodnot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resnosť výsledkov pre druhy, testovanie, trendy 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ateriálne zabezpečenie: ďalekohľad, cestovné náklady, motivačné prv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ersonálne zabezpečenie: minimálne 30 spolupracovníkov, zabezpečenie ich distribúc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yhodnotenie cez gestora programu a odborného gara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Literatúra: Kropil 1994, 1995  a mnohé iné u nás i v zahranič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3:02Z</dcterms:created>
  <dc:creator>PC</dc:creator>
  <dc:description/>
  <dc:language>en-US</dc:language>
  <cp:lastModifiedBy>Saxa</cp:lastModifiedBy>
  <cp:lastPrinted>2002-10-27T10:55:42Z</cp:lastPrinted>
  <dcterms:modified xsi:type="dcterms:W3CDTF">2004-11-22T07:19:41Z</dcterms:modified>
  <cp:revision>100</cp:revision>
  <dc:subject/>
  <dc:title>Bez nadpisu</dc:title>
</cp:coreProperties>
</file>