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3EF-3B4C-4835-8ECF-8D3E85C9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FDBE-E6EE-44E0-AB7D-551F3F21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9E5-0327-417F-9531-CC07C02F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33F-6746-4E24-9DB0-0E5FE013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B29-B1A3-4C41-A2B8-CEC9A81A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B8B-A87E-4BA6-8DB4-9AAA19C4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1AD-B193-4A79-89DE-042340F4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0052-BFA8-421F-BBF3-5252CE52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106-FB51-47F7-9B76-90C8C4BA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159-A9E4-4DBA-AF21-FD2BE980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E1F-D3D0-45FA-B756-D460C215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C85-424C-4498-8BAD-D4B9717D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81B5-CED5-44CE-93B6-B8EB2EAF9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Arial"/>
              </a:rPr>
              <a:t>Favourable conservation status</a:t>
            </a:r>
            <a:r>
              <a:rPr b="0" lang="sk-SK" sz="4400" spc="-1" strike="noStrike">
                <a:solidFill>
                  <a:srgbClr val="ffffff"/>
                </a:solidFill>
                <a:latin typeface="Arial"/>
              </a:rPr>
              <a:t> – lesné biot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nícky výskumný úst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o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tátna ochrana prírody 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Ďalšie znaky zahrnuté do štruktú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prirodzené zmladenie dreví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(nevyhnutná podmienka zachovania biotopov, dá sa zaradiť aj do druhovej štruktúry bioto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hrubé a zvlášť cenné strom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(umelo sa dajú udržať aj v intenzívne obhospodarovaných lesoch, preto ich hodnotíme osobit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mŕtve drevo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(cenné je skôr z hľadiska biodiverzity, v priestorovej  štruktúre má význam len ako estetická zložka porast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Hlavné problémy definícií štruktú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tanovenie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minimálnych výmer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pre započítanie rastového stupňa, vývojového štádia, stromovej vrstvy...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tanovenie plošnej hranice medzi prvkom vrstvy a prvkom rovnovekého lesa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(0,30 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tanovenie minimálneho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zakmeneni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prvku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(0,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195640" y="3645000"/>
            <a:ext cx="4752720" cy="1152360"/>
            <a:chOff x="2195640" y="3645000"/>
            <a:chExt cx="4752720" cy="1152360"/>
          </a:xfrm>
        </p:grpSpPr>
        <p:sp>
          <p:nvSpPr>
            <p:cNvPr id="63" name=""/>
            <p:cNvSpPr/>
            <p:nvPr/>
          </p:nvSpPr>
          <p:spPr>
            <a:xfrm>
              <a:off x="2195640" y="3645000"/>
              <a:ext cx="4752720" cy="1152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16240" y="3675240"/>
              <a:ext cx="153360" cy="658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95160" y="4044600"/>
              <a:ext cx="15336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87160" y="4318920"/>
              <a:ext cx="720" cy="329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74080" y="3703320"/>
              <a:ext cx="153360" cy="955800"/>
              <a:chOff x="2674080" y="3703320"/>
              <a:chExt cx="153360" cy="955800"/>
            </a:xfrm>
          </p:grpSpPr>
          <p:sp>
            <p:nvSpPr>
              <p:cNvPr id="68" name=""/>
              <p:cNvSpPr/>
              <p:nvPr/>
            </p:nvSpPr>
            <p:spPr>
              <a:xfrm>
                <a:off x="2674080" y="370332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750760" y="43448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565000" y="4516200"/>
              <a:ext cx="7560" cy="9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255120" y="3696480"/>
              <a:ext cx="153360" cy="955800"/>
              <a:chOff x="3255120" y="3696480"/>
              <a:chExt cx="153360" cy="955800"/>
            </a:xfrm>
          </p:grpSpPr>
          <p:sp>
            <p:nvSpPr>
              <p:cNvPr id="72" name=""/>
              <p:cNvSpPr/>
              <p:nvPr/>
            </p:nvSpPr>
            <p:spPr>
              <a:xfrm>
                <a:off x="3255120" y="3696480"/>
                <a:ext cx="15336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331800" y="433800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434040" y="3703320"/>
              <a:ext cx="153360" cy="955800"/>
              <a:chOff x="3434040" y="3703320"/>
              <a:chExt cx="153360" cy="955800"/>
            </a:xfrm>
          </p:grpSpPr>
          <p:sp>
            <p:nvSpPr>
              <p:cNvPr id="75" name=""/>
              <p:cNvSpPr/>
              <p:nvPr/>
            </p:nvSpPr>
            <p:spPr>
              <a:xfrm>
                <a:off x="3434040" y="370332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10720" y="43448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086360" y="3723120"/>
              <a:ext cx="153000" cy="955800"/>
              <a:chOff x="4086360" y="3723120"/>
              <a:chExt cx="153000" cy="955800"/>
            </a:xfrm>
          </p:grpSpPr>
          <p:sp>
            <p:nvSpPr>
              <p:cNvPr id="78" name=""/>
              <p:cNvSpPr/>
              <p:nvPr/>
            </p:nvSpPr>
            <p:spPr>
              <a:xfrm>
                <a:off x="4086360" y="3723120"/>
                <a:ext cx="15300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62680" y="43646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3888000" y="3709440"/>
              <a:ext cx="153360" cy="955800"/>
              <a:chOff x="3888000" y="3709440"/>
              <a:chExt cx="153360" cy="955800"/>
            </a:xfrm>
          </p:grpSpPr>
          <p:sp>
            <p:nvSpPr>
              <p:cNvPr id="81" name=""/>
              <p:cNvSpPr/>
              <p:nvPr/>
            </p:nvSpPr>
            <p:spPr>
              <a:xfrm>
                <a:off x="3888000" y="370944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64680" y="435096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623040" y="4221720"/>
              <a:ext cx="121680" cy="405720"/>
              <a:chOff x="3623040" y="4221720"/>
              <a:chExt cx="121680" cy="405720"/>
            </a:xfrm>
          </p:grpSpPr>
          <p:sp>
            <p:nvSpPr>
              <p:cNvPr id="84" name=""/>
              <p:cNvSpPr/>
              <p:nvPr/>
            </p:nvSpPr>
            <p:spPr>
              <a:xfrm>
                <a:off x="3623040" y="4221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686760" y="4542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3763440" y="4228920"/>
              <a:ext cx="121680" cy="405720"/>
              <a:chOff x="3763440" y="4228920"/>
              <a:chExt cx="121680" cy="405720"/>
            </a:xfrm>
          </p:grpSpPr>
          <p:sp>
            <p:nvSpPr>
              <p:cNvPr id="87" name=""/>
              <p:cNvSpPr/>
              <p:nvPr/>
            </p:nvSpPr>
            <p:spPr>
              <a:xfrm>
                <a:off x="3763440" y="42289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27160" y="45500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360760" y="4274280"/>
              <a:ext cx="121680" cy="405720"/>
              <a:chOff x="5360760" y="4274280"/>
              <a:chExt cx="121680" cy="405720"/>
            </a:xfrm>
          </p:grpSpPr>
          <p:sp>
            <p:nvSpPr>
              <p:cNvPr id="90" name=""/>
              <p:cNvSpPr/>
              <p:nvPr/>
            </p:nvSpPr>
            <p:spPr>
              <a:xfrm>
                <a:off x="536076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42448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207400" y="4310280"/>
              <a:ext cx="121680" cy="366120"/>
              <a:chOff x="5207400" y="4310280"/>
              <a:chExt cx="121680" cy="366120"/>
            </a:xfrm>
          </p:grpSpPr>
          <p:sp>
            <p:nvSpPr>
              <p:cNvPr id="93" name=""/>
              <p:cNvSpPr/>
              <p:nvPr/>
            </p:nvSpPr>
            <p:spPr>
              <a:xfrm>
                <a:off x="5207400" y="4310280"/>
                <a:ext cx="121680" cy="28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71120" y="4600080"/>
                <a:ext cx="6480" cy="76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5047920" y="4274280"/>
              <a:ext cx="121680" cy="405720"/>
              <a:chOff x="5047920" y="4274280"/>
              <a:chExt cx="121680" cy="405720"/>
            </a:xfrm>
          </p:grpSpPr>
          <p:sp>
            <p:nvSpPr>
              <p:cNvPr id="96" name=""/>
              <p:cNvSpPr/>
              <p:nvPr/>
            </p:nvSpPr>
            <p:spPr>
              <a:xfrm>
                <a:off x="504792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11164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481720" y="4274280"/>
              <a:ext cx="121680" cy="405720"/>
              <a:chOff x="5481720" y="4274280"/>
              <a:chExt cx="121680" cy="405720"/>
            </a:xfrm>
          </p:grpSpPr>
          <p:sp>
            <p:nvSpPr>
              <p:cNvPr id="99" name=""/>
              <p:cNvSpPr/>
              <p:nvPr/>
            </p:nvSpPr>
            <p:spPr>
              <a:xfrm>
                <a:off x="548172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4544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896360" y="3762000"/>
              <a:ext cx="153360" cy="955800"/>
              <a:chOff x="4896360" y="3762000"/>
              <a:chExt cx="153360" cy="955800"/>
            </a:xfrm>
          </p:grpSpPr>
          <p:sp>
            <p:nvSpPr>
              <p:cNvPr id="102" name=""/>
              <p:cNvSpPr/>
              <p:nvPr/>
            </p:nvSpPr>
            <p:spPr>
              <a:xfrm>
                <a:off x="4896360" y="3762000"/>
                <a:ext cx="15336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73040" y="44035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117120" y="3781800"/>
              <a:ext cx="153000" cy="955800"/>
              <a:chOff x="6117120" y="3781800"/>
              <a:chExt cx="153000" cy="955800"/>
            </a:xfrm>
          </p:grpSpPr>
          <p:sp>
            <p:nvSpPr>
              <p:cNvPr id="105" name=""/>
              <p:cNvSpPr/>
              <p:nvPr/>
            </p:nvSpPr>
            <p:spPr>
              <a:xfrm>
                <a:off x="6117120" y="3781800"/>
                <a:ext cx="15300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193440" y="44233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943960" y="3781800"/>
              <a:ext cx="153360" cy="955800"/>
              <a:chOff x="5943960" y="3781800"/>
              <a:chExt cx="153360" cy="955800"/>
            </a:xfrm>
          </p:grpSpPr>
          <p:sp>
            <p:nvSpPr>
              <p:cNvPr id="108" name=""/>
              <p:cNvSpPr/>
              <p:nvPr/>
            </p:nvSpPr>
            <p:spPr>
              <a:xfrm>
                <a:off x="5943960" y="378180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20640" y="44233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784840" y="3787920"/>
              <a:ext cx="153000" cy="955800"/>
              <a:chOff x="5784840" y="3787920"/>
              <a:chExt cx="153000" cy="955800"/>
            </a:xfrm>
          </p:grpSpPr>
          <p:sp>
            <p:nvSpPr>
              <p:cNvPr id="111" name=""/>
              <p:cNvSpPr/>
              <p:nvPr/>
            </p:nvSpPr>
            <p:spPr>
              <a:xfrm>
                <a:off x="5784840" y="3787920"/>
                <a:ext cx="15300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61160" y="44294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618880" y="3767760"/>
              <a:ext cx="153360" cy="955800"/>
              <a:chOff x="5618880" y="3767760"/>
              <a:chExt cx="153360" cy="955800"/>
            </a:xfrm>
          </p:grpSpPr>
          <p:sp>
            <p:nvSpPr>
              <p:cNvPr id="114" name=""/>
              <p:cNvSpPr/>
              <p:nvPr/>
            </p:nvSpPr>
            <p:spPr>
              <a:xfrm>
                <a:off x="5618880" y="376776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95560" y="440928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581520" y="4320720"/>
              <a:ext cx="121680" cy="405720"/>
              <a:chOff x="6581520" y="4320720"/>
              <a:chExt cx="121680" cy="405720"/>
            </a:xfrm>
          </p:grpSpPr>
          <p:sp>
            <p:nvSpPr>
              <p:cNvPr id="117" name=""/>
              <p:cNvSpPr/>
              <p:nvPr/>
            </p:nvSpPr>
            <p:spPr>
              <a:xfrm>
                <a:off x="658152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64524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427800" y="4356360"/>
              <a:ext cx="121680" cy="366120"/>
              <a:chOff x="6427800" y="4356360"/>
              <a:chExt cx="121680" cy="366120"/>
            </a:xfrm>
          </p:grpSpPr>
          <p:sp>
            <p:nvSpPr>
              <p:cNvPr id="120" name=""/>
              <p:cNvSpPr/>
              <p:nvPr/>
            </p:nvSpPr>
            <p:spPr>
              <a:xfrm>
                <a:off x="6427800" y="4356360"/>
                <a:ext cx="121680" cy="28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91520" y="4646160"/>
                <a:ext cx="6480" cy="76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268680" y="4320720"/>
              <a:ext cx="121680" cy="405720"/>
              <a:chOff x="6268680" y="4320720"/>
              <a:chExt cx="121680" cy="405720"/>
            </a:xfrm>
          </p:grpSpPr>
          <p:sp>
            <p:nvSpPr>
              <p:cNvPr id="123" name=""/>
              <p:cNvSpPr/>
              <p:nvPr/>
            </p:nvSpPr>
            <p:spPr>
              <a:xfrm>
                <a:off x="626868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3240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702120" y="4320720"/>
              <a:ext cx="121680" cy="405720"/>
              <a:chOff x="6702120" y="4320720"/>
              <a:chExt cx="121680" cy="405720"/>
            </a:xfrm>
          </p:grpSpPr>
          <p:sp>
            <p:nvSpPr>
              <p:cNvPr id="126" name=""/>
              <p:cNvSpPr/>
              <p:nvPr/>
            </p:nvSpPr>
            <p:spPr>
              <a:xfrm>
                <a:off x="670212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76584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66"/>
                </a:solidFill>
                <a:latin typeface="Arial"/>
              </a:rPr>
              <a:t>Definovanie vzťahu medzi množstvom prirodzeného zmladenia a vývojovým štádiom poras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odmienky pre prirodzené zmladenie zodpovedajú vývojovým fázam alebo rastovým stupňom jednotlivých porastov a/alebo zmladenie všetkých hlavných drevín pokrýva 61 – 100 % plochy na ktorej by sa malo vyskytova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odmienky pre prirodzené zmladenie nie celkom zodpovedajú rastovým stupňom jednotlivých porastov (medzery v zápoji, celkové preriedenie porastov) a/alebo zmladenie všetkých hlavných drevín pokrýva </a:t>
            </a:r>
            <a:r>
              <a:rPr b="0" lang="sk-SK" sz="2000" spc="-1" strike="noStrike">
                <a:solidFill>
                  <a:srgbClr val="ffcc66"/>
                </a:solidFill>
                <a:latin typeface="Arial"/>
              </a:rPr>
              <a:t>11 – 60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% plochy na ktorej by sa malo vyskytovať (vrátane medzier v mladých porasto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odmienky pre prirodzené zmladenie nie celkom zodpovedajú rastovým stupňom jednotlivých porastov (medzery v zápoji, celkové preriedenie porastov)  a/alebo zmladenie všetkých hlavných drevín pokrýva </a:t>
            </a:r>
            <a:r>
              <a:rPr b="0" lang="sk-SK" sz="2000" spc="-1" strike="noStrike">
                <a:solidFill>
                  <a:srgbClr val="ffcc66"/>
                </a:solidFill>
                <a:latin typeface="Arial"/>
              </a:rPr>
              <a:t>1 – 10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% plochy na ktorej by sa malo vyskytovať (vrátane medzier v mladých porasto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Neexistuje predpoklad pre vznik podmienok pre prirodzené zmladenie (vyskytujú sa iba prestarnuté porasty) alebo podmienky pre prirodzené zmladenie sú, ale dreviny sa z nejakého dôvodu nezmladzu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4960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66"/>
                </a:solidFill>
                <a:latin typeface="Arial"/>
              </a:rPr>
              <a:t>Hrubé a zvlášť cenné str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tanovenie minimálnej hrúbky a poč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absolútn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hrúbka (&gt;... cm) vs.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relatívn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(o generáciu staršie, o ... cm hrubšie ako hlavný por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roblém stanoviť rozumnú hodno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cieľ: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určitý podiel starších stromov aj v maldších rovnovekých porast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66"/>
                </a:solidFill>
                <a:latin typeface="Arial"/>
              </a:rPr>
              <a:t>Mŕtve dr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tanovenie minimálnej hrúbky a poč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hrúbka musí byť absolút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Negatívne vply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negatívne fakt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en ako zoznam, neovplyvnia celkové hodnot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dravotný sta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je výsledkom pôsobenia nepriaznivých faktorov, hodnotí sa nepriamo, na základe viditeľného poškod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širšie priestorové súvisl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ľkosť a izolovanosť lok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ĺžka hranice s „negatívne pôsobiacimi plocham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Zdravotný st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mierne poškoden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vplyvňujúce fyziologické procesy drev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tredné poškoden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rátkodobo ovplyvňujúce fyziologické procesy drev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načné poškoden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lhodobo ovplyvňujúce fyziologické procesy drev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fatálne poškoden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toré už spôsobilo odumretie stromov alebo ho s vysokou pravdepodobnosťou spôsobí v časovom horizonte do 10 r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zohľadnenie závažnosti poškod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bjektivita hodnot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rozlišovanie akútneho a chronického poškod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66"/>
                </a:solidFill>
                <a:latin typeface="Arial"/>
              </a:rPr>
              <a:t>Veľkosť a izolovanosť lok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minimálna výmera súvislej lokality </a:t>
            </a:r>
            <a:r>
              <a:rPr b="1" lang="sk-SK" sz="3200" spc="-1" strike="noStrike">
                <a:solidFill>
                  <a:srgbClr val="333399"/>
                </a:solidFill>
                <a:latin typeface="Arial"/>
              </a:rPr>
              <a:t>alebo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minimálna súhrnná výmera skupiny lokalí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99"/>
                </a:solidFill>
                <a:latin typeface="Arial"/>
              </a:rPr>
              <a:t>nedostatok objektívnych kritérií pre stanovenie vým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Obklopenosť negatívne pôsobiacimi plochami ako napr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intenzívne obhospodarované poľnohospodárske pozem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aktívne povrchové lo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širujúce sa kalamitiská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99"/>
                </a:solidFill>
                <a:latin typeface="Arial"/>
              </a:rPr>
              <a:t>Nezohľadnenie súvisu medzi veľkosťou lokality a obklopenosťou negatívne pôsobiacimi ploch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dnotiace tabuľky biotop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žadujú si rozdiely medzi lesnými biotopmi samostatné hodnotenie každého z ni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 čo majú slúžiť tieto tabuľk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o pomôcka pre terénneho pracovní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o pomôcka pre programát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ú byť tieto tabuľky „na čítanie“ alebo majú byť „čo najstručnejšie“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zdiely medzi biotop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eľkoplošné vs. prirodzene maloplošné biot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určitý problém s porovnávaním kraj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irodzené vs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umelé biot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j medzi lesnými biotopmi sú biotopy, ktoré nie sú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  <a:ea typeface="Arial"/>
              </a:rPr>
              <a:t>klimax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lošné vs. líniové biot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edinečné biotopy vs. biotopy príbuzné okolitým biotop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sobitný prípad: </a:t>
            </a: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kosodrev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66"/>
                </a:solidFill>
                <a:latin typeface="Arial"/>
              </a:rPr>
              <a:t>Nečakaný problém: </a:t>
            </a:r>
            <a:br>
              <a:rPr sz="4000"/>
            </a:br>
            <a:r>
              <a:rPr b="0" lang="sk-SK" sz="4000" spc="-1" strike="noStrike">
                <a:solidFill>
                  <a:srgbClr val="ffcc66"/>
                </a:solidFill>
                <a:latin typeface="Arial"/>
              </a:rPr>
              <a:t>čo patrí do biotop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asto platí: nepriaznivý stav biotopu       = iný bio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dnotené indikátory závisia od hodnotenej plo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iešeni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 biotopu nemapuje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úbaniská, kalamitné holiny nad 3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kultúry dreviny XY nad 0,5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e výmera kritérium ?</a:t>
            </a: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200"/>
            </a:b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Naše zaraden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494160"/>
                <a:gridCol w="4735440"/>
              </a:tblGrid>
              <a:tr h="1135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Základná informácia o lesnom biotope na hodnotenom územ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Vým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(plocha biotopu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sk-SK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Súčasná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výmera biotopu na hodnotenom území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sk-SK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Potenciálna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výmera biotopu  (na základe pokladov lesníckych typologických máp po transformácii jednotiek na biotopové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50920" y="333360"/>
          <a:ext cx="8642160" cy="6264360"/>
        </p:xfrm>
        <a:graphic>
          <a:graphicData uri="http://schemas.openxmlformats.org/drawingml/2006/table">
            <a:tbl>
              <a:tblPr/>
              <a:tblGrid>
                <a:gridCol w="720720"/>
                <a:gridCol w="1376280"/>
                <a:gridCol w="1636560"/>
                <a:gridCol w="1636920"/>
                <a:gridCol w="1635120"/>
                <a:gridCol w="1636560"/>
              </a:tblGrid>
              <a:tr h="343080"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Kritérium / Indiká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riaznivý stav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priaznivý sta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344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born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obr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arušen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vyhovujú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14684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ypické druhy bioto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ruhové zloženie stromovej vrstv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. v.s.:  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, Quercus petraea agg., Carpinus betulus,  Acer pseudoplatanus, Acer platanoides, Tilia cordata, Tilia platyphylos, Cerasus av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4. v.s.:  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, Abies alba, Acer pseudoplatanus, Acer platanoides, Tilia cordata, Tilia platyphylos,  Cerasus av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. a 6. v.s.:  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Fagus sylvatica, Abies alba,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Picea abies, Acer pseudoplatanus, Acer platanoides, Ulmus glabra, Fraxinus excelsior, Sorbus aucuparia,  Tilia cordata, Tilia platyphy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Miera priblíženia k modelu (%) a výskyt inváznych drev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00 - 85 % na celej ploche biotopu bez výskytu inváznych drevín (nie sú znám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84 - 70 % na celej ploche biotopu 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ojedinelý výskyt inváznych drevín (agá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69 -50 % na celej ploche biotopu  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výskyt inváznych drevín ≤20% (agá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lt; 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0 % na celej ploche bioto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výskyt inváznych drevín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0% (agá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Bylinné druh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 k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orasty bez výskytu inváznych druhov </a:t>
                      </a:r>
                      <a:r>
                        <a:rPr b="0" i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výskyt indikátorov eutrofizácie alebo acidifikácie &lt; 5 % (ak vyplýva z mikroreliéfu, aj via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vázne druhy a indikátory eutrofizácie v zastúpení 5 - 30 % aprítomnosť inváznych druhov 5 - 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vázne druhy a indikátory eutrofizácie v zastúpení 30-80 %, prítomnosť inváznych druhov &lt; 20 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ypické druhy sú  úplne alebo takmer úplne vytlačené inváznymi druhmi alebo indikátormi eutrofiz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dikátory eutrofiz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Urtica dioica, Chelidonium majus, Sambucus nig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dikátory acidifik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uzula luzuloides, Avenella flexuosa, Vaccinium myrtillus, Luzula sylvatica, acidofilné machy </a:t>
                      </a:r>
                      <a:r>
                        <a:rPr b="0" i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ozn.: dominantný výskyt týchto druhov  mení zaradenie lokality do bioto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189000"/>
          <a:ext cx="8713800" cy="6462720"/>
        </p:xfrm>
        <a:graphic>
          <a:graphicData uri="http://schemas.openxmlformats.org/drawingml/2006/table">
            <a:tbl>
              <a:tblPr/>
              <a:tblGrid>
                <a:gridCol w="865080"/>
                <a:gridCol w="1152360"/>
                <a:gridCol w="1656000"/>
                <a:gridCol w="1942920"/>
                <a:gridCol w="1584360"/>
                <a:gridCol w="1513080"/>
              </a:tblGrid>
              <a:tr h="2156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Štruktúra lesného bioto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eková štruktúra (vývojové štádiá a rastové stupne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skyt aspoň troch ARS, z ktorých aspoň jeden musí byť ≥ hrubá kmeňovina alebo prítomnosť všetkých vývojových štádií prírodných les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skyt aspoň dvoch ARS, z ktorých aspoň jeden musí byť ≥ hrubá kmeňovina alebo prítomnosť 2 vývojových štádií prírodných les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zastúpenie aspoň dvoch ARS, ktoré však nedosahujú dimenzie hrubej kmeňoviny alebo výskyt len jedného ARS, ktorý je ≥ hrubá kmeňov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rítomnosť len jedného ARS, ktorý nedosahuje dimenzie hrubej kmeňovi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rirodzené zmladenie drev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riestorová štruktúra (vertikálna, horizontálna, štrukturálna mozaikovitosť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je tvorená prevažne dvoj- a viacvrstvovými porastmi (aspoň zo 75%)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mozaikou jednovrstvových porastov, v ktorej súvislá výmera jedného rastového stupňa &lt; 1 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je tvorená prevažne dvoj- a viacvrstvovými porastmi (aspoň z 51%)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mozaikou jednovrstvových porastov, v ktorej súvislá výmera jedného rastového stupňa je 1- 5 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je tvorená prevažne mozaikou jednovrstvových porastov, v ktorej súvislá výmera jedného rastového stupňa je 5,01 - 50 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je tvorená mozaikou jednovrstvových porastov, v ktorej súvislá výmera aspoň jedného rastového stupňa je &gt; 50 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333360"/>
          <a:ext cx="8569080" cy="6335640"/>
        </p:xfrm>
        <a:graphic>
          <a:graphicData uri="http://schemas.openxmlformats.org/drawingml/2006/table">
            <a:tbl>
              <a:tblPr/>
              <a:tblGrid>
                <a:gridCol w="934920"/>
                <a:gridCol w="1144440"/>
                <a:gridCol w="1622520"/>
                <a:gridCol w="1622520"/>
                <a:gridCol w="1622520"/>
                <a:gridCol w="1622160"/>
              </a:tblGrid>
              <a:tr h="649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gatívne vply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gatívne fak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misie,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nekrózy buka, zver, pastva, (samozasmrečovani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Zdravotný stav (ako výsledok vplyvu negatívnych faktor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SP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,a aleb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skyt stupňa 4 ≤ 10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SP &gt;1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  a aleb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skyt stupňa 4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10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≤ 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SP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2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 alebo výskyt stupňa  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20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SP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Širšie priestorové súvisl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0 ha,  alebo skupina menších lokalít vzdialených  od seba max. 0,5 km o súhrnnej výmere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0 ha, 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lokalita nehraničí s negatívne  pôsobiacimi plocha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15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ha,  alebo skupina menších lokalít vzdialených  od seba max. 0,5 km o súhrnnej výmere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30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ha,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lokalita hraničí s negatívne  pôsobiacimi plochami v rozsahu 25% z celkovej dĺžky jej hranice,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5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ha,  alebo skupina menších lokalít vzdialených  od seba max. 0,5 km o súhrnnej výmere 15 ha,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lokalita hraničí s negatívne  pôsobiacimi plochami v rozsahu 50 % z celkovej dĺžky jej hranice,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lt;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ko 2 ha, a vzdialenosť od susedných lokalít väčšia ako  0,5 km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dĺžka hranice s  negatívne pôsobiacimi plochami presahuje 50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ýsledné hodnotenie F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metóda najslabšieho ohnivka“ vs. „metóda váženého priemeru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iešenie: zložitý vážený priemer s variabilnými váhami každého indikátora aj sta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áhy zatiaľ nie sú odladené na konkrétnych príklad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24000" y="476280"/>
          <a:ext cx="8496000" cy="604836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  <a:gridCol w="1355400"/>
                <a:gridCol w="970200"/>
                <a:gridCol w="971640"/>
                <a:gridCol w="971280"/>
                <a:gridCol w="970200"/>
                <a:gridCol w="971280"/>
              </a:tblGrid>
              <a:tr h="397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riter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áha kritér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diká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áha indiká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av biotop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=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=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=-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6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ypické druhy biotop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Z strom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49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yliny a k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60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Štruktúra lesného biotop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ková š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mlade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4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iestorová š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4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rubé str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4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ŕtve dre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46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gatívne vply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dravotný st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ŠP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č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žnosť vzájomnej kompenzácie indikátorov (tlmenie extrém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žnosť vzájomnej kompenzácie indikátorov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prehľadnosť algoritmu a ťažká porovnateľnosť s inými krajin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ojité váhy: vlastné váhy a limitné hodnoty indikátora =&gt; neprehľad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ťažké stanovenie a odôvodnenie vá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4000" y="404640"/>
          <a:ext cx="8496000" cy="6048720"/>
        </p:xfrm>
        <a:graphic>
          <a:graphicData uri="http://schemas.openxmlformats.org/drawingml/2006/table">
            <a:tbl>
              <a:tblPr/>
              <a:tblGrid>
                <a:gridCol w="396720"/>
                <a:gridCol w="3209760"/>
                <a:gridCol w="4889520"/>
              </a:tblGrid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Kritériá (FC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Indikátory (FC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Typické druhy biotop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Druhové zloženie stromovej vrstvy (miera priblíženia k modelu a výskyt inváznych dreví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Bylinné druhy a k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Štruktúra lesného biotop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Veková štruktúra (vývojové štádiá a rastové stupne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Prirodzené zmladenie dreví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Priestorová štruktúra (vertikálna, horizontálna, štrukturálna mozaikovitosť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Hrubé a zvlášť cenné strom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Hrubé mŕtve dre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egatívne vplyv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egatívne faktor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Zdravotný stav (ako výsledok vplyvu negatívnych faktoro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Širšie priestorové súvisl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finí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utnosť jednoznačne definovať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používané termíny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(vrstva, rastový stupeň,prirodzené zmladenie a p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kvantifikátory, merné jedno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spôsob zápisu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(napr. pomocou matematických symbolov, slovne, pre každý biotop / vybrané biotopy a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revinové zlož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miera priblíženia k modelu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(%) pre jednotlivé biotopy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pr. 9410: SM 50–100, JH </a:t>
            </a:r>
            <a:r>
              <a:rPr b="0" lang="sk-SK" sz="24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–10, JB </a:t>
            </a:r>
            <a:r>
              <a:rPr b="0" lang="sk-SK" sz="24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–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prítomnosť inváznych drev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jmenej kontroverzný indik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ostatočná predstava o pôvodnom vzhľade väčšiny biotop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eprehľadnosť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labé zdôvodnenie požadovaných mier aproximácie </a:t>
            </a:r>
            <a:r>
              <a:rPr b="0" lang="sk-SK" sz="2400" spc="-1" strike="noStrike">
                <a:solidFill>
                  <a:srgbClr val="333399"/>
                </a:solidFill>
                <a:latin typeface="Arial"/>
              </a:rPr>
              <a:t>(je 30 % veľa a lebo mál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eschopnosť hodnotiť pôvodnosť genofond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ylinné druhy a k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väčší počet druhov a menej prehľadná situácia v teréne než u drev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únosná náročnosť exaktného zisťov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Riešen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druhové zloženie bylinnej vrstvy závisí od drevinovej zlož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ajvýznamnejšie zmeny sa prejavujú nástupom: inváznych alebo expanzívnych druhov, indikátorov acidifikácie, eutrofizácie, ruderálnych druhov a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Bylinné druhy a kry 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výhody a nevýho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ednoduchosť hodnot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výraznenie najvýznamnejších zm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eschopnosť zachytiť zníženie diverzity v prípade, že pôvodné druhy nie sú nahradené inými druh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ubjektivita rozhodnutia o nepôvodnosti určitých druhov (napr. </a:t>
            </a:r>
            <a:r>
              <a:rPr b="0" i="1" lang="sk-SK" sz="3200" spc="-1" strike="noStrike">
                <a:solidFill>
                  <a:srgbClr val="ffffff"/>
                </a:solidFill>
                <a:latin typeface="Arial"/>
              </a:rPr>
              <a:t>Urtica dioica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Štruktúra porast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ejednoznačnosť  termínu štruktúra (usporiadanie prvkov alebo vzťahov v rámci akéhokoľvek vyššieho cel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náš prístup: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priestorová štruktúra lesných porastov a ich skupín (rovnovekosť vs. rôznovekosť, mozaikovitosť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ejednoznačnosť významu priestorovej štruktúry pre F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estorová štruktúra porastov a / alebo ich skupí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horizontálna štruktúra (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veľkosť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a rozmiestnenie štrukturálnych prvk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vertikálna štruktúra (vrstevnatosť porastov)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≈ funkcia veku stromov =&gt; veková štruktú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99"/>
                </a:solidFill>
                <a:latin typeface="Arial"/>
                <a:ea typeface="Arial"/>
              </a:rPr>
              <a:t>Obe štruktúry spolu úzko súvi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99"/>
                </a:solidFill>
                <a:latin typeface="Arial"/>
                <a:ea typeface="Arial"/>
              </a:rPr>
              <a:t>Výšková rozrôznenosť pôvodných porastov je v hospodárskom lese do istej miery nahradená mozaikou rovnovekých poras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06:23:13Z</dcterms:created>
  <dc:creator>Matej Schwarz</dc:creator>
  <dc:description/>
  <dc:language>en-US</dc:language>
  <cp:lastModifiedBy>Matej Schwarz</cp:lastModifiedBy>
  <dcterms:modified xsi:type="dcterms:W3CDTF">2004-06-14T19:05:16Z</dcterms:modified>
  <cp:revision>54</cp:revision>
  <dc:subject/>
  <dc:title>Zastúpenie jaseňa v lesných porastoch Slovenska</dc:title>
</cp:coreProperties>
</file>