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C96-B24D-4E31-AB50-3B8D4967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A68-2A54-44CF-8A02-B499383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A1B-91EA-443B-87E5-F6984589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CF8-EA9B-4EF1-AEF9-587B6C02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AE9-B844-467B-A9E6-BD89D3A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2CD-EA76-45F3-B423-18B14FD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4DF-F5F2-4B9F-B873-E75467A1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71D-2A77-462D-A6E6-7E647C0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9A1-DDB1-4BDD-8D87-8D1FD9B4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1EC-E756-4CBC-AF04-F989372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D8A-073C-43A3-9A02-E2928BEE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A9E-47F3-4D96-A83B-64F7E27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5F6-3858-41C4-8CC0-D2E6106D2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8458200" cy="885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OVANIE A HODNOTENIE PRIAZNIVÉHO STAVU BIOTOPU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ffer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, Rastislav Lasák, Ivan Jarolímek, Milan Valachovič, </a:t>
            </a:r>
            <a:br>
              <a:rPr sz="1600"/>
            </a:b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Viera Stanová, Richard Hrivnák, Marta Kubandov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1040" y="3373560"/>
            <a:ext cx="7162560" cy="1008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TURA 2000 IN SLOVAKIA – BRIDGING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orking Grou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382760"/>
            <a:ext cx="7505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. Areál rozšír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definovane dvomi subkritér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1 Zmeny počtu a rozšírenia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mapovým znázornením priestorového rozmiestnenia lokalít, kde sa zvýraznia lokality zaniknuté, existujúce a nov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2 Zmeny veľkostí plôch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v grafe a na ma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87760"/>
            <a:ext cx="84200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y diagnostických taxón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EN (Sin Equa Non)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ktorých prítomnosť v druhovom zázname je nevyhnutn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Negatívne-diferenciálne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ítomnosť týchto taxónov vylučuje identifikáciu daného typu. Daný taxón je bližšie špecifikovaný svojou pokryvnosťo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Edifikáto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3 (t.j. viac ako 50%).  Typ biotopu je identifikovaný prítomnosťou daného, limitného počtu edifikátor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kačn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väčšou ako 1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Typ biotopu je identifikovaný prítomnosťou daného, limitného počtu indikačných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Charakteristick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Zoznam taxónov charakterizujúcich biotop. Na stanovenie typu biotopu je potrebná prítomnosť daného, limitného počtu týchto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76320"/>
            <a:ext cx="826776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1. Identifikácia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ruhový zázn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úpis taxónov s hodnotami pokryvností na lokalite biotopu, pokryvnosť je chápaná v zmysle Tansley-ho škál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130400"/>
            <a:ext cx="80262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oky identifikácie typ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top je identifikovaný z druhového záznamu. Každý druhový záznam je analyzovaný/konfrontovaný oproti diagnóze každého nelesného typu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dentifikovanie typu biotopu prebieha postupne. Pričom postup do ďalšieho kroku je podmienený splnením te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1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SEN taxóny, ich 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2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negatívne-diferenciálne taxóny ich ne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3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edifikátory, ich požadovaný, limitný počet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4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indikačných taxónov postupuje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5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charakteristických taxónov je to ten ty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76320"/>
            <a:ext cx="76705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odnotenie stavu biotopu na lokalitnej úro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biotop je vytvorená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hodnotiaca tabuľ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 limitnými hodnotami - HTL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re všetky relevantné kritériá a všetky kategórie (Tab 1). Pre potreby celkového ohodnotenia biotopu na lokalite je nevyhnutné získať syntetickú hodnotu stavu biotopu. Pre tento krok je nevyhnutné zvažovať rôznu váhu jednotlivých hodnotiacich kritéri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áhy určujeme takým spôsobom aby súčet váh všetkých kritérií bol rovný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7432" b="0"/>
          <a:stretch/>
        </p:blipFill>
        <p:spPr>
          <a:xfrm>
            <a:off x="533520" y="3305160"/>
            <a:ext cx="7888320" cy="3292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214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LH je podkladom pre zaradenie konkrétneho biotopu na lokalite do kategórií hodnotenia stavu biotopu tzv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okalitná tabuľka stavu biotopu - LTSB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Tab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17991" b="0"/>
          <a:stretch/>
        </p:blipFill>
        <p:spPr>
          <a:xfrm>
            <a:off x="533520" y="2446200"/>
            <a:ext cx="7953120" cy="353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227240"/>
            <a:ext cx="75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tegóriám jednotlivých kritérií sa pridelia hodnoty podľa tabuľky kvantifikátorov (Tab.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20774" b="0"/>
          <a:stretch/>
        </p:blipFill>
        <p:spPr>
          <a:xfrm>
            <a:off x="533520" y="2028960"/>
            <a:ext cx="7837200" cy="34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76320"/>
            <a:ext cx="79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ríklad výsledná kombinácia hodnôt jednotlivých kritérií podľa LTSB (Tab. 2) 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B=3; A=4; P=3,5; N=1,5; N=1,5; P=3,5; C=2; A=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eto hodnoty sú násobené váhami uvedenými v HTLH daného biotopu (Tab. 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10362" b="0"/>
          <a:stretch/>
        </p:blipFill>
        <p:spPr>
          <a:xfrm>
            <a:off x="533520" y="2397240"/>
            <a:ext cx="7759440" cy="303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543384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a týchto hodnôt je váženým priemerom, čo vyjadruje syntetickú hodnotu stavu biotopu. V našom príklade je to hodnot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,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222200"/>
            <a:ext cx="81406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ovenie intervalu pre zaradenie syntetickej hodnoty do výsledn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ximálny teoretický počet kombinácií výsledkov LTSB je 6144. Avšak maximálny počet syntetických hodnôt pre jednotlivé tieto kombinácie je podstatne nižší, nakoľko väčšina kombinácií LTSB majú rovnakú syntetickú hodn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mbinácia z nášho príklad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=2,95 podobne ako aj ďalších 235 kombinácií (BCPPPNAB=2.95,CAPPPNAA=2.95,CAPPPPAB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e každý typ biotopu sú vytvorené limity hodnôt pre jednotlivé kategórie. Medián určuje hranicu medzi priaznivým a nepriaznivým stavom a začlenenie do jednotlivých kategórií sa deje rozčlenením rozsahu syntetických hodnôt na štyri rovnaké interva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15747" b="0"/>
          <a:stretch/>
        </p:blipFill>
        <p:spPr>
          <a:xfrm>
            <a:off x="533520" y="1665360"/>
            <a:ext cx="7391160" cy="519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9160" y="420840"/>
            <a:ext cx="317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kový počet kombinácií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. hodnota: 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hodnota: 3.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metický priemer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án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čet syntetických hodnôt: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3320" y="306360"/>
            <a:ext cx="767556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8640" y="3327480"/>
            <a:ext cx="82584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elkový počet kombinácií LTSB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n. hodnota: 1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x. hodnota: 3.9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ritmetický priemer: 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edián: 2.8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čet jedinečných syntetických hodnôt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raničné syntetické hodnoty kategórií: D|C = 1.22, C|B = 2.13, B|A = 3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ážené tak, že krit. Počet charakteristikých taxónov malo váhu 0,92 a ostatné kritériá mali váhu 0,0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9800" y="831960"/>
            <a:ext cx="83185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finícia priaznivého stavu biotopu podľa Smernice o bioto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mernica, v článku 1(e), definuje priaznivý stav biotopu (BSP), tak ž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. prirodzený areál rozšírenia a plocha, ktorú pokrýva, sú stabilné alebo rast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. špecifické štruktúry a funkcie, ktoré sú nevyhnutné pre dlhodobé udržanie biotopu, existujú a je pravdepodobné, že budú naďalej existova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i. stav zachovania typických druhov biotopu je priaznivý podľa definície v článku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9800" y="3575160"/>
            <a:ext cx="797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ánok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daje o populácii druhu naznačujú, že sa dlhodobo udržuje ako životaschopný prvok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ho prirodzený areál rozšírenia sa nezmen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istuje dostatok biotopov na zachovanie jeho populá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3840" y="1193760"/>
            <a:ext cx="7137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dnotenie prebieh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rom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pôsob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sumarizáciou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sumarizáciou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zobrazením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440" y="1979640"/>
            <a:ext cx="501804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3840" y="2784600"/>
            <a:ext cx="8204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podľa syntetick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S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ostáva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tegóriu podľa intervalov. Pre kritéria so štyrmi kategóriami sú hranice jednotlivých kategórií pre sumárne hodnoty nasledovné: A: 4 - 3,25; B: 3,25 - 2,5; C: 2,5 - 1,75; D: 1,75 -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1162080"/>
            <a:ext cx="775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syntetic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not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SSH) sa vyrá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3840" y="5041800"/>
            <a:ext cx="8437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3840" y="1120680"/>
            <a:ext cx="6464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hodnota pre jednotlivé kritériá (SHK) sa vyrá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38240"/>
            <a:ext cx="429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540160"/>
            <a:ext cx="81025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daného kri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hodnota SHK prideľuje kritériu sumárnu kategóriu podľa intervalov. Pre kritéria so štyrmi kategóriami sú hranice jednotlivých kategórií pre sumárne hodnoty nasledovné: A: 4 - 3,25; B: 3,25 - 2,5; C: 2,5 - 1,75; D: 1,75 - 1. Pre kritériá s dvomi kategóriami je hraničná hodnot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3840" y="1257480"/>
            <a:ext cx="815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840" y="1409760"/>
            <a:ext cx="76834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obrazenie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apa stavu existujúcich lokalít biotopov rozlíšených podľa kategórií stavu biotopu na loka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mapa hodnotiaca zmeny rozšírenia lokalít biotopov za sledované obdo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mapa hodnotiaca zmeny veľkostí lokalít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0120" y="704880"/>
            <a:ext cx="862344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"Slovenská cesta" k definovaniu (priaznivého) stavu ne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kladom pre definovanie stavu biotopu sú údaje z mapovania nelesných biotopov, ktoré sa realizuje od roku 1999 a jeho základom bolo mapovanie travinných biotopov. Štruktúra získaných dát je dostatočná na to, aby sme hodnotili biotop podľa kritérií stanovených Smernic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biotopu hodnotíme na základe piatich 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rizont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rtik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ľkosť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886280"/>
            <a:ext cx="81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5. napĺňajú požiadavky pre hodnotenia kritéria (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, 2., 3. a 4. napĺňajú požiadavky pre hodnotenia kritéria (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 napĺňajú požiadavky pre hodnotenia kritéria (i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1080" y="620640"/>
            <a:ext cx="8772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238400"/>
            <a:ext cx="79502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. Horizont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dvomi subkritériami, ktoré vychádzajú z definovania zoznamov charakteristických a indikačných taxónov pre každý typ biotopu. Podkladom boli upravené druhové zoznamy z Katalógu biotopov Slovenska (Stanová, Valachovič eds.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22720"/>
            <a:ext cx="7645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1 Počet charakteristick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charakteristick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charakteristických taxónov daného biotopu a maximálnym nájdeným počtom charakteristických taxónov daného biotopu. Rozsah sa delí na štyri kategórie A až D stavu biotopu. Intervaly medzi jednotlivými kategóriami sú definované metódou Equal Interv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27240"/>
            <a:ext cx="797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2 Počet indikač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indikačn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indikačných taxónov daného biotopu a maximálnym nájdeným počtom indikačných taxónov daného biotopu. Rozsah sa delí na štyri kategórie A až D stavu biotopu. Intervaly medzi jednotlivými kategóriami sú definované metódou Equal Inter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97440"/>
            <a:ext cx="76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valy sa stanovujú v nultej fáze hodnotenia stavu biotopu. Je nevyhnutné dodržať zásadu, že rozsah a následne intervaly sa môžu meniť len v prípade, že v tejto fáze nemáme dostatočné informácie o rozšírení biotopu a tým stavoch, ktoré môže nadobúdať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157400"/>
            <a:ext cx="74167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. Vertik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štyrmi subkritériami pre jednotlivé vertikálne vrstvy E0-E3. Každá vrstva je vyjadrená percentom pokryvnos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typ biotopu má stanovené limitné hodnoty percenta pokryvností pre všetky relevantné etáže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0560"/>
            <a:ext cx="7696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. Veľkosť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typ biotopu sú stanovené limitné hodnoty veľkosti biotopu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76320"/>
            <a:ext cx="79628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. Ohrozenie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 pozostáva z dvoch sub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skyt expanzívnych autochtónny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expanzívnych taxón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(ET)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lokalite. Tento údaj je získavaný z druhového záznamu danej lokality, ktorý je porovnávaný s expanzívnymi taxónmi definovanými pre daný biotop. Pre hodnotenie biotopu je rozhodujúca abundancia expanzívny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632040"/>
            <a:ext cx="79628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expanzívnych autochtónnych taxónov môže spôsobiť jeho ohrozenie, má stanovené limity abudancie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expanzívny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E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aspoň jeden expanzívny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aspoň jeden expanzívny taxón s abundanciou 2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expanzívny taxón s abundanciou 3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7520"/>
            <a:ext cx="8165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.2 Výskyt inváznych neofyt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neofytných taxónov na lokalite. Tento údaj je získavaný z druhového záznamu danej lokality, ktorý je porovnávaný so zoznamom inváznych neofytných taxónov. Pre hodnotenie biotopu je rozhodujúci počet a pokryvnosť inváznych neofytný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97360"/>
            <a:ext cx="78739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neofytov môže spôsobiť jeho ohrozenie, má stanovené limity počtu a abudancie neofytných taxónov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neofytný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jeden neofytný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jeden neofytný taxón s abundanciou 2 alebo aspoň dva neofytné taxóny s abundaciou 1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neofytný taxón s abundanciou 3 alebo aspoň dva neofytné taxóny s abundaciou 2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28:57Z</dcterms:modified>
  <cp:revision>49</cp:revision>
  <dc:subject/>
  <dc:title>Prezentace aplikace PowerPoint</dc:title>
</cp:coreProperties>
</file>