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A817-7990-499F-8840-D61260DC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A901-37B4-49BE-9919-D82CC13E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9FA6-B99C-4E67-8CE7-22EA18B3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4905-2808-4BDB-ACDB-FE5507164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7D8C-4C44-4707-AA40-F7B90954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0F55-37BF-4F1A-8C1A-142EDA1D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724F-F39A-4C49-80D4-6C0B00EF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BB3C-93F1-457C-AEEA-112C8875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1544-8E3F-41AE-9A3E-AB6CFFDA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F7FB-D4FA-4FCD-83F1-56D6202D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EE55-F64D-430F-8BBE-3A6D9DFE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6E23-D629-47FE-9CE3-C1B34173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F0FA-8B38-4F47-ABE5-846F92500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avourable conservation status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– forest habi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4005360"/>
            <a:ext cx="80647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te Nature Conservanc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of the Slovak re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est research instit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est managment planing instit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F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Other indicators of structure criter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960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natural regenera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(principal precondition of forest stand sustainability; possible listing within the forest habitat species struc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large-diameter and biodiversity valuable trees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(for some type of habitats it is a good indicator of structure, if we do not have other structure indicator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; need to assess them separatel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; biodiversity valuabl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deadwoo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(biodiversity valuable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in spatial structure serves only aesthetic purpo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Key issues related to structure definition</a:t>
            </a: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960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Quantification of </a:t>
            </a: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minimal limit value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for the assessment of  growth class, developmental stage, tree layer... </a:t>
            </a: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Quantification of the </a:t>
            </a: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area limit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for the layer unit and even-aged forest unit </a:t>
            </a: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(0,30 h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Quantification of the minimal </a:t>
            </a: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stocking leve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of the respective unit  </a:t>
            </a: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(0,</a:t>
            </a: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195640" y="3645000"/>
            <a:ext cx="4752720" cy="1152360"/>
            <a:chOff x="2195640" y="3645000"/>
            <a:chExt cx="4752720" cy="1152360"/>
          </a:xfrm>
        </p:grpSpPr>
        <p:sp>
          <p:nvSpPr>
            <p:cNvPr id="63" name=""/>
            <p:cNvSpPr/>
            <p:nvPr/>
          </p:nvSpPr>
          <p:spPr>
            <a:xfrm>
              <a:off x="2195640" y="3645000"/>
              <a:ext cx="4752720" cy="1152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316240" y="3675240"/>
              <a:ext cx="153360" cy="658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95160" y="4044600"/>
              <a:ext cx="153360" cy="4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87160" y="4318920"/>
              <a:ext cx="720" cy="3290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74080" y="3703320"/>
              <a:ext cx="153360" cy="955800"/>
              <a:chOff x="2674080" y="3703320"/>
              <a:chExt cx="153360" cy="955800"/>
            </a:xfrm>
          </p:grpSpPr>
          <p:sp>
            <p:nvSpPr>
              <p:cNvPr id="68" name=""/>
              <p:cNvSpPr/>
              <p:nvPr/>
            </p:nvSpPr>
            <p:spPr>
              <a:xfrm>
                <a:off x="2674080" y="3703320"/>
                <a:ext cx="15336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750760" y="434484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2565000" y="4516200"/>
              <a:ext cx="7560" cy="92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3255120" y="3696480"/>
              <a:ext cx="153360" cy="955800"/>
              <a:chOff x="3255120" y="3696480"/>
              <a:chExt cx="153360" cy="955800"/>
            </a:xfrm>
          </p:grpSpPr>
          <p:sp>
            <p:nvSpPr>
              <p:cNvPr id="72" name=""/>
              <p:cNvSpPr/>
              <p:nvPr/>
            </p:nvSpPr>
            <p:spPr>
              <a:xfrm>
                <a:off x="3255120" y="3696480"/>
                <a:ext cx="153360" cy="6282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331800" y="433800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3434040" y="3703320"/>
              <a:ext cx="153360" cy="955800"/>
              <a:chOff x="3434040" y="3703320"/>
              <a:chExt cx="153360" cy="955800"/>
            </a:xfrm>
          </p:grpSpPr>
          <p:sp>
            <p:nvSpPr>
              <p:cNvPr id="75" name=""/>
              <p:cNvSpPr/>
              <p:nvPr/>
            </p:nvSpPr>
            <p:spPr>
              <a:xfrm>
                <a:off x="3434040" y="3703320"/>
                <a:ext cx="15336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10720" y="434484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4086360" y="3723120"/>
              <a:ext cx="153000" cy="955800"/>
              <a:chOff x="4086360" y="3723120"/>
              <a:chExt cx="153000" cy="955800"/>
            </a:xfrm>
          </p:grpSpPr>
          <p:sp>
            <p:nvSpPr>
              <p:cNvPr id="78" name=""/>
              <p:cNvSpPr/>
              <p:nvPr/>
            </p:nvSpPr>
            <p:spPr>
              <a:xfrm>
                <a:off x="4086360" y="3723120"/>
                <a:ext cx="15300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162680" y="436464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3888000" y="3709440"/>
              <a:ext cx="153360" cy="955800"/>
              <a:chOff x="3888000" y="3709440"/>
              <a:chExt cx="153360" cy="955800"/>
            </a:xfrm>
          </p:grpSpPr>
          <p:sp>
            <p:nvSpPr>
              <p:cNvPr id="81" name=""/>
              <p:cNvSpPr/>
              <p:nvPr/>
            </p:nvSpPr>
            <p:spPr>
              <a:xfrm>
                <a:off x="3888000" y="3709440"/>
                <a:ext cx="15336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964680" y="435096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3623040" y="4221720"/>
              <a:ext cx="121680" cy="405720"/>
              <a:chOff x="3623040" y="4221720"/>
              <a:chExt cx="121680" cy="405720"/>
            </a:xfrm>
          </p:grpSpPr>
          <p:sp>
            <p:nvSpPr>
              <p:cNvPr id="84" name=""/>
              <p:cNvSpPr/>
              <p:nvPr/>
            </p:nvSpPr>
            <p:spPr>
              <a:xfrm>
                <a:off x="3623040" y="422172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686760" y="454284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3763440" y="4228920"/>
              <a:ext cx="121680" cy="405720"/>
              <a:chOff x="3763440" y="4228920"/>
              <a:chExt cx="121680" cy="405720"/>
            </a:xfrm>
          </p:grpSpPr>
          <p:sp>
            <p:nvSpPr>
              <p:cNvPr id="87" name=""/>
              <p:cNvSpPr/>
              <p:nvPr/>
            </p:nvSpPr>
            <p:spPr>
              <a:xfrm>
                <a:off x="3763440" y="422892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827160" y="455004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5360760" y="4274280"/>
              <a:ext cx="121680" cy="405720"/>
              <a:chOff x="5360760" y="4274280"/>
              <a:chExt cx="121680" cy="405720"/>
            </a:xfrm>
          </p:grpSpPr>
          <p:sp>
            <p:nvSpPr>
              <p:cNvPr id="90" name=""/>
              <p:cNvSpPr/>
              <p:nvPr/>
            </p:nvSpPr>
            <p:spPr>
              <a:xfrm>
                <a:off x="5360760" y="427428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424480" y="459540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5207400" y="4310280"/>
              <a:ext cx="121680" cy="366120"/>
              <a:chOff x="5207400" y="4310280"/>
              <a:chExt cx="121680" cy="366120"/>
            </a:xfrm>
          </p:grpSpPr>
          <p:sp>
            <p:nvSpPr>
              <p:cNvPr id="93" name=""/>
              <p:cNvSpPr/>
              <p:nvPr/>
            </p:nvSpPr>
            <p:spPr>
              <a:xfrm>
                <a:off x="5207400" y="4310280"/>
                <a:ext cx="121680" cy="2898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271120" y="4600080"/>
                <a:ext cx="6480" cy="763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5047920" y="4274280"/>
              <a:ext cx="121680" cy="405720"/>
              <a:chOff x="5047920" y="4274280"/>
              <a:chExt cx="121680" cy="405720"/>
            </a:xfrm>
          </p:grpSpPr>
          <p:sp>
            <p:nvSpPr>
              <p:cNvPr id="96" name=""/>
              <p:cNvSpPr/>
              <p:nvPr/>
            </p:nvSpPr>
            <p:spPr>
              <a:xfrm>
                <a:off x="5047920" y="427428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111640" y="459540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5481720" y="4274280"/>
              <a:ext cx="121680" cy="405720"/>
              <a:chOff x="5481720" y="4274280"/>
              <a:chExt cx="121680" cy="405720"/>
            </a:xfrm>
          </p:grpSpPr>
          <p:sp>
            <p:nvSpPr>
              <p:cNvPr id="99" name=""/>
              <p:cNvSpPr/>
              <p:nvPr/>
            </p:nvSpPr>
            <p:spPr>
              <a:xfrm>
                <a:off x="5481720" y="427428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545440" y="459540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896360" y="3762000"/>
              <a:ext cx="153360" cy="955800"/>
              <a:chOff x="4896360" y="3762000"/>
              <a:chExt cx="153360" cy="955800"/>
            </a:xfrm>
          </p:grpSpPr>
          <p:sp>
            <p:nvSpPr>
              <p:cNvPr id="102" name=""/>
              <p:cNvSpPr/>
              <p:nvPr/>
            </p:nvSpPr>
            <p:spPr>
              <a:xfrm>
                <a:off x="4896360" y="3762000"/>
                <a:ext cx="153360" cy="6282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73040" y="440352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6117120" y="3781800"/>
              <a:ext cx="153000" cy="955800"/>
              <a:chOff x="6117120" y="3781800"/>
              <a:chExt cx="153000" cy="955800"/>
            </a:xfrm>
          </p:grpSpPr>
          <p:sp>
            <p:nvSpPr>
              <p:cNvPr id="105" name=""/>
              <p:cNvSpPr/>
              <p:nvPr/>
            </p:nvSpPr>
            <p:spPr>
              <a:xfrm>
                <a:off x="6117120" y="3781800"/>
                <a:ext cx="15300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193440" y="442332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943960" y="3781800"/>
              <a:ext cx="153360" cy="955800"/>
              <a:chOff x="5943960" y="3781800"/>
              <a:chExt cx="153360" cy="955800"/>
            </a:xfrm>
          </p:grpSpPr>
          <p:sp>
            <p:nvSpPr>
              <p:cNvPr id="108" name=""/>
              <p:cNvSpPr/>
              <p:nvPr/>
            </p:nvSpPr>
            <p:spPr>
              <a:xfrm>
                <a:off x="5943960" y="3781800"/>
                <a:ext cx="15336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020640" y="442332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5784840" y="3787920"/>
              <a:ext cx="153000" cy="955800"/>
              <a:chOff x="5784840" y="3787920"/>
              <a:chExt cx="153000" cy="955800"/>
            </a:xfrm>
          </p:grpSpPr>
          <p:sp>
            <p:nvSpPr>
              <p:cNvPr id="111" name=""/>
              <p:cNvSpPr/>
              <p:nvPr/>
            </p:nvSpPr>
            <p:spPr>
              <a:xfrm>
                <a:off x="5784840" y="3787920"/>
                <a:ext cx="153000" cy="6282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861160" y="442944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618880" y="3767760"/>
              <a:ext cx="153360" cy="955800"/>
              <a:chOff x="5618880" y="3767760"/>
              <a:chExt cx="153360" cy="955800"/>
            </a:xfrm>
          </p:grpSpPr>
          <p:sp>
            <p:nvSpPr>
              <p:cNvPr id="114" name=""/>
              <p:cNvSpPr/>
              <p:nvPr/>
            </p:nvSpPr>
            <p:spPr>
              <a:xfrm>
                <a:off x="5618880" y="3767760"/>
                <a:ext cx="15336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695560" y="440928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581520" y="4320720"/>
              <a:ext cx="121680" cy="405720"/>
              <a:chOff x="6581520" y="4320720"/>
              <a:chExt cx="121680" cy="405720"/>
            </a:xfrm>
          </p:grpSpPr>
          <p:sp>
            <p:nvSpPr>
              <p:cNvPr id="117" name=""/>
              <p:cNvSpPr/>
              <p:nvPr/>
            </p:nvSpPr>
            <p:spPr>
              <a:xfrm>
                <a:off x="6581520" y="432072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645240" y="464184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6427800" y="4356360"/>
              <a:ext cx="121680" cy="366120"/>
              <a:chOff x="6427800" y="4356360"/>
              <a:chExt cx="121680" cy="366120"/>
            </a:xfrm>
          </p:grpSpPr>
          <p:sp>
            <p:nvSpPr>
              <p:cNvPr id="120" name=""/>
              <p:cNvSpPr/>
              <p:nvPr/>
            </p:nvSpPr>
            <p:spPr>
              <a:xfrm>
                <a:off x="6427800" y="4356360"/>
                <a:ext cx="121680" cy="2898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491520" y="4646160"/>
                <a:ext cx="6480" cy="763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6268680" y="4320720"/>
              <a:ext cx="121680" cy="405720"/>
              <a:chOff x="6268680" y="4320720"/>
              <a:chExt cx="121680" cy="405720"/>
            </a:xfrm>
          </p:grpSpPr>
          <p:sp>
            <p:nvSpPr>
              <p:cNvPr id="123" name=""/>
              <p:cNvSpPr/>
              <p:nvPr/>
            </p:nvSpPr>
            <p:spPr>
              <a:xfrm>
                <a:off x="6268680" y="432072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332400" y="464184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702120" y="4320720"/>
              <a:ext cx="121680" cy="405720"/>
              <a:chOff x="6702120" y="4320720"/>
              <a:chExt cx="121680" cy="405720"/>
            </a:xfrm>
          </p:grpSpPr>
          <p:sp>
            <p:nvSpPr>
              <p:cNvPr id="126" name=""/>
              <p:cNvSpPr/>
              <p:nvPr/>
            </p:nvSpPr>
            <p:spPr>
              <a:xfrm>
                <a:off x="6702120" y="432072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765840" y="464184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66"/>
                </a:solidFill>
                <a:latin typeface="Arial"/>
              </a:rPr>
              <a:t>Relation between natural regeneration and developmental stage of forest st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ditions for natural regeneration match the developmental stage of particular forest stand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nd / 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seedlings and saplings cover 61 – 100 % of the area expected to be cove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ditions for natural regeneration don’t match the developmental stage of particular forest stands completely (gaps in a canopy, lowered density of stands)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nd / 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seedlings and saplings cover </a:t>
            </a:r>
            <a:r>
              <a:rPr b="0" lang="en-GB" sz="2400" spc="-1" strike="noStrike">
                <a:solidFill>
                  <a:srgbClr val="ffcc66"/>
                </a:solidFill>
                <a:latin typeface="Arial"/>
              </a:rPr>
              <a:t>11 – 60 %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f the area expected to be covered (including premature canopy gap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ditions for natural regeneration don’t match the developmental stage of particular forest stands completely (gaps in a canopy, lowered density of stands)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nd / 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seedlings and saplings cover </a:t>
            </a:r>
            <a:r>
              <a:rPr b="0" lang="en-GB" sz="2400" spc="-1" strike="noStrike">
                <a:solidFill>
                  <a:srgbClr val="ffcc66"/>
                </a:solidFill>
                <a:latin typeface="Arial"/>
              </a:rPr>
              <a:t>1 – 10 %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f the area expected to be covered (including premature canopy gap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ditions for natural regeneration are not expected (site is covered only by overmature stands) or there are conditions for natural regeneration, but for some reason the trees are not fert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4960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66"/>
                </a:solidFill>
                <a:latin typeface="Arial"/>
              </a:rPr>
              <a:t>Large-diameter and biodiversity valuable trees</a:t>
            </a:r>
            <a:r>
              <a:rPr b="1" lang="en-GB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Quantification of the minimal diameter and number of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66"/>
                </a:solidFill>
                <a:latin typeface="Arial"/>
              </a:rPr>
              <a:t>absolut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iameter (&gt;... cm) vs. </a:t>
            </a:r>
            <a:r>
              <a:rPr b="0" lang="en-GB" sz="2400" spc="-1" strike="noStrike">
                <a:solidFill>
                  <a:srgbClr val="ffcc66"/>
                </a:solidFill>
                <a:latin typeface="Arial"/>
              </a:rPr>
              <a:t>relat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one generation older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??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m larger than main / final cro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ime difficulty: determination of a reasonable value of the above mentio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objective: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ensure certain proportion of larger trees also in younger even-aged forest st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66"/>
                </a:solidFill>
                <a:latin typeface="Arial"/>
              </a:rPr>
              <a:t>Deadw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Quantification of the minimal diameter, length and number of tru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ameter has to be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bsolut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Arial"/>
              </a:rPr>
              <a:t>Negative infl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negative agents / factors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– list only, no impact on the overall F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forest health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– result of the combined influence of negative factors; indirect assessment based on visible tree da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broader environment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ze and isolation / fragmentation of the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tal length of border with "negative areas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Arial"/>
              </a:rPr>
              <a:t>Forest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Mild damag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 no impact on tree physiological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Medium damag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 short-term impact on tree physiological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Significant damag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 long-term impact on tree physiological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Fatal damag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ulting in dieback or causing dieback within 1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Due consideration for damage signifi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One-sided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No distinction between acute and chronic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Arial"/>
              </a:rPr>
              <a:t>Size and isolation of the s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Minimal size of intact site </a:t>
            </a: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or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minimal total area of the site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Lack of objective criteria for the area qua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66"/>
                </a:solidFill>
                <a:latin typeface="Arial"/>
              </a:rPr>
              <a:t>Contact with "negative areas" such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nsively managed agricultural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ctive surface quar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rowing areas of</a:t>
            </a: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ndfalls and other damaged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Ignorance of the interrelation between the site’s size and the length of border with negative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362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Assessment tables of particular habit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 it necessary to have a separated table for each particular habit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is the purpose of the t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ol for field offic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ol for software develop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 the requirement for tables to be "readable" or utmost bri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Differences between habi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rge-scale vs. small-scale habit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ssible problem while compar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tural vs.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±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seminatura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 habit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also among forest habitats we can find </a:t>
            </a:r>
            <a:r>
              <a:rPr b="0" lang="en-GB" sz="2800" spc="-1" strike="noStrike">
                <a:solidFill>
                  <a:srgbClr val="ffcc66"/>
                </a:solidFill>
                <a:latin typeface="Arial"/>
                <a:ea typeface="Arial"/>
              </a:rPr>
              <a:t>non</a:t>
            </a:r>
            <a:r>
              <a:rPr b="0" lang="sk-SK" sz="2800" spc="-1" strike="noStrike">
                <a:solidFill>
                  <a:srgbClr val="ffcc66"/>
                </a:solidFill>
                <a:latin typeface="Arial"/>
                <a:ea typeface="Arial"/>
              </a:rPr>
              <a:t>-</a:t>
            </a:r>
            <a:r>
              <a:rPr b="0" lang="en-GB" sz="2800" spc="-1" strike="noStrike">
                <a:solidFill>
                  <a:srgbClr val="ffcc66"/>
                </a:solidFill>
                <a:latin typeface="Arial"/>
                <a:ea typeface="Arial"/>
              </a:rPr>
              <a:t>climax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ones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(for example 91N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*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lanar vs. linear habitats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(9130 or 91E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ique habitats vs. habitats similar to neighbouring ones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(for example in SR 91MO vs 91G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pecial case: </a:t>
            </a: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dwarf pine</a:t>
            </a: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cc66"/>
                </a:solidFill>
                <a:latin typeface="Arial"/>
              </a:rPr>
              <a:t>(which is non forest habitat, but we assess dwarf pine as forest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Unforeseen problem: </a:t>
            </a:r>
            <a:br>
              <a:rPr sz="4000"/>
            </a:b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what does habitat inclu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only valid: unfavourable habitat status = different habitat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(9130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»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911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dicators assessed depend on the site asse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Solution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habitat ex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earcuts or windfalls larger than 3 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pruce, larch, etc. monocultures larger than 0,5 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912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Approach chos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68360" y="1049400"/>
          <a:ext cx="8229600" cy="5403960"/>
        </p:xfrm>
        <a:graphic>
          <a:graphicData uri="http://schemas.openxmlformats.org/drawingml/2006/table">
            <a:tbl>
              <a:tblPr/>
              <a:tblGrid>
                <a:gridCol w="3494160"/>
                <a:gridCol w="4735440"/>
              </a:tblGrid>
              <a:tr h="963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Basic data on forest habitat for the respective s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75"/>
                        </a:gs>
                        <a:gs pos="100000">
                          <a:srgbClr val="0000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Present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area of forest habitat for the respective site</a:t>
                      </a:r>
                      <a:r>
                        <a:rPr b="0" lang="sk-SK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; in SR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Potential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area of forest habitat (based on site type units upon the tr</a:t>
                      </a:r>
                      <a:r>
                        <a:rPr b="0" lang="sk-SK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a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nsformation of site types into habitat uni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2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R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sk-SK" sz="24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range</a:t>
                      </a:r>
                      <a:r>
                        <a:rPr b="0" lang="sk-SK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of forest habitat according to biogeographical region in S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250920" y="333360"/>
          <a:ext cx="8642160" cy="6013440"/>
        </p:xfrm>
        <a:graphic>
          <a:graphicData uri="http://schemas.openxmlformats.org/drawingml/2006/table">
            <a:tbl>
              <a:tblPr/>
              <a:tblGrid>
                <a:gridCol w="720720"/>
                <a:gridCol w="1376280"/>
                <a:gridCol w="1636560"/>
                <a:gridCol w="1636920"/>
                <a:gridCol w="1635120"/>
                <a:gridCol w="1636560"/>
              </a:tblGrid>
              <a:tr h="335880">
                <a:tc gridSpan="2"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Criteria</a:t>
                      </a:r>
                      <a:r>
                        <a:rPr b="1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/ Indi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ca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Favourable status</a:t>
                      </a:r>
                      <a:r>
                        <a:rPr b="1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Unfavourable 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5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</a:tr>
              <a:tr h="3369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excel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g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redu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degra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</a:tr>
              <a:tr h="158580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Typic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lspecies of habi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Tree species compos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3. v.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.:  </a:t>
                      </a:r>
                      <a:r>
                        <a:rPr b="1" i="1" lang="sk-SK" sz="1400" spc="-1" strike="noStrike" u="sng">
                          <a:solidFill>
                            <a:srgbClr val="080808"/>
                          </a:solidFill>
                          <a:uFillTx/>
                          <a:latin typeface="Times New Roman"/>
                          <a:ea typeface="SimSun"/>
                        </a:rPr>
                        <a:t>Fagus sylvatica</a:t>
                      </a:r>
                      <a:r>
                        <a:rPr b="0" i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, Quercus petraea agg., Carpinus betulus,  Acer pseudoplatanus, Acer platanoides, Tilia cordata, Tilia platyphylos, Cerasus av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4. v.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.:  </a:t>
                      </a:r>
                      <a:r>
                        <a:rPr b="1" i="1" lang="sk-SK" sz="1400" spc="-1" strike="noStrike" u="sng">
                          <a:solidFill>
                            <a:srgbClr val="080808"/>
                          </a:solidFill>
                          <a:uFillTx/>
                          <a:latin typeface="Times New Roman"/>
                          <a:ea typeface="SimSun"/>
                        </a:rPr>
                        <a:t>Fagus sylvatica</a:t>
                      </a:r>
                      <a:r>
                        <a:rPr b="0" i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, Abies alba, Acer pseudoplatanus, Acer platanoides, Tilia cordata, Tilia platyphylos,  Cerasus av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5. a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nd</a:t>
                      </a: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 6. v.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.:  </a:t>
                      </a:r>
                      <a:r>
                        <a:rPr b="1" i="1" lang="sk-SK" sz="1400" spc="-1" strike="noStrike" u="sng">
                          <a:solidFill>
                            <a:srgbClr val="080808"/>
                          </a:solidFill>
                          <a:uFillTx/>
                          <a:latin typeface="Times New Roman"/>
                          <a:ea typeface="SimSun"/>
                        </a:rPr>
                        <a:t>Fagus sylvatica</a:t>
                      </a:r>
                      <a:r>
                        <a:rPr b="1" i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, </a:t>
                      </a:r>
                      <a:r>
                        <a:rPr b="1" i="1" lang="sk-SK" sz="1400" spc="-1" strike="noStrike" u="sng">
                          <a:solidFill>
                            <a:srgbClr val="080808"/>
                          </a:solidFill>
                          <a:uFillTx/>
                          <a:latin typeface="Times New Roman"/>
                          <a:ea typeface="SimSun"/>
                        </a:rPr>
                        <a:t>Abies alba</a:t>
                      </a:r>
                      <a:r>
                        <a:rPr b="1" i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,</a:t>
                      </a:r>
                      <a:r>
                        <a:rPr b="0" i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 Picea abies, Acer pseudoplatanus, Acer platanoides, Ulmus glabra, Fraxinus excelsior, Sorbus aucuparia,  Tilia cordata, Tilia platyphy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proximation to the model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occurence of invasive tree species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100 - 85 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84 - 70 %</a:t>
                      </a: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1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69 -5</a:t>
                      </a: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5</a:t>
                      </a:r>
                      <a:r>
                        <a:rPr b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 %</a:t>
                      </a: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-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5</a:t>
                      </a: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4 - 4</a:t>
                      </a:r>
                      <a:r>
                        <a:rPr b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0 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20</a:t>
                      </a: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- 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Herb species and shru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dicators -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vasive species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5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 ; 25&gt;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5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5 ; 50)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 ; 25)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≥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≥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ndi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cators of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eutrofiz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Urtica dioica, Chelidonium majus, Sambucus nig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ccidic indicators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i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Avenella flexuosa, Vaccinium myrtillus, </a:t>
                      </a: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 acid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ic</a:t>
                      </a: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 machy Pozn.: dominantný výskyt týchto druhov  mení zaradenie lokality do bioto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79280" y="779400"/>
          <a:ext cx="8713800" cy="5457960"/>
        </p:xfrm>
        <a:graphic>
          <a:graphicData uri="http://schemas.openxmlformats.org/drawingml/2006/table">
            <a:tbl>
              <a:tblPr/>
              <a:tblGrid>
                <a:gridCol w="1008000"/>
                <a:gridCol w="1297080"/>
                <a:gridCol w="1440000"/>
                <a:gridCol w="1655640"/>
                <a:gridCol w="1656000"/>
                <a:gridCol w="1657080"/>
              </a:tblGrid>
              <a:tr h="26514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Habitat 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ge structure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(</a:t>
                      </a: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velopmental stages of natural forests or even-aged forests</a:t>
                      </a: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)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polygóne prevažujú pralesy a prírodné lesy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polygóne prevažujú 5. ARS</a:t>
                      </a:r>
                      <a:r>
                        <a:rPr b="0" lang="sk-SK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[1]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a 4. ARS </a:t>
                      </a:r>
                      <a:r>
                        <a:rPr b="0" i="1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ebo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5. ARS  tvorí aspoň 1/3 ak sa jedná mozaiku aspoň dvoch ARS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0" lang="sk-SK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[1]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RS – agregovaný rastový stupeň (pozri Definície indikátorov FC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polygóne prevažujú 3. ARS, 2. ARS a , 1. ARS, pričom 5. ARS nesmie presahovať 1/3. V prípade, že prevažuje 1.ARS, musí byť prítomný ešte aspoň jeden ďalší ARS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ítomnosť len 1. ARS na celej ploche polygónu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Natural regeneratio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of the tree spec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Spatial structure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(verti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cal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, horizon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l, structural patter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≥ 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% lokality je tvorených dvoj- a viacvrstvovými porastmi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≥ 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% lokality je tvorených mozaikou jednovrstvových porastov, v ktorej výmera jedného štrukturálneho prvku je prevažne do 5 ha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≥ 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% lokality je tvorených mozaikou jednovrstvových porastov, v ktorej výmera štrukturálneho prvku a je prevažne 5,01 - 50 ha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79280" y="333360"/>
          <a:ext cx="8713800" cy="5111640"/>
        </p:xfrm>
        <a:graphic>
          <a:graphicData uri="http://schemas.openxmlformats.org/drawingml/2006/table">
            <a:tbl>
              <a:tblPr/>
              <a:tblGrid>
                <a:gridCol w="1079640"/>
                <a:gridCol w="1144440"/>
                <a:gridCol w="1622520"/>
                <a:gridCol w="1622520"/>
                <a:gridCol w="1622520"/>
                <a:gridCol w="1622160"/>
              </a:tblGrid>
              <a:tr h="100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rge-diameter </a:t>
                      </a: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  valuable tre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≥ 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ks / 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4 ks / 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– 9 ks / 10 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3 ks / 10 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rge-diameter deadw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≥ 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ks / 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ly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ferent degree decomposition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– 3 ks / 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ly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ferent degree decomposi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ks / 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1 ks / ha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Negat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ve</a:t>
                      </a: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nflue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Negat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ve</a:t>
                      </a: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fa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tor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issions, nekrózy buka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pastures, zver (odhryz, obhryz), dry soil conditions, mechanical disturbance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Health 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- 5 % nad prirodzený výskyt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– 10 % nad prirodzený výskyt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% a viac nad prirodzený výskyt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z obmedzenia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Broader environ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verage of habitat in 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of disturb boa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≥ 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0 ha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 00 – 49,99 ha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30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0 – 29, 99 ha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 - 60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5,00 ha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60 %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Overall assessment of F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ethod of "the weakest link in the chain" vs. method "weighted average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ur solution: rather complicated weighted average with variable weights for each indicator and "state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weights have not been tested in practice y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324000" y="260280"/>
          <a:ext cx="8496000" cy="6243840"/>
        </p:xfrm>
        <a:graphic>
          <a:graphicData uri="http://schemas.openxmlformats.org/drawingml/2006/table">
            <a:tbl>
              <a:tblPr/>
              <a:tblGrid>
                <a:gridCol w="1295280"/>
                <a:gridCol w="990720"/>
                <a:gridCol w="1355400"/>
                <a:gridCol w="970200"/>
                <a:gridCol w="971640"/>
                <a:gridCol w="971280"/>
                <a:gridCol w="970200"/>
                <a:gridCol w="971280"/>
              </a:tblGrid>
              <a:tr h="375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Criter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Weight of</a:t>
                      </a: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a criter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Indic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Weight of an indic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State of habit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37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Q </a:t>
                      </a: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0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Typical habitat 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Tree species compos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Herbs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&amp;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shru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37332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Forest habitat 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3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Age 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3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Regen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Spatial 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60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Large-diameter tre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5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deadw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61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Negative influ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Heal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37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BE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dition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uses and minuses can compensate one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uses and minuses can compensate one another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gorithm is difficult to understand or even to compare with other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age of „triple weights": two "official" weights and limits used in each particular indicator =&gt; certain unclear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fficult calculation and reasoning of we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24000" y="404640"/>
          <a:ext cx="8496000" cy="6258240"/>
        </p:xfrm>
        <a:graphic>
          <a:graphicData uri="http://schemas.openxmlformats.org/drawingml/2006/table">
            <a:tbl>
              <a:tblPr/>
              <a:tblGrid>
                <a:gridCol w="396720"/>
                <a:gridCol w="3209760"/>
                <a:gridCol w="4889520"/>
              </a:tblGrid>
              <a:tr h="93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75"/>
                        </a:gs>
                        <a:gs pos="100000">
                          <a:srgbClr val="0000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Criteria (FC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75"/>
                        </a:gs>
                        <a:gs pos="100000">
                          <a:srgbClr val="0000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Indicators (FC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75"/>
                        </a:gs>
                        <a:gs pos="100000">
                          <a:srgbClr val="0000ff"/>
                        </a:gs>
                      </a:gsLst>
                      <a:lin ang="13500000"/>
                    </a:gra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Typical habitat spe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Tree species composition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(degree of approximation to the model and occurrence  of invasive tree speci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Herb &amp; shrub spec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Forest habitat 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Age structure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(developmental stages of natural forests or even-aged forests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Natural regeneration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Spatial structure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(vertical, horizontal, structural patter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large-diameter and biodiversity valuable trees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large-diameter deadw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Negative influenc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Negative factors / agent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Forest health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(as a result of negative factors impac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Broader enviro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ear definitions are needed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Terms employe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(tree layer, growth class, natural regeneration,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Quantifiers, measurement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Form of recor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(e.g. using mathematical symbols, description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ree species com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Degree of approximation to the mode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(%) given for each particular habitat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9410: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pruc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50–100,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ycamore mapl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cc66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10,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orbus aucupari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cc66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Occurrence of invasive tree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least controversial ind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fficient knowledge on the natural tree species 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licated &amp; uncle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ak argumentation on the approximation degrees required (e.g. "what is the relevance of 30 %?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ability to assess gene pool natural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ability to identify the tree species behind th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rb &amp; shrub spe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sence of a larger number of species, more complicated field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treme difficultness of exact invest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erb layer composition is determined by the tree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st significant changes are: onset of invasive or expansive species, indicators of acidification and eutrophication, ruderal speci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imple list of herbs on sites with cover by Tansley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Herb &amp; shrub spec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imple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flection of most distinct changes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ability to reflect reduction of biodiversity provided natural species are not replaced by the aforementioned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ne-sided decision on the naturalness of certain species (e.g.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Urtica dioica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cc66"/>
                </a:solidFill>
                <a:latin typeface="Arial"/>
              </a:rPr>
              <a:t>S</a:t>
            </a: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mbiguity of the term "structure" (arrangement  of components / parts or interactions /processes within any higher hierarchical un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Our approach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structure limited to spatial structure of forest habitats and their groups only (age structure, structural patter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clear importance of  spatial structure for the assessment of F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Spatial structure of forest </a:t>
            </a:r>
            <a:r>
              <a:rPr b="0" lang="sk-SK" sz="3600" spc="-1" strike="noStrike">
                <a:solidFill>
                  <a:srgbClr val="ffcc66"/>
                </a:solidFill>
                <a:latin typeface="Arial"/>
              </a:rPr>
              <a:t>habitat</a:t>
            </a: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s and / or their group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4960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orizontal structure (</a:t>
            </a: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siz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nd distribution of structural uni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ertical structure (multi-layeredness of forest stands)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≈ function of  tree age =&gt; ag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lose affinity of both structu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Vertical diversity of natural forests has in managed forests been to a certain degree replaced by the mosaic of even-aged st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06:23:13Z</dcterms:created>
  <dc:creator>Matej Schwarz</dc:creator>
  <dc:description/>
  <dc:language>en-US</dc:language>
  <cp:lastModifiedBy>ŠOP SR</cp:lastModifiedBy>
  <dcterms:modified xsi:type="dcterms:W3CDTF">2004-08-16T14:33:51Z</dcterms:modified>
  <cp:revision>95</cp:revision>
  <dc:subject/>
  <dc:title>Zastúpenie jaseňa v lesných porastoch Slovenska</dc:title>
</cp:coreProperties>
</file>