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6F1C-3BB1-4F3C-A8BD-63E6C0A0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102B-44E9-48E8-B0F6-63DB3EE6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F56-2D34-4BED-9CEF-B7B5359C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101-457F-4A34-AC61-481F3118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DFFE-71ED-4722-A4D8-35F4493A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2581-F509-49BC-B121-8E875250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615D-148B-450A-A2B7-781CC314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CE1C-0710-468A-BBD4-3D730979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9EB8-5127-4D15-AAB0-FB1E3954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CA4B-CE2C-40E1-A4D4-A3486133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C0BC-92C0-441E-86BC-B0B46D42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E852-228D-482F-A9E4-B6482A1D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85BC-7FC4-4F58-BCE1-296A5579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0F06-3F0D-4C4D-98B3-46348FC9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D9A9-7CD8-43D0-A73B-AFC11C55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1A62-455C-4152-B2AE-9EB3B63C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070E-8B1D-4ECE-A2A3-6876DBBF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C332-66CC-4B27-8457-11C2ABCD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0A91-CEEB-4369-8476-F80593FE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9783-414F-46F5-A0EE-7524C574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A0B-A646-41FF-8BDF-2C0C0279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6027-F3B2-4E37-8034-22E62EA0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81EF-1C2A-4AF2-A3A5-3402D909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19DF-C280-496D-B972-BE05681A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21337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8380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7fb22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3321-BADB-4C1C-8F37-05733E85912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00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3BC8-2313-4FBC-96EF-9476A208545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8153280" cy="1828800"/>
          </a:xfrm>
          <a:prstGeom prst="rect">
            <a:avLst/>
          </a:prstGeom>
          <a:noFill/>
          <a:ln w="25560">
            <a:solidFill>
              <a:srgbClr val="3366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6600"/>
                </a:solidFill>
                <a:latin typeface="Times New Roman"/>
                <a:ea typeface="Arial"/>
              </a:rPr>
              <a:t>Kritériá pre hodnotenie stavu zachovalosti</a:t>
            </a:r>
            <a:r>
              <a:rPr b="1" lang="sk-SK" sz="3000" spc="-1" strike="noStrike">
                <a:solidFill>
                  <a:srgbClr val="336600"/>
                </a:solidFill>
                <a:latin typeface="Times New Roman"/>
              </a:rPr>
              <a:t> (CS)</a:t>
            </a:r>
            <a:br>
              <a:rPr sz="3000"/>
            </a:br>
            <a:r>
              <a:rPr b="1" lang="sk-SK" sz="3000" spc="-1" strike="noStrike">
                <a:solidFill>
                  <a:srgbClr val="336600"/>
                </a:solidFill>
                <a:latin typeface="Times New Roman"/>
                <a:ea typeface="Arial"/>
              </a:rPr>
              <a:t>(voľne sa vyskytujúcich) populácií</a:t>
            </a:r>
            <a:br>
              <a:rPr sz="3000"/>
            </a:br>
            <a:r>
              <a:rPr b="1" lang="sk-SK" sz="3000" spc="-1" strike="noStrike">
                <a:solidFill>
                  <a:srgbClr val="336600"/>
                </a:solidFill>
                <a:latin typeface="Times New Roman"/>
                <a:ea typeface="Arial"/>
              </a:rPr>
              <a:t>anex</a:t>
            </a:r>
            <a:r>
              <a:rPr b="1" lang="sk-SK" sz="3000" spc="-1" strike="noStrike">
                <a:solidFill>
                  <a:srgbClr val="336600"/>
                </a:solidFill>
                <a:latin typeface="Times New Roman"/>
              </a:rPr>
              <a:t>ový</a:t>
            </a:r>
            <a:r>
              <a:rPr b="1" lang="sk-SK" sz="3000" spc="-1" strike="noStrike">
                <a:solidFill>
                  <a:srgbClr val="336600"/>
                </a:solidFill>
                <a:latin typeface="Times New Roman"/>
                <a:ea typeface="Arial"/>
              </a:rPr>
              <a:t>ch druhov rastlín na Slovensku</a:t>
            </a:r>
            <a:br>
              <a:rPr sz="3000"/>
            </a:br>
            <a:r>
              <a:rPr b="1" lang="sk-SK" sz="3000" spc="-1" strike="noStrike">
                <a:solidFill>
                  <a:srgbClr val="336600"/>
                </a:solidFill>
                <a:latin typeface="Times New Roman"/>
              </a:rPr>
              <a:t>z hľadiska ich ochrany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avol Mere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ď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a ml.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Iva Hodálová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Ján Šeffer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Rastislav Lasák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Daniel Dít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ě**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Marta Kubandová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*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Viera Feráková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Anna Kubínska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Karol Marhold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33300"/>
                </a:solidFill>
                <a:latin typeface="Times New Roman"/>
              </a:rPr>
              <a:t>* BÚ SAV,  ** DAPHNE,  *** ŠOP SR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3.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Ve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</a:rPr>
              <a:t>ľ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kos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</a:rPr>
              <a:t>ť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 areálu druhu na území Slovenska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vzdialenos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medzi dvoma najvzdialenejšími slovenskými populáciami anex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.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druhu </a:t>
            </a:r>
            <a:r>
              <a:rPr b="0" lang="sk-SK" sz="2400" spc="-1" strike="noStrike">
                <a:solidFill>
                  <a:srgbClr val="333300"/>
                </a:solidFill>
                <a:latin typeface="Symbol"/>
                <a:ea typeface="Symbol"/>
              </a:rPr>
              <a:t>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v km</a:t>
            </a:r>
            <a:r>
              <a:rPr b="0" lang="sk-SK" sz="2400" spc="-1" strike="noStrike">
                <a:solidFill>
                  <a:srgbClr val="333300"/>
                </a:solidFill>
                <a:latin typeface="Symbol"/>
                <a:ea typeface="Symbol"/>
              </a:rPr>
              <a:t>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pri hodnoten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í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sa vychádza z údajov t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zv. „referen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n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ého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zdroj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”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9718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4.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Celková kvalita populácií</a:t>
            </a:r>
            <a:r>
              <a:rPr b="1" lang="en-US" sz="3000" spc="-1" strike="noStrike" u="sng">
                <a:solidFill>
                  <a:srgbClr val="993300"/>
                </a:solidFill>
                <a:uFillTx/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581280"/>
            <a:ext cx="85345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6200" indent="-376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celkový stav zachovalosti jednotlivých populácií anex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.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druhu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na Slovensku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</a:rPr>
              <a:t>výpočet: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1.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K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dá populácia získa celkové hodnotenie „A“, „B“, „C“ alebo „D“. 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2.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„A“ 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=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1, „B“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2, „C“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 =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3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,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„D“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4. 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3. V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ypo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íta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sa priemer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.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● 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chorasty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: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ritériá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.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II.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1 –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II.4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platia rovnak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ako pre cievnaté rastliny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2a3d7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2a3d7a"/>
                </a:solidFill>
                <a:latin typeface="Times New Roman"/>
                <a:ea typeface="Arial"/>
              </a:rPr>
              <a:t>Hodnotenie </a:t>
            </a:r>
            <a:r>
              <a:rPr b="1" lang="sk-SK" sz="2200" spc="-1" strike="noStrike">
                <a:solidFill>
                  <a:srgbClr val="2a3d7a"/>
                </a:solidFill>
                <a:latin typeface="Times New Roman"/>
              </a:rPr>
              <a:t>CS</a:t>
            </a:r>
            <a:r>
              <a:rPr b="1" lang="sk-SK" sz="2200" spc="-1" strike="noStrike">
                <a:solidFill>
                  <a:srgbClr val="2a3d7a"/>
                </a:solidFill>
                <a:latin typeface="Times New Roman"/>
                <a:ea typeface="Arial"/>
              </a:rPr>
              <a:t> populácií druhu </a:t>
            </a:r>
            <a:r>
              <a:rPr b="1" i="1" lang="sk-SK" sz="2200" spc="-1" strike="noStrike">
                <a:solidFill>
                  <a:srgbClr val="2a3d7a"/>
                </a:solidFill>
                <a:latin typeface="Times New Roman"/>
                <a:ea typeface="Arial"/>
              </a:rPr>
              <a:t>Liparis loeselii</a:t>
            </a:r>
            <a:r>
              <a:rPr b="1" lang="sk-SK" sz="2200" spc="-1" strike="noStrike">
                <a:solidFill>
                  <a:srgbClr val="2a3d7a"/>
                </a:solidFill>
                <a:latin typeface="Times New Roman"/>
              </a:rPr>
              <a:t> na </a:t>
            </a:r>
            <a:r>
              <a:rPr b="1" lang="en-US" sz="2200" spc="-1" strike="noStrike">
                <a:solidFill>
                  <a:srgbClr val="2a3d7a"/>
                </a:solidFill>
                <a:latin typeface="Times New Roman"/>
                <a:ea typeface="Arial"/>
              </a:rPr>
              <a:t>lokalitnej úrovni</a:t>
            </a:r>
            <a:r>
              <a:rPr b="0" lang="en-US" sz="22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04920" y="1071720"/>
          <a:ext cx="8610480" cy="571968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1501560"/>
                <a:gridCol w="1698840"/>
                <a:gridCol w="1600200"/>
                <a:gridCol w="304560"/>
                <a:gridCol w="1143000"/>
                <a:gridCol w="304920"/>
              </a:tblGrid>
              <a:tr h="733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ritérium </a:t>
                      </a:r>
                      <a:r>
                        <a:rPr b="1" lang="de-DE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/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hodnotenie krit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é</a:t>
                      </a:r>
                      <a:r>
                        <a:rPr b="0" lang="de-DE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ria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veľmi dobrý stav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dobrý stav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nevyhovujúci stav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Plavecký Peter, Hanšpile (Záhorská nížina)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1. Veľkos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ť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plochy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výskytu [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m</a:t>
                      </a:r>
                      <a:r>
                        <a:rPr b="1" lang="es-AR" sz="1400" spc="-1" strike="noStrike" baseline="30000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]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1 00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00 – 1 00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lt; 10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8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2. 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et jedincov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5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1 – 5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 – 1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3. Vitalita populácie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vit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&gt;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50%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p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lodných &gt; 25 %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vit. 25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50 % 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lodných 10 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25 %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vit. &lt; 25 %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lodných &lt; 10 %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4. Stav biotopu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4.1. ve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ľ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os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ť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biotopu [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m</a:t>
                      </a:r>
                      <a:r>
                        <a:rPr b="1" lang="es-AR" sz="1400" spc="-1" strike="noStrike" baseline="30000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]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10 000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5 000 – 10 00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lt; 5 00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4.2.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%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neofytov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lt;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5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5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4.3. miera zatieneni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lt; 5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5 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20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20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4.4. nepriaznivé vplyvy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ž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adne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mierne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lokalita ohrozená z dlhodobého h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ľ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adiska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zreteľné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lokalita ohrozená z krátkodobého h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ľ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adiska (&lt;  3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5. Dynamika populácie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rastúca alebo stabilizovaná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etnosť klesla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o &lt; 25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etnosť klesla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o &gt; 25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>
                      <a:noFill/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8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Celkové hodnotenie populácie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Hodnotiaca tabu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ľ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ka stavu biotopu cievnatých rastlí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0880" y="1752480"/>
          <a:ext cx="8610840" cy="3364200"/>
        </p:xfrm>
        <a:graphic>
          <a:graphicData uri="http://schemas.openxmlformats.org/drawingml/2006/table">
            <a:tbl>
              <a:tblPr/>
              <a:tblGrid>
                <a:gridCol w="1324080"/>
                <a:gridCol w="485640"/>
                <a:gridCol w="486000"/>
                <a:gridCol w="485640"/>
                <a:gridCol w="486000"/>
                <a:gridCol w="485640"/>
                <a:gridCol w="485640"/>
                <a:gridCol w="486000"/>
                <a:gridCol w="485640"/>
                <a:gridCol w="485640"/>
                <a:gridCol w="486000"/>
                <a:gridCol w="485640"/>
                <a:gridCol w="486000"/>
                <a:gridCol w="485640"/>
                <a:gridCol w="485640"/>
                <a:gridCol w="486000"/>
              </a:tblGrid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gridSpan="1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Mo</a:t>
                      </a: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ž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nosti ohodnotenia biotopu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8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Hodnotenie kritéria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4.1 – I.4.4</a:t>
                      </a: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6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6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Stav biotopu*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04920" y="518148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* kritéria I.4.1 a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 I.4.4 sú rovnako významné a hodnotenie stavu biotopu nie je závislé od ich poradia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Hodnotiaca tabuľka 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CS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populácií anex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druhov cievnatých rastlín 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na lokalitnej úrovni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80880" y="1838160"/>
          <a:ext cx="8610840" cy="4181760"/>
        </p:xfrm>
        <a:graphic>
          <a:graphicData uri="http://schemas.openxmlformats.org/drawingml/2006/table">
            <a:tbl>
              <a:tblPr/>
              <a:tblGrid>
                <a:gridCol w="1427400"/>
                <a:gridCol w="318960"/>
                <a:gridCol w="318960"/>
                <a:gridCol w="320760"/>
                <a:gridCol w="319320"/>
                <a:gridCol w="320400"/>
                <a:gridCol w="319320"/>
                <a:gridCol w="320400"/>
                <a:gridCol w="319320"/>
                <a:gridCol w="320760"/>
                <a:gridCol w="318960"/>
                <a:gridCol w="317520"/>
                <a:gridCol w="322200"/>
                <a:gridCol w="317520"/>
                <a:gridCol w="318960"/>
                <a:gridCol w="322200"/>
                <a:gridCol w="319320"/>
                <a:gridCol w="318960"/>
                <a:gridCol w="320760"/>
                <a:gridCol w="318960"/>
                <a:gridCol w="320760"/>
                <a:gridCol w="318960"/>
                <a:gridCol w="470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gridSpan="2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Mo</a:t>
                      </a: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ž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nosti ohodnotenia populácií</a:t>
                      </a: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Hodnotenie kritéria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1 – I.5</a:t>
                      </a: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7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7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7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7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Stav zachovalosti populácie*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D*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457200" y="56386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188040"/>
            <a:ext cx="853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*ak je kritérium 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. I.2 hodnotené ako 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„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D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“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, potom sa stav zachovalosti populácioe hodnotí ako 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„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D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“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, 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                  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bez ohľadu na hodnoty zvyšn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ých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 kritéri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í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 I.1, I.3, I.4 a I.5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685800" y="1143000"/>
          <a:ext cx="7924680" cy="4572000"/>
        </p:xfrm>
        <a:graphic>
          <a:graphicData uri="http://schemas.openxmlformats.org/drawingml/2006/table">
            <a:tbl>
              <a:tblPr/>
              <a:tblGrid>
                <a:gridCol w="1523880"/>
                <a:gridCol w="1371600"/>
                <a:gridCol w="1371600"/>
                <a:gridCol w="1371600"/>
                <a:gridCol w="1282680"/>
                <a:gridCol w="100332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ritérium /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hodnotenie kritéria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veľmi dobrý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stav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dobrý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stav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nevyhovujúci stav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(druh na Slovensku chýba)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hodnotenie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ritéri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I.1.  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et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lokalít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10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3 – 9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 – 2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432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I.2. Zmeny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v 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te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lokalít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et lokalít rastie alebo je ± stabilný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kles 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tu lokalít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o &lt; 10 </a:t>
                      </a:r>
                      <a:r>
                        <a:rPr b="1" lang="de-DE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%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kles 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tu lokalít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o &gt; 10</a:t>
                      </a:r>
                      <a:r>
                        <a:rPr b="1" lang="de-DE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%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4320">
                      <a:solidFill>
                        <a:srgbClr val="5b524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85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I.3. Ve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ľ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os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ť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slovenského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areálu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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m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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250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5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250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lt; 15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I.4. Celková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valit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pulácií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lt; 1,5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,5 – 2,5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2,5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>
                      <a:noFill/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0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Celkové hodnotenie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slovenských 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pulácií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04920" y="228600"/>
            <a:ext cx="8610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993300"/>
                </a:solidFill>
                <a:latin typeface="Times New Roman"/>
                <a:ea typeface="Arial"/>
              </a:rPr>
              <a:t>Hodnotenie </a:t>
            </a:r>
            <a:r>
              <a:rPr b="1" lang="sk-SK" sz="2200" spc="-1" strike="noStrike">
                <a:solidFill>
                  <a:srgbClr val="993300"/>
                </a:solidFill>
                <a:latin typeface="Times New Roman"/>
              </a:rPr>
              <a:t>CS</a:t>
            </a:r>
            <a:r>
              <a:rPr b="1" lang="es-AR" sz="2200" spc="-1" strike="noStrike">
                <a:solidFill>
                  <a:srgbClr val="993300"/>
                </a:solidFill>
                <a:latin typeface="Times New Roman"/>
                <a:ea typeface="Arial"/>
              </a:rPr>
              <a:t> populácií druhu </a:t>
            </a:r>
            <a:r>
              <a:rPr b="1" i="1" lang="es-AR" sz="2200" spc="-1" strike="noStrike">
                <a:solidFill>
                  <a:srgbClr val="993300"/>
                </a:solidFill>
                <a:latin typeface="Times New Roman"/>
                <a:ea typeface="Arial"/>
              </a:rPr>
              <a:t>Liparis loeselii</a:t>
            </a:r>
            <a:r>
              <a:rPr b="1" lang="es-AR" sz="2200" spc="-1" strike="noStrike">
                <a:solidFill>
                  <a:srgbClr val="993300"/>
                </a:solidFill>
                <a:latin typeface="Times New Roman"/>
                <a:ea typeface="Arial"/>
              </a:rPr>
              <a:t> </a:t>
            </a:r>
            <a:r>
              <a:rPr b="1" lang="sk-SK" sz="2200" spc="-1" strike="noStrike">
                <a:solidFill>
                  <a:srgbClr val="993300"/>
                </a:solidFill>
                <a:latin typeface="Times New Roman"/>
              </a:rPr>
              <a:t>n</a:t>
            </a:r>
            <a:r>
              <a:rPr b="1" lang="es-AR" sz="2200" spc="-1" strike="noStrike">
                <a:solidFill>
                  <a:srgbClr val="993300"/>
                </a:solidFill>
                <a:latin typeface="Times New Roman"/>
                <a:ea typeface="Arial"/>
              </a:rPr>
              <a:t>a</a:t>
            </a:r>
            <a:r>
              <a:rPr b="1" lang="sk-SK" sz="2200" spc="-1" strike="noStrike">
                <a:solidFill>
                  <a:srgbClr val="993300"/>
                </a:solidFill>
                <a:latin typeface="Times New Roman"/>
              </a:rPr>
              <a:t> národnej úrovni</a:t>
            </a:r>
            <a:endParaRPr b="0" lang="en-US" sz="2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61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Hodnotiaca tabu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ľ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ka stavu zachovalosti populácií anexových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 druhov cievnatých rastlín a machorastov na lokalitnej úrovni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120" y="1981080"/>
          <a:ext cx="7848360" cy="4191120"/>
        </p:xfrm>
        <a:graphic>
          <a:graphicData uri="http://schemas.openxmlformats.org/drawingml/2006/table">
            <a:tbl>
              <a:tblPr/>
              <a:tblGrid>
                <a:gridCol w="2174760"/>
                <a:gridCol w="403200"/>
                <a:gridCol w="352440"/>
                <a:gridCol w="350640"/>
                <a:gridCol w="35100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49200"/>
                <a:gridCol w="352440"/>
                <a:gridCol w="350640"/>
                <a:gridCol w="352440"/>
                <a:gridCol w="3510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Mo</a:t>
                      </a: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ž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nosti ohodnotenia súboru populácií</a:t>
                      </a: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6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Hodnotenie kritéria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I.1 – II.4</a:t>
                      </a: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7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Stav zachovalosti populácií</a:t>
                      </a: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(Conservation Status)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514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6360" indent="0">
              <a:spcBef>
                <a:spcPts val="15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1200"/>
            </a:b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1. </a:t>
            </a:r>
            <a:r>
              <a:rPr b="1" lang="es-AR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Ve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ľ</a:t>
            </a:r>
            <a:r>
              <a:rPr b="1" lang="es-AR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kos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ť</a:t>
            </a:r>
            <a:r>
              <a:rPr b="1" lang="es-AR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plochy výskytu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4. 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Stav biotopu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2. Po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č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et jedincov 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5.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Dynamika populácie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3. Vitalita populác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53341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52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marL="45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1.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Po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č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et lokalít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3.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Ve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ľ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kos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ť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 areálu na Slovensk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2.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Zmeny v po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č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te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 lokalít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4.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Celková kvalita populácií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90720"/>
            <a:ext cx="8534520" cy="1464480"/>
          </a:xfrm>
          <a:prstGeom prst="rect">
            <a:avLst/>
          </a:prstGeom>
          <a:noFill/>
          <a:ln w="255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I.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2a3d7a"/>
                </a:solidFill>
                <a:latin typeface="Times New Roman"/>
                <a:ea typeface="Arial"/>
              </a:rPr>
              <a:t>Kritériá pre hodnotenie 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CS</a:t>
            </a:r>
            <a:r>
              <a:rPr b="1" lang="en-US" sz="3000" spc="-1" strike="noStrike">
                <a:solidFill>
                  <a:srgbClr val="2a3d7a"/>
                </a:solidFill>
                <a:latin typeface="Times New Roman"/>
                <a:ea typeface="Arial"/>
              </a:rPr>
              <a:t> populácie anex. 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 druhu na konkrétnej </a:t>
            </a:r>
            <a:r>
              <a:rPr b="1" lang="en-US" sz="3000" spc="-1" strike="noStrike">
                <a:solidFill>
                  <a:srgbClr val="2a3d7a"/>
                </a:solidFill>
                <a:latin typeface="Times New Roman"/>
                <a:ea typeface="Arial"/>
              </a:rPr>
              <a:t>lokalite</a:t>
            </a:r>
            <a:r>
              <a:rPr b="0" lang="en-US" sz="3000" spc="-1" strike="noStrike">
                <a:solidFill>
                  <a:srgbClr val="2a3d7a"/>
                </a:solidFill>
                <a:latin typeface="Times New Roman"/>
                <a:ea typeface="Arial"/>
              </a:rPr>
              <a:t> </a:t>
            </a:r>
            <a:br>
              <a:rPr sz="3000"/>
            </a:b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(= kritériá lokalitnej úrovne)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997440"/>
            <a:ext cx="8534520" cy="146448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II. 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993300"/>
                </a:solidFill>
                <a:latin typeface="Times New Roman"/>
                <a:ea typeface="Arial"/>
              </a:rPr>
              <a:t>Kritériá pre hodnotenie 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CS</a:t>
            </a:r>
            <a:r>
              <a:rPr b="1" lang="en-US" sz="3000" spc="-1" strike="noStrike">
                <a:solidFill>
                  <a:srgbClr val="993300"/>
                </a:solidFill>
                <a:latin typeface="Times New Roman"/>
                <a:ea typeface="Arial"/>
              </a:rPr>
              <a:t> populácií anex. druhu na národnej 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úrovni                                    (= </a:t>
            </a:r>
            <a:r>
              <a:rPr b="1" lang="en-US" sz="3000" spc="-1" strike="noStrike">
                <a:solidFill>
                  <a:srgbClr val="993300"/>
                </a:solidFill>
                <a:latin typeface="Times New Roman"/>
                <a:ea typeface="Arial"/>
              </a:rPr>
              <a:t>kritéria národnej úrovne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1.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es-AR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Ve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</a:rPr>
              <a:t>ľ</a:t>
            </a:r>
            <a:r>
              <a:rPr b="1" lang="es-AR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kos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</a:rPr>
              <a:t>ť</a:t>
            </a:r>
            <a:r>
              <a:rPr b="1" lang="es-AR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 plochy výskytu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ve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ľ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kos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lochy [ha, m</a:t>
            </a:r>
            <a:r>
              <a:rPr b="0" lang="es-AR" sz="2400" spc="-1" strike="noStrike" baseline="30000">
                <a:solidFill>
                  <a:srgbClr val="333300"/>
                </a:solidFill>
                <a:latin typeface="Times New Roman"/>
                <a:ea typeface="Arial"/>
              </a:rPr>
              <a:t>2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dm</a:t>
            </a:r>
            <a:r>
              <a:rPr b="0" lang="es-AR" sz="2400" spc="-1" strike="noStrike" baseline="30000">
                <a:solidFill>
                  <a:srgbClr val="333300"/>
                </a:solidFill>
                <a:latin typeface="Times New Roman"/>
                <a:ea typeface="Arial"/>
              </a:rPr>
              <a:t>2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], ktorú osíd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ľ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uje na lokalite anex. druh v podobe fertilných, sterilných alebo poškodených jedincov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veľ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kos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plochy sa stanoví odhadom a zakreslí do mapy 1: 10 000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vymedzenie lokality!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●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chorast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y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: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ri epifytických druhoch je to ve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ľ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kos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plochy, na ktorej sa vyskytujú dreviny (spadnuté alebo stojace, vrátane odumierajúcich) osídlené anex. druhom machorastu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2.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Po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</a:rPr>
              <a:t>č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et jedincov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ximálny 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et jedincov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(fertilných, sterilných a poškodených spolu) anex. druhu na lokalite za obdobie 6 rokov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presný počet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(do 500 ks)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al.  odhad (väčšie populácie,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ko prístupný terén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●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chorast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y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pokryvnosť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a distribúcia na lokalit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3.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Vitalita populácie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riemerný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ercentuálny podiel kvitnúcich, resp. plodných jedincov z celkového 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tu jedincov anex. druhu na lokalite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za obdobie 6 rokov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pri stanovovaní stupnice hodnotenia sa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zohľadňuje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schopnosť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vegetatívneho rozmno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ovania,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ivotný (vývinový) cyklus a pod.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● 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chorast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y: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kritérium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sa 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nehodnotí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4.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Stav biotopu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4.1. 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ve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</a:rPr>
              <a:t>ľ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kos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</a:rPr>
              <a:t>ť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 biotopu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locha reálneho výskytu druhu + okolitá plocha s vhodnými stanovištnými podmienkami pre výskyt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anex.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druhu </a:t>
            </a:r>
            <a:r>
              <a:rPr b="0" lang="sk-SK" sz="2400" spc="-1" strike="noStrike">
                <a:solidFill>
                  <a:srgbClr val="333300"/>
                </a:solidFill>
                <a:latin typeface="Symbol"/>
                <a:ea typeface="Symbol"/>
              </a:rPr>
              <a:t>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ha, m</a:t>
            </a:r>
            <a:r>
              <a:rPr b="0" lang="sk-SK" sz="2400" spc="-1" strike="noStrike" baseline="30000">
                <a:solidFill>
                  <a:srgbClr val="333300"/>
                </a:solidFill>
                <a:latin typeface="Times New Roman"/>
                <a:ea typeface="Arial"/>
              </a:rPr>
              <a:t>2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dm</a:t>
            </a:r>
            <a:r>
              <a:rPr b="0" lang="sk-SK" sz="2400" spc="-1" strike="noStrike" baseline="30000">
                <a:solidFill>
                  <a:srgbClr val="333300"/>
                </a:solidFill>
                <a:latin typeface="Times New Roman"/>
                <a:ea typeface="Arial"/>
              </a:rPr>
              <a:t>2</a:t>
            </a:r>
            <a:r>
              <a:rPr b="0" lang="sk-SK" sz="2400" spc="-1" strike="noStrike">
                <a:solidFill>
                  <a:srgbClr val="333300"/>
                </a:solidFill>
                <a:latin typeface="Symbol"/>
                <a:ea typeface="Symbol"/>
              </a:rPr>
              <a:t>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v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e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ľ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kos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plochy biotopu sa stanoví odhadom a zakreslí do mapy 1: 10 000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4.2. </a:t>
            </a:r>
            <a:r>
              <a:rPr b="1" lang="es-AR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percentuálne zastúpenie neofytov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ercentu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álny podiel pokryvnosti neofytných taxónov z celkovej pokryvnosti taxónov vyskytujúcich sa na ploche biotopu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pre k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dú lokalitu sa uvedie zoznam neofytných taxónov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6108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4.3. 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svetelné pomery</a:t>
            </a:r>
            <a:r>
              <a:rPr b="0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iera zatienenia resp. presvetlenia biotopu krovinami a stromami (v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%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)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4.4.</a:t>
            </a:r>
            <a:r>
              <a:rPr b="0" lang="es-AR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</a:t>
            </a:r>
            <a:r>
              <a:rPr b="1" lang="es-AR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nepriaznivé</a:t>
            </a:r>
            <a:r>
              <a:rPr b="0" lang="es-AR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 </a:t>
            </a:r>
            <a:r>
              <a:rPr b="1" lang="es-AR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vplyvy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re druh nepriaznivá zmena charakteru biotopu </a:t>
            </a:r>
            <a:r>
              <a:rPr b="0" lang="es-AR" sz="2400" spc="-1" strike="noStrike" u="sng">
                <a:solidFill>
                  <a:srgbClr val="333300"/>
                </a:solidFill>
                <a:uFillTx/>
                <a:latin typeface="Times New Roman"/>
                <a:ea typeface="Arial"/>
              </a:rPr>
              <a:t>prirodzenými procesmi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(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vysychanie, zarastanie ne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iadúcimi druhmi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)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alebo </a:t>
            </a:r>
            <a:r>
              <a:rPr b="0" lang="es-AR" sz="2400" spc="-1" strike="noStrike" u="sng">
                <a:solidFill>
                  <a:srgbClr val="333300"/>
                </a:solidFill>
                <a:uFillTx/>
                <a:latin typeface="Times New Roman"/>
                <a:ea typeface="Arial"/>
              </a:rPr>
              <a:t>ľudskými aktivitami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(odvod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ň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ovanie, erózia, eutrofizácia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...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pre k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dú lokalitu sa nepriaznivé vplyvy aj bli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ie charakterizujú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(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4.5. 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k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</a:rPr>
              <a:t>ľ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ú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</a:rPr>
              <a:t>č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ový ekologický faktor</a:t>
            </a:r>
            <a:r>
              <a:rPr b="0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abiotický faktor nevyhnutný pre výskyt anex. druhu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len pri vybraných druhoch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: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i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Marsilea quadrifoli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kolísanie hladiny vody po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as rok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;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i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Cyclamen fatrense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zastúpenie buka v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E</a:t>
            </a:r>
            <a:r>
              <a:rPr b="1" lang="sk-SK" sz="1800" spc="-1" strike="noStrike" baseline="-25000">
                <a:solidFill>
                  <a:srgbClr val="333300"/>
                </a:solidFill>
                <a:latin typeface="Times New Roman"/>
              </a:rPr>
              <a:t>3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,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resp.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E</a:t>
            </a:r>
            <a:r>
              <a:rPr b="1" lang="sk-SK" sz="1800" spc="-1" strike="noStrike" baseline="-25000">
                <a:solidFill>
                  <a:srgbClr val="333300"/>
                </a:solidFill>
                <a:latin typeface="Times New Roman"/>
              </a:rPr>
              <a:t>2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et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i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...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●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chorast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y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: hodnotia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sa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len kritériá č. 4.1 a 4.4.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5.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Dynamika populácie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zmena v 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etnosti populácie anex. druhu na lokalite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                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za posledných 12 rokov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(resp. od za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atia monitoringu)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zoh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ľ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ad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ň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ov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existenciu prípadných prirodzených výkyvov v po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etnosti 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●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chorast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y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: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zmeny v hustote populácie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(pri epifytických druhoch aj zmeny v 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te osídlených  stromov)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76200"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1.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Po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</a:rPr>
              <a:t>č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et lokalít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700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et lokalít anex. druhu na Slovensku, na ktorých bol za posledných 6 rokov zaznamenaný as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ň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1 jedinec</a:t>
            </a:r>
            <a:r>
              <a:rPr b="0" lang="sk-SK" sz="2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pri hodnotení s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vychádza z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po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t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u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lokalít v období „referen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ného zdroja”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        (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mal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by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by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starší ako 20 rokov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733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2.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Zmeny v po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</a:rPr>
              <a:t>č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te lokalít</a:t>
            </a:r>
            <a:r>
              <a:rPr b="1" lang="en-US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 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495680"/>
            <a:ext cx="86108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zmeny v 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te lokalít anex. druhu na Slovensku za posledných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12 rokov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(resp.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od za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atia monitoringu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ri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hodnotení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sa zohľad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ň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uje 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  <a:ea typeface="Arial"/>
              </a:rPr>
              <a:t>endemizmus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a 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  <a:ea typeface="Arial"/>
              </a:rPr>
              <a:t>lokalizácia slovenských populácií 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</a:rPr>
              <a:t>        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  <a:ea typeface="Arial"/>
              </a:rPr>
              <a:t>v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</a:rPr>
              <a:t> 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  <a:ea typeface="Arial"/>
              </a:rPr>
              <a:t>rámci areálu druhu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3:42:06Z</dcterms:created>
  <dc:creator>Milan</dc:creator>
  <dc:description/>
  <dc:language>en-US</dc:language>
  <cp:lastModifiedBy>Guziova</cp:lastModifiedBy>
  <dcterms:modified xsi:type="dcterms:W3CDTF">2004-06-15T05:25:46Z</dcterms:modified>
  <cp:revision>15</cp:revision>
  <dc:subject/>
  <dc:title>Kritériá pre hodnotenie stavu zachovalosti (CS)  (voľne sa vyskytujúcich) populácií anexových druhov rastlín na Slovensku z hľadiska ich ochrany</dc:title>
</cp:coreProperties>
</file>