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042-8EB9-410C-8E39-FF96D589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3B0-396D-4FD3-88D2-826D92B4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3FC-69E6-4696-920C-D14AB213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CD3-0D28-4027-9DFC-49B7BE0F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DBC-D989-4B72-AD1D-2C034E7E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40A-E909-495B-A3AA-F8F01E9B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FF8-1F0F-4AE3-BEC3-F0C71DEC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FCA-57C0-4E2E-BC71-9751BD3C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4A3-B6A3-49AF-A620-0FC51D3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03F-B24D-4CC9-90EF-631D6D04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AAC-FC51-415F-BFC2-92E6E98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DED-F92C-41BB-A0C6-66DBC22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64EA-83B0-4C3B-BF44-104490514F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2800" y="1168560"/>
            <a:ext cx="6108840" cy="703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vodné úvahy o monitorovacom systéme pre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6560" y="2357280"/>
            <a:ext cx="3391200" cy="3070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Ján Šeff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stislav Las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1160" y="1346040"/>
            <a:ext cx="63244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podával aktuálne informácie o stave všetkých biotop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prepojený s plánovaním a realizáciou manažmen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uskutočniteľný z hľadiska expertných kapací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finančne efektív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napojený na ďalšie monitorovacie systémy (AEP, RSV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676520" y="3228840"/>
            <a:ext cx="1904760" cy="900360"/>
            <a:chOff x="1676520" y="3228840"/>
            <a:chExt cx="1904760" cy="900360"/>
          </a:xfrm>
        </p:grpSpPr>
        <p:sp>
          <p:nvSpPr>
            <p:cNvPr id="46" name=""/>
            <p:cNvSpPr/>
            <p:nvPr/>
          </p:nvSpPr>
          <p:spPr>
            <a:xfrm>
              <a:off x="1676520" y="3228840"/>
              <a:ext cx="190476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34574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etodik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486400" y="3228840"/>
            <a:ext cx="1905120" cy="900360"/>
            <a:chOff x="5486400" y="3228840"/>
            <a:chExt cx="1905120" cy="900360"/>
          </a:xfrm>
        </p:grpSpPr>
        <p:sp>
          <p:nvSpPr>
            <p:cNvPr id="49" name=""/>
            <p:cNvSpPr/>
            <p:nvPr/>
          </p:nvSpPr>
          <p:spPr>
            <a:xfrm>
              <a:off x="5486400" y="3228840"/>
              <a:ext cx="190512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6100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476080" y="2055240"/>
            <a:ext cx="1338840" cy="1258200"/>
            <a:chOff x="2476080" y="2055240"/>
            <a:chExt cx="1338840" cy="1258200"/>
          </a:xfrm>
        </p:grpSpPr>
        <p:sp>
          <p:nvSpPr>
            <p:cNvPr id="52" name=""/>
            <p:cNvSpPr/>
            <p:nvPr/>
          </p:nvSpPr>
          <p:spPr>
            <a:xfrm flipH="1">
              <a:off x="2514240" y="2314440"/>
              <a:ext cx="106668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187400">
              <a:off x="2514240" y="2393640"/>
              <a:ext cx="126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c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34120" y="2206800"/>
            <a:ext cx="1267920" cy="1048320"/>
            <a:chOff x="5334120" y="2206800"/>
            <a:chExt cx="1267920" cy="1048320"/>
          </a:xfrm>
        </p:grpSpPr>
        <p:sp>
          <p:nvSpPr>
            <p:cNvPr id="55" name=""/>
            <p:cNvSpPr/>
            <p:nvPr/>
          </p:nvSpPr>
          <p:spPr>
            <a:xfrm>
              <a:off x="5334120" y="2314440"/>
              <a:ext cx="11491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209200">
              <a:off x="5331960" y="2562120"/>
              <a:ext cx="12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Parame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581280" y="3548160"/>
            <a:ext cx="1905120" cy="581040"/>
            <a:chOff x="3581280" y="3548160"/>
            <a:chExt cx="1905120" cy="581040"/>
          </a:xfrm>
        </p:grpSpPr>
        <p:sp>
          <p:nvSpPr>
            <p:cNvPr id="58" name=""/>
            <p:cNvSpPr/>
            <p:nvPr/>
          </p:nvSpPr>
          <p:spPr>
            <a:xfrm flipH="1">
              <a:off x="3581280" y="3838680"/>
              <a:ext cx="19051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600">
              <a:off x="3833280" y="3548160"/>
              <a:ext cx="14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Zabezpečenie monitoring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882880" y="343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ud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8000" y="1395360"/>
            <a:ext cx="3405240" cy="4911120"/>
            <a:chOff x="3078000" y="1395360"/>
            <a:chExt cx="3405240" cy="4911120"/>
          </a:xfrm>
        </p:grpSpPr>
        <p:grpSp>
          <p:nvGrpSpPr>
            <p:cNvPr id="62" name=""/>
            <p:cNvGrpSpPr/>
            <p:nvPr/>
          </p:nvGrpSpPr>
          <p:grpSpPr>
            <a:xfrm>
              <a:off x="3429000" y="1395360"/>
              <a:ext cx="1981080" cy="919080"/>
              <a:chOff x="3429000" y="1395360"/>
              <a:chExt cx="1981080" cy="919080"/>
            </a:xfrm>
          </p:grpSpPr>
          <p:sp>
            <p:nvSpPr>
              <p:cNvPr id="63" name=""/>
              <p:cNvSpPr/>
              <p:nvPr/>
            </p:nvSpPr>
            <p:spPr>
              <a:xfrm>
                <a:off x="3505320" y="1395360"/>
                <a:ext cx="1904760" cy="919080"/>
              </a:xfrm>
              <a:prstGeom prst="flowChartAlternateProcess">
                <a:avLst/>
              </a:prstGeom>
              <a:solidFill>
                <a:srgbClr val="339966">
                  <a:alpha val="50000"/>
                </a:srgbClr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1685880"/>
                <a:ext cx="1981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Arial"/>
                  </a:rPr>
                  <a:t>Definovanie PSZ*  bioto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078000" y="5969160"/>
              <a:ext cx="340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000000"/>
                  </a:solidFill>
                  <a:latin typeface="Arial"/>
                </a:rPr>
                <a:t>*PSZ – priaznivý stav zachov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6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7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7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7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8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8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8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62120" y="762120"/>
            <a:ext cx="7812000" cy="5159160"/>
            <a:chOff x="762120" y="762120"/>
            <a:chExt cx="7812000" cy="5159160"/>
          </a:xfrm>
        </p:grpSpPr>
        <p:grpSp>
          <p:nvGrpSpPr>
            <p:cNvPr id="92" name=""/>
            <p:cNvGrpSpPr/>
            <p:nvPr/>
          </p:nvGrpSpPr>
          <p:grpSpPr>
            <a:xfrm>
              <a:off x="766440" y="766080"/>
              <a:ext cx="7802640" cy="5150520"/>
              <a:chOff x="766440" y="766080"/>
              <a:chExt cx="7802640" cy="51505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766440" y="766080"/>
                <a:ext cx="1703520" cy="613440"/>
                <a:chOff x="766440" y="766080"/>
                <a:chExt cx="1703520" cy="6134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31600" y="766080"/>
                  <a:ext cx="15728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6440" y="766080"/>
                  <a:ext cx="170352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469960" y="766080"/>
                <a:ext cx="6099120" cy="613440"/>
                <a:chOff x="2469960" y="766080"/>
                <a:chExt cx="6099120" cy="6134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469960" y="766080"/>
                  <a:ext cx="6099120" cy="61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469960" y="766080"/>
                  <a:ext cx="6099120" cy="613440"/>
                  <a:chOff x="2469960" y="766080"/>
                  <a:chExt cx="6099120" cy="6134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535120" y="766080"/>
                    <a:ext cx="5968080" cy="61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ôsob zberu dá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469960" y="766080"/>
                    <a:ext cx="60991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766440" y="1379520"/>
                <a:ext cx="1703520" cy="1041120"/>
                <a:chOff x="766440" y="1379520"/>
                <a:chExt cx="1703520" cy="1041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66440" y="1379520"/>
                  <a:ext cx="1703520" cy="1041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766440" y="1379520"/>
                  <a:ext cx="1703520" cy="1041120"/>
                  <a:chOff x="766440" y="1379520"/>
                  <a:chExt cx="1703520" cy="10411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831600" y="1379520"/>
                    <a:ext cx="1572840" cy="1041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ritériá hodnote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66440" y="1379520"/>
                    <a:ext cx="170352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2469960" y="1379520"/>
                <a:ext cx="1316160" cy="1041120"/>
                <a:chOff x="2469960" y="1379520"/>
                <a:chExt cx="1316160" cy="1041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69960" y="1379520"/>
                  <a:ext cx="131616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2469960" y="1379520"/>
                  <a:ext cx="1316160" cy="1041120"/>
                  <a:chOff x="2469960" y="1379520"/>
                  <a:chExt cx="1316160" cy="1041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2535120" y="1379520"/>
                    <a:ext cx="118548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zoznam druh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469960" y="1379520"/>
                    <a:ext cx="131616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3786120" y="1379520"/>
                <a:ext cx="1250640" cy="1041120"/>
                <a:chOff x="3786120" y="1379520"/>
                <a:chExt cx="1250640" cy="1041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786120" y="1379520"/>
                  <a:ext cx="125064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786120" y="1379520"/>
                  <a:ext cx="1250640" cy="1041120"/>
                  <a:chOff x="3786120" y="1379520"/>
                  <a:chExt cx="1250640" cy="10411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851280" y="1379520"/>
                    <a:ext cx="11199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emi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vant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786120" y="1379520"/>
                    <a:ext cx="125064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5036760" y="1379520"/>
                <a:ext cx="1097280" cy="1041120"/>
                <a:chOff x="5036760" y="1379520"/>
                <a:chExt cx="1097280" cy="10411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03676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5036760" y="1379520"/>
                  <a:ext cx="1097280" cy="1041120"/>
                  <a:chOff x="5036760" y="1379520"/>
                  <a:chExt cx="1097280" cy="10411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101920" y="1379520"/>
                    <a:ext cx="96660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zen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3676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6134400" y="1379520"/>
                <a:ext cx="1097280" cy="1041120"/>
                <a:chOff x="6134400" y="1379520"/>
                <a:chExt cx="1097280" cy="1041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13440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6134400" y="1379520"/>
                  <a:ext cx="1097280" cy="1041120"/>
                  <a:chOff x="6134400" y="1379520"/>
                  <a:chExt cx="1097280" cy="104112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6199560" y="1379520"/>
                    <a:ext cx="96624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iomas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13440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7231680" y="1379520"/>
                <a:ext cx="1337400" cy="1041120"/>
                <a:chOff x="7231680" y="1379520"/>
                <a:chExt cx="1337400" cy="1041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231680" y="1379520"/>
                  <a:ext cx="133740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231680" y="1379520"/>
                  <a:ext cx="1337400" cy="1041120"/>
                  <a:chOff x="7231680" y="1379520"/>
                  <a:chExt cx="1337400" cy="10411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96840" y="1379520"/>
                    <a:ext cx="12063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ty jedinc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231680" y="1379520"/>
                    <a:ext cx="133740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766440" y="2420640"/>
                <a:ext cx="1703520" cy="613440"/>
                <a:chOff x="766440" y="2420640"/>
                <a:chExt cx="1703520" cy="613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66440" y="24206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66440" y="2420640"/>
                  <a:ext cx="1703520" cy="613440"/>
                  <a:chOff x="766440" y="2420640"/>
                  <a:chExt cx="1703520" cy="613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831600" y="24206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ocha zber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66440" y="24206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2469960" y="2420640"/>
                <a:ext cx="1316160" cy="613440"/>
                <a:chOff x="2469960" y="2420640"/>
                <a:chExt cx="1316160" cy="613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535120" y="24206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9960" y="24206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86120" y="2420640"/>
                <a:ext cx="1250640" cy="613440"/>
                <a:chOff x="3786120" y="2420640"/>
                <a:chExt cx="1250640" cy="613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51280" y="24206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86120" y="24206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036760" y="2420640"/>
                <a:ext cx="1097280" cy="613440"/>
                <a:chOff x="5036760" y="2420640"/>
                <a:chExt cx="1097280" cy="6134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1920" y="24206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3676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34400" y="2420640"/>
                <a:ext cx="1097280" cy="613440"/>
                <a:chOff x="6134400" y="2420640"/>
                <a:chExt cx="1097280" cy="613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99560" y="24206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3440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231680" y="2420640"/>
                <a:ext cx="1337400" cy="613440"/>
                <a:chOff x="7231680" y="2420640"/>
                <a:chExt cx="1337400" cy="613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296840" y="24206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231680" y="24206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66440" y="3034440"/>
                <a:ext cx="1703520" cy="613800"/>
                <a:chOff x="766440" y="3034440"/>
                <a:chExt cx="1703520" cy="6138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66440" y="3034440"/>
                  <a:ext cx="1703520" cy="6138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766440" y="3034440"/>
                  <a:ext cx="1703520" cy="613800"/>
                  <a:chOff x="766440" y="3034440"/>
                  <a:chExt cx="1703520" cy="613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831600" y="3034440"/>
                    <a:ext cx="1572840" cy="6138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cnosť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66440" y="3034440"/>
                    <a:ext cx="1703520" cy="61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"/>
              <p:cNvGrpSpPr/>
              <p:nvPr/>
            </p:nvGrpSpPr>
            <p:grpSpPr>
              <a:xfrm>
                <a:off x="2469960" y="3034440"/>
                <a:ext cx="1316160" cy="613800"/>
                <a:chOff x="2469960" y="3034440"/>
                <a:chExt cx="1316160" cy="6138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35120" y="3034440"/>
                  <a:ext cx="11854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69960" y="3034440"/>
                  <a:ext cx="131616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786120" y="3034440"/>
                <a:ext cx="1250640" cy="613800"/>
                <a:chOff x="3786120" y="3034440"/>
                <a:chExt cx="1250640" cy="613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851280" y="3034440"/>
                  <a:ext cx="1119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86120" y="3034440"/>
                  <a:ext cx="125064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36760" y="3034440"/>
                <a:ext cx="1097280" cy="613800"/>
                <a:chOff x="5036760" y="3034440"/>
                <a:chExt cx="1097280" cy="6138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101920" y="3034440"/>
                  <a:ext cx="9666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3676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34400" y="3034440"/>
                <a:ext cx="1097280" cy="613800"/>
                <a:chOff x="6134400" y="3034440"/>
                <a:chExt cx="1097280" cy="6138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199560" y="3034440"/>
                  <a:ext cx="9662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3440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231680" y="3034440"/>
                <a:ext cx="1337400" cy="613800"/>
                <a:chOff x="7231680" y="3034440"/>
                <a:chExt cx="1337400" cy="613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296840" y="3034440"/>
                  <a:ext cx="12063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231680" y="3034440"/>
                  <a:ext cx="133740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66440" y="3648240"/>
                <a:ext cx="1703520" cy="613440"/>
                <a:chOff x="766440" y="3648240"/>
                <a:chExt cx="1703520" cy="613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66440" y="36482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766440" y="3648240"/>
                  <a:ext cx="1703520" cy="613440"/>
                  <a:chOff x="766440" y="3648240"/>
                  <a:chExt cx="1703520" cy="6134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831600" y="36482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snosť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66440" y="36482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2469960" y="3648240"/>
                <a:ext cx="1316160" cy="613440"/>
                <a:chOff x="2469960" y="3648240"/>
                <a:chExt cx="1316160" cy="613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535120" y="36482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469960" y="36482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786120" y="3648240"/>
                <a:ext cx="1250640" cy="613440"/>
                <a:chOff x="3786120" y="3648240"/>
                <a:chExt cx="1250640" cy="613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851280" y="36482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786120" y="36482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036760" y="3648240"/>
                <a:ext cx="1097280" cy="613440"/>
                <a:chOff x="5036760" y="3648240"/>
                <a:chExt cx="1097280" cy="61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101920" y="36482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3676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134400" y="3648240"/>
                <a:ext cx="1097280" cy="613440"/>
                <a:chOff x="6134400" y="3648240"/>
                <a:chExt cx="1097280" cy="6134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99560" y="36482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13440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31680" y="3648240"/>
                <a:ext cx="1337400" cy="613440"/>
                <a:chOff x="7231680" y="3648240"/>
                <a:chExt cx="1337400" cy="61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296840" y="36482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31680" y="36482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6440" y="4262040"/>
                <a:ext cx="1703520" cy="827280"/>
                <a:chOff x="766440" y="4262040"/>
                <a:chExt cx="1703520" cy="827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66440" y="426204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766440" y="4262040"/>
                  <a:ext cx="1703520" cy="827280"/>
                  <a:chOff x="766440" y="4262040"/>
                  <a:chExt cx="1703520" cy="8272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831600" y="426204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ti štat. spracova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6440" y="426204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" name=""/>
              <p:cNvGrpSpPr/>
              <p:nvPr/>
            </p:nvGrpSpPr>
            <p:grpSpPr>
              <a:xfrm>
                <a:off x="2469960" y="4262040"/>
                <a:ext cx="1316160" cy="827280"/>
                <a:chOff x="2469960" y="4262040"/>
                <a:chExt cx="1316160" cy="827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535120" y="426204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469960" y="426204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786120" y="4262040"/>
                <a:ext cx="1250640" cy="827280"/>
                <a:chOff x="3786120" y="4262040"/>
                <a:chExt cx="1250640" cy="8272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851280" y="426204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786120" y="426204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036760" y="4262040"/>
                <a:ext cx="1097280" cy="827280"/>
                <a:chOff x="5036760" y="4262040"/>
                <a:chExt cx="1097280" cy="827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101920" y="426204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3676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134400" y="4262040"/>
                <a:ext cx="1097280" cy="827280"/>
                <a:chOff x="6134400" y="4262040"/>
                <a:chExt cx="1097280" cy="827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199560" y="426204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13440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231680" y="4262040"/>
                <a:ext cx="1337400" cy="827280"/>
                <a:chOff x="7231680" y="4262040"/>
                <a:chExt cx="1337400" cy="827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296840" y="426204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231680" y="426204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766440" y="5089320"/>
                <a:ext cx="1703520" cy="827280"/>
                <a:chOff x="766440" y="5089320"/>
                <a:chExt cx="1703520" cy="827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66440" y="508932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766440" y="5089320"/>
                  <a:ext cx="1703520" cy="827280"/>
                  <a:chOff x="766440" y="5089320"/>
                  <a:chExt cx="1703520" cy="8272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831600" y="508932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ť zachytenia artefaktov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66440" y="508932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2469960" y="5089320"/>
                <a:ext cx="1316160" cy="827280"/>
                <a:chOff x="2469960" y="5089320"/>
                <a:chExt cx="1316160" cy="82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535120" y="508932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69960" y="508932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786120" y="5089320"/>
                <a:ext cx="1250640" cy="827280"/>
                <a:chOff x="3786120" y="5089320"/>
                <a:chExt cx="1250640" cy="82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851280" y="508932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6120" y="508932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036760" y="5089320"/>
                <a:ext cx="1097280" cy="827280"/>
                <a:chOff x="5036760" y="5089320"/>
                <a:chExt cx="1097280" cy="827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101920" y="508932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3676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134400" y="5089320"/>
                <a:ext cx="1097280" cy="827280"/>
                <a:chOff x="6134400" y="5089320"/>
                <a:chExt cx="1097280" cy="827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199560" y="508932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3440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231680" y="5089320"/>
                <a:ext cx="1337400" cy="827280"/>
                <a:chOff x="7231680" y="5089320"/>
                <a:chExt cx="1337400" cy="827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296840" y="508932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231680" y="508932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62120" y="762120"/>
              <a:ext cx="7812000" cy="5159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31960" y="76212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é dáta zbierať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86120" y="1379520"/>
            <a:ext cx="1251000" cy="453708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81160" y="1346040"/>
            <a:ext cx="6985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stavený na báze najväčšieho informačného systému v správe ŠOP/DAPH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povacie údaje je potrebné spresniť (hranice, homogénnejšie polygó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yužiť údaje, ktoré budú prichádzať s A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nterval monitoringu by mal byť 5-ročný v ÚEV a 10-ročný pre ostatné lok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18:38Z</dcterms:modified>
  <cp:revision>41</cp:revision>
  <dc:subject/>
  <dc:title>Prezentace aplikace PowerPoint</dc:title>
</cp:coreProperties>
</file>