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6CD-6660-420F-A670-4B591D68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DF8C-4B17-47C3-B40B-B58ADCC4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BB90-D53A-4E96-B7E3-8073DE28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2C0A-4CB0-4C95-AF09-7EDED815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F55-BE2C-4F70-ABD5-1721205A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1ADB-D811-4D29-80F5-EBB1437A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5A0C-7CDE-4D2C-8640-D2EE7474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5BC-663A-424B-ABAC-1BE50CC4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2CF6-5DB1-417C-BE0C-73723EC4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8A90-48AB-45A8-900E-084191B2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5C5F-4472-44D3-B70B-EF2E96A7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A466-3229-4DFF-A354-5D4E6911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0D6D-879B-4BBC-BBA8-BE9305F8F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avourable conservation status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– forest 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4005360"/>
            <a:ext cx="80647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te Nature Conservanc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f the Slovak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est research instit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est managment planing instit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Other indicators of structure criter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natural regenera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principal precondition of forest stand sustainability; possible listing within the forest habitat species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large-diameter and biodiversity valuable trees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(for some type of habitats it is a good indicator of structure, if we do not have other structure indicator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; need to assess them separatel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; biodiversity valuabl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deadwoo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biodiversity valuable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in spatial structure serves only aesthetic purpo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Key issues related to structure definition</a:t>
            </a: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ntification of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minimal limit valu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for the assessment of  growth class, developmental stage, tree layer...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ntification of the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area limi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for the layer unit and even-aged forest unit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(0,30 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ntification of the minimal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stocking leve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f the respective unit 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(0,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195640" y="3645000"/>
            <a:ext cx="4752720" cy="1152360"/>
            <a:chOff x="2195640" y="3645000"/>
            <a:chExt cx="4752720" cy="1152360"/>
          </a:xfrm>
        </p:grpSpPr>
        <p:sp>
          <p:nvSpPr>
            <p:cNvPr id="63" name=""/>
            <p:cNvSpPr/>
            <p:nvPr/>
          </p:nvSpPr>
          <p:spPr>
            <a:xfrm>
              <a:off x="2195640" y="3645000"/>
              <a:ext cx="4752720" cy="1152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16240" y="3675240"/>
              <a:ext cx="153360" cy="658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95160" y="4044600"/>
              <a:ext cx="15336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87160" y="4318920"/>
              <a:ext cx="720" cy="329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74080" y="3703320"/>
              <a:ext cx="153360" cy="955800"/>
              <a:chOff x="2674080" y="3703320"/>
              <a:chExt cx="153360" cy="955800"/>
            </a:xfrm>
          </p:grpSpPr>
          <p:sp>
            <p:nvSpPr>
              <p:cNvPr id="68" name=""/>
              <p:cNvSpPr/>
              <p:nvPr/>
            </p:nvSpPr>
            <p:spPr>
              <a:xfrm>
                <a:off x="2674080" y="370332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750760" y="43448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565000" y="4516200"/>
              <a:ext cx="7560" cy="9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3255120" y="3696480"/>
              <a:ext cx="153360" cy="955800"/>
              <a:chOff x="3255120" y="3696480"/>
              <a:chExt cx="153360" cy="955800"/>
            </a:xfrm>
          </p:grpSpPr>
          <p:sp>
            <p:nvSpPr>
              <p:cNvPr id="72" name=""/>
              <p:cNvSpPr/>
              <p:nvPr/>
            </p:nvSpPr>
            <p:spPr>
              <a:xfrm>
                <a:off x="3255120" y="3696480"/>
                <a:ext cx="15336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331800" y="433800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434040" y="3703320"/>
              <a:ext cx="153360" cy="955800"/>
              <a:chOff x="3434040" y="3703320"/>
              <a:chExt cx="153360" cy="955800"/>
            </a:xfrm>
          </p:grpSpPr>
          <p:sp>
            <p:nvSpPr>
              <p:cNvPr id="75" name=""/>
              <p:cNvSpPr/>
              <p:nvPr/>
            </p:nvSpPr>
            <p:spPr>
              <a:xfrm>
                <a:off x="3434040" y="370332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10720" y="43448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086360" y="3723120"/>
              <a:ext cx="153000" cy="955800"/>
              <a:chOff x="4086360" y="3723120"/>
              <a:chExt cx="153000" cy="955800"/>
            </a:xfrm>
          </p:grpSpPr>
          <p:sp>
            <p:nvSpPr>
              <p:cNvPr id="78" name=""/>
              <p:cNvSpPr/>
              <p:nvPr/>
            </p:nvSpPr>
            <p:spPr>
              <a:xfrm>
                <a:off x="4086360" y="3723120"/>
                <a:ext cx="15300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162680" y="43646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3888000" y="3709440"/>
              <a:ext cx="153360" cy="955800"/>
              <a:chOff x="3888000" y="3709440"/>
              <a:chExt cx="153360" cy="955800"/>
            </a:xfrm>
          </p:grpSpPr>
          <p:sp>
            <p:nvSpPr>
              <p:cNvPr id="81" name=""/>
              <p:cNvSpPr/>
              <p:nvPr/>
            </p:nvSpPr>
            <p:spPr>
              <a:xfrm>
                <a:off x="3888000" y="370944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64680" y="435096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623040" y="4221720"/>
              <a:ext cx="121680" cy="405720"/>
              <a:chOff x="3623040" y="4221720"/>
              <a:chExt cx="121680" cy="405720"/>
            </a:xfrm>
          </p:grpSpPr>
          <p:sp>
            <p:nvSpPr>
              <p:cNvPr id="84" name=""/>
              <p:cNvSpPr/>
              <p:nvPr/>
            </p:nvSpPr>
            <p:spPr>
              <a:xfrm>
                <a:off x="3623040" y="4221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686760" y="4542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3763440" y="4228920"/>
              <a:ext cx="121680" cy="405720"/>
              <a:chOff x="3763440" y="4228920"/>
              <a:chExt cx="121680" cy="405720"/>
            </a:xfrm>
          </p:grpSpPr>
          <p:sp>
            <p:nvSpPr>
              <p:cNvPr id="87" name=""/>
              <p:cNvSpPr/>
              <p:nvPr/>
            </p:nvSpPr>
            <p:spPr>
              <a:xfrm>
                <a:off x="3763440" y="42289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827160" y="45500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360760" y="4274280"/>
              <a:ext cx="121680" cy="405720"/>
              <a:chOff x="5360760" y="4274280"/>
              <a:chExt cx="121680" cy="405720"/>
            </a:xfrm>
          </p:grpSpPr>
          <p:sp>
            <p:nvSpPr>
              <p:cNvPr id="90" name=""/>
              <p:cNvSpPr/>
              <p:nvPr/>
            </p:nvSpPr>
            <p:spPr>
              <a:xfrm>
                <a:off x="536076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42448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5207400" y="4310280"/>
              <a:ext cx="121680" cy="366120"/>
              <a:chOff x="5207400" y="4310280"/>
              <a:chExt cx="121680" cy="366120"/>
            </a:xfrm>
          </p:grpSpPr>
          <p:sp>
            <p:nvSpPr>
              <p:cNvPr id="93" name=""/>
              <p:cNvSpPr/>
              <p:nvPr/>
            </p:nvSpPr>
            <p:spPr>
              <a:xfrm>
                <a:off x="5207400" y="4310280"/>
                <a:ext cx="121680" cy="289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71120" y="4600080"/>
                <a:ext cx="6480" cy="76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5047920" y="4274280"/>
              <a:ext cx="121680" cy="405720"/>
              <a:chOff x="5047920" y="4274280"/>
              <a:chExt cx="121680" cy="405720"/>
            </a:xfrm>
          </p:grpSpPr>
          <p:sp>
            <p:nvSpPr>
              <p:cNvPr id="96" name=""/>
              <p:cNvSpPr/>
              <p:nvPr/>
            </p:nvSpPr>
            <p:spPr>
              <a:xfrm>
                <a:off x="504792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11164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481720" y="4274280"/>
              <a:ext cx="121680" cy="405720"/>
              <a:chOff x="5481720" y="4274280"/>
              <a:chExt cx="121680" cy="405720"/>
            </a:xfrm>
          </p:grpSpPr>
          <p:sp>
            <p:nvSpPr>
              <p:cNvPr id="99" name=""/>
              <p:cNvSpPr/>
              <p:nvPr/>
            </p:nvSpPr>
            <p:spPr>
              <a:xfrm>
                <a:off x="548172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4544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896360" y="3762000"/>
              <a:ext cx="153360" cy="955800"/>
              <a:chOff x="4896360" y="3762000"/>
              <a:chExt cx="153360" cy="955800"/>
            </a:xfrm>
          </p:grpSpPr>
          <p:sp>
            <p:nvSpPr>
              <p:cNvPr id="102" name=""/>
              <p:cNvSpPr/>
              <p:nvPr/>
            </p:nvSpPr>
            <p:spPr>
              <a:xfrm>
                <a:off x="4896360" y="3762000"/>
                <a:ext cx="15336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73040" y="44035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117120" y="3781800"/>
              <a:ext cx="153000" cy="955800"/>
              <a:chOff x="6117120" y="3781800"/>
              <a:chExt cx="153000" cy="955800"/>
            </a:xfrm>
          </p:grpSpPr>
          <p:sp>
            <p:nvSpPr>
              <p:cNvPr id="105" name=""/>
              <p:cNvSpPr/>
              <p:nvPr/>
            </p:nvSpPr>
            <p:spPr>
              <a:xfrm>
                <a:off x="6117120" y="3781800"/>
                <a:ext cx="15300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193440" y="44233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943960" y="3781800"/>
              <a:ext cx="153360" cy="955800"/>
              <a:chOff x="5943960" y="3781800"/>
              <a:chExt cx="153360" cy="955800"/>
            </a:xfrm>
          </p:grpSpPr>
          <p:sp>
            <p:nvSpPr>
              <p:cNvPr id="108" name=""/>
              <p:cNvSpPr/>
              <p:nvPr/>
            </p:nvSpPr>
            <p:spPr>
              <a:xfrm>
                <a:off x="5943960" y="378180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20640" y="44233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784840" y="3787920"/>
              <a:ext cx="153000" cy="955800"/>
              <a:chOff x="5784840" y="3787920"/>
              <a:chExt cx="153000" cy="955800"/>
            </a:xfrm>
          </p:grpSpPr>
          <p:sp>
            <p:nvSpPr>
              <p:cNvPr id="111" name=""/>
              <p:cNvSpPr/>
              <p:nvPr/>
            </p:nvSpPr>
            <p:spPr>
              <a:xfrm>
                <a:off x="5784840" y="3787920"/>
                <a:ext cx="15300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61160" y="44294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618880" y="3767760"/>
              <a:ext cx="153360" cy="955800"/>
              <a:chOff x="5618880" y="3767760"/>
              <a:chExt cx="153360" cy="955800"/>
            </a:xfrm>
          </p:grpSpPr>
          <p:sp>
            <p:nvSpPr>
              <p:cNvPr id="114" name=""/>
              <p:cNvSpPr/>
              <p:nvPr/>
            </p:nvSpPr>
            <p:spPr>
              <a:xfrm>
                <a:off x="5618880" y="376776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95560" y="440928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581520" y="4320720"/>
              <a:ext cx="121680" cy="405720"/>
              <a:chOff x="6581520" y="4320720"/>
              <a:chExt cx="121680" cy="405720"/>
            </a:xfrm>
          </p:grpSpPr>
          <p:sp>
            <p:nvSpPr>
              <p:cNvPr id="117" name=""/>
              <p:cNvSpPr/>
              <p:nvPr/>
            </p:nvSpPr>
            <p:spPr>
              <a:xfrm>
                <a:off x="658152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64524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427800" y="4356360"/>
              <a:ext cx="121680" cy="366120"/>
              <a:chOff x="6427800" y="4356360"/>
              <a:chExt cx="121680" cy="366120"/>
            </a:xfrm>
          </p:grpSpPr>
          <p:sp>
            <p:nvSpPr>
              <p:cNvPr id="120" name=""/>
              <p:cNvSpPr/>
              <p:nvPr/>
            </p:nvSpPr>
            <p:spPr>
              <a:xfrm>
                <a:off x="6427800" y="4356360"/>
                <a:ext cx="121680" cy="289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91520" y="4646160"/>
                <a:ext cx="6480" cy="76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268680" y="4320720"/>
              <a:ext cx="121680" cy="405720"/>
              <a:chOff x="6268680" y="4320720"/>
              <a:chExt cx="121680" cy="405720"/>
            </a:xfrm>
          </p:grpSpPr>
          <p:sp>
            <p:nvSpPr>
              <p:cNvPr id="123" name=""/>
              <p:cNvSpPr/>
              <p:nvPr/>
            </p:nvSpPr>
            <p:spPr>
              <a:xfrm>
                <a:off x="626868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3240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702120" y="4320720"/>
              <a:ext cx="121680" cy="405720"/>
              <a:chOff x="6702120" y="4320720"/>
              <a:chExt cx="121680" cy="405720"/>
            </a:xfrm>
          </p:grpSpPr>
          <p:sp>
            <p:nvSpPr>
              <p:cNvPr id="126" name=""/>
              <p:cNvSpPr/>
              <p:nvPr/>
            </p:nvSpPr>
            <p:spPr>
              <a:xfrm>
                <a:off x="670212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76584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Relation between natural regeneration and developmental stage of forest st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ditions for natural regeneration match the developmental stage of particular forest stand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nd / 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seedlings and saplings cover 61 – 100 % of the area expected to be cove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ditions for natural regeneration don’t match the developmental stage of particular forest stands completely (gaps in a canopy, lowered density of stands)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nd / 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seedlings and saplings cover </a:t>
            </a: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11 – 60 %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the area expected to be covered (including premature canopy gap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ditions for natural regeneration don’t match the developmental stage of particular forest stands completely (gaps in a canopy, lowered density of stands)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nd / 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seedlings and saplings cover </a:t>
            </a: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1 – 10 %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the area expected to be covered (including premature canopy gap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ditions for natural regeneration are not expected (site is covered only by overmature stands) or there are conditions for natural regeneration, but for some reason the trees are not fert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4960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Large-diameter and biodiversity valuable trees</a:t>
            </a:r>
            <a:r>
              <a:rPr b="1" lang="en-GB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ntification of the minimal diameter and number of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absolut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iameter (&gt;... cm) vs. </a:t>
            </a: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rela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one generation older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??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m larger than main / final cr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ime difficulty: determination of a reasonable value of the above mentio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objective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ensure certain proportion of larger trees also in younger even-aged forest st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66"/>
                </a:solidFill>
                <a:latin typeface="Arial"/>
              </a:rPr>
              <a:t>Dead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ntification of the minimal diameter, length and number of tru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ameter has to be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olut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Negative infl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negative agents / factor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– list only, no impact on the overall F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forest heal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result of the combined influence of negative factors; indirect assessment based on visible tree da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broader environment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ze and isolation / fragmentation of th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tal length of border with "negative area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Forest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Mild damag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 no impact on tree physiologic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Medium damag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 short-term impact on tree physiologic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Significant damag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 long-term impact on tree physiologic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Fatal damag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ing in dieback or causing dieback within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Due consideration for damage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ne-side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No distinction between acute and chronic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Size and isolation of the 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inimal size of intact site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minimal total area of the site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Lack of objective criteria for the area qua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Contact with "negative areas"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nsively managed agricultural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tive surface quar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owing areas of</a:t>
            </a: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ndfalls and other damaged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gnorance of the interrelation between the site’s size and the length of border with negative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362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Assessment tables of particular habit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 it necessary to have a separated table for each particular habi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is the purpose of the t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ol for field offic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ol for software develop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 the requirement for tables to be "readable" or utmost br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ifferences between 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rge-scale vs. small-scale habi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le problem while compa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tural vs.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±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seminatur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habi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lso among forest habitats we can find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  <a:ea typeface="Arial"/>
              </a:rPr>
              <a:t>non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  <a:ea typeface="Arial"/>
              </a:rPr>
              <a:t>-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  <a:ea typeface="Arial"/>
              </a:rPr>
              <a:t>climax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ones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(for example 91N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nar vs. linear habitats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9130 or 91E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que habitats vs. habitats similar to neighbouring ones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for example in SR 91MO vs 91G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ecial case: </a:t>
            </a: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dwarf pine</a:t>
            </a: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Arial"/>
              </a:rPr>
              <a:t>(which is non forest habitat, but we assess dwarf pine as forest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Unforeseen problem: </a:t>
            </a:r>
            <a:br>
              <a:rPr sz="4000"/>
            </a:b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hat does habitat inclu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only valid: unfavourable habitat status = different habita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913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»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911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icators assessed depend on the site asse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Solut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habitat ex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earcuts or windfalls larger than 3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ruce, larch, etc. monocultures larger than 0,5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912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Approach chos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1049400"/>
          <a:ext cx="8229600" cy="5403960"/>
        </p:xfrm>
        <a:graphic>
          <a:graphicData uri="http://schemas.openxmlformats.org/drawingml/2006/table">
            <a:tbl>
              <a:tblPr/>
              <a:tblGrid>
                <a:gridCol w="3494160"/>
                <a:gridCol w="4735440"/>
              </a:tblGrid>
              <a:tr h="963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Basic data on forest habitat for the respective 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Present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area of forest habitat for the respective site</a:t>
                      </a: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; in S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Potential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area of forest habitat (based on site type units upon the tr</a:t>
                      </a: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a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nsformation of site types into habitat uni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sk-SK" sz="24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range</a:t>
                      </a: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of forest habitat according to biogeographical region in S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250920" y="333360"/>
          <a:ext cx="8642160" cy="6013440"/>
        </p:xfrm>
        <a:graphic>
          <a:graphicData uri="http://schemas.openxmlformats.org/drawingml/2006/table">
            <a:tbl>
              <a:tblPr/>
              <a:tblGrid>
                <a:gridCol w="720720"/>
                <a:gridCol w="1376280"/>
                <a:gridCol w="1636560"/>
                <a:gridCol w="1636920"/>
                <a:gridCol w="1635120"/>
                <a:gridCol w="1636560"/>
              </a:tblGrid>
              <a:tr h="335880">
                <a:tc gridSpan="2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riteria</a:t>
                      </a: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/ Indi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a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Favourable status</a:t>
                      </a: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Unfavourable 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3369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excel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g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redu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degra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15858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ypic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lspecies of habi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ree species compo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3. v.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.:  </a:t>
                      </a:r>
                      <a:r>
                        <a:rPr b="1" i="1" lang="sk-SK" sz="1400" spc="-1" strike="noStrike" u="sng">
                          <a:solidFill>
                            <a:srgbClr val="080808"/>
                          </a:solidFill>
                          <a:uFillTx/>
                          <a:latin typeface="Times New Roman"/>
                          <a:ea typeface="SimSun"/>
                        </a:rPr>
                        <a:t>Fagus sylvatica</a:t>
                      </a: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, Quercus petraea agg., Carpinus betulus,  Acer pseudoplatanus, Acer platanoides, Tilia cordata, Tilia platyphylos, Cerasus av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4. v.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.:  </a:t>
                      </a:r>
                      <a:r>
                        <a:rPr b="1" i="1" lang="sk-SK" sz="1400" spc="-1" strike="noStrike" u="sng">
                          <a:solidFill>
                            <a:srgbClr val="080808"/>
                          </a:solidFill>
                          <a:uFillTx/>
                          <a:latin typeface="Times New Roman"/>
                          <a:ea typeface="SimSun"/>
                        </a:rPr>
                        <a:t>Fagus sylvatica</a:t>
                      </a: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, Abies alba, Acer pseudoplatanus, Acer platanoides, Tilia cordata, Tilia platyphylos,  Cerasus av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5. a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nd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 6. v.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.:  </a:t>
                      </a:r>
                      <a:r>
                        <a:rPr b="1" i="1" lang="sk-SK" sz="1400" spc="-1" strike="noStrike" u="sng">
                          <a:solidFill>
                            <a:srgbClr val="080808"/>
                          </a:solidFill>
                          <a:uFillTx/>
                          <a:latin typeface="Times New Roman"/>
                          <a:ea typeface="SimSun"/>
                        </a:rPr>
                        <a:t>Fagus sylvatica</a:t>
                      </a:r>
                      <a:r>
                        <a:rPr b="1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, </a:t>
                      </a:r>
                      <a:r>
                        <a:rPr b="1" i="1" lang="sk-SK" sz="1400" spc="-1" strike="noStrike" u="sng">
                          <a:solidFill>
                            <a:srgbClr val="080808"/>
                          </a:solidFill>
                          <a:uFillTx/>
                          <a:latin typeface="Times New Roman"/>
                          <a:ea typeface="SimSun"/>
                        </a:rPr>
                        <a:t>Abies alba</a:t>
                      </a:r>
                      <a:r>
                        <a:rPr b="1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,</a:t>
                      </a: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Picea abies, Acer pseudoplatanus, Acer platanoides, Ulmus glabra, Fraxinus excelsior, Sorbus aucuparia,  Tilia cordata, Tilia platyphy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proximation to the model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occurence of invasive tree species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100 - 85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84 - 70 %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1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69 -5</a:t>
                      </a: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%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4 - 4</a:t>
                      </a: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0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-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Herb species and shru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dicators -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vasive species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5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 ; 25&gt;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5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5 ; 50)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 ; 25)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di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ators of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eutrofiz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Urtica dioica, Chelidonium majus, Sambucus nig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ccidic indicators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Avenella flexuosa, Vaccinium myrtillus, 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acid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ic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machy Pozn.: dominantný výskyt týchto druhov  mení zaradenie lokality do bioto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79280" y="779400"/>
          <a:ext cx="8713800" cy="5457960"/>
        </p:xfrm>
        <a:graphic>
          <a:graphicData uri="http://schemas.openxmlformats.org/drawingml/2006/table">
            <a:tbl>
              <a:tblPr/>
              <a:tblGrid>
                <a:gridCol w="1008000"/>
                <a:gridCol w="1297080"/>
                <a:gridCol w="1440000"/>
                <a:gridCol w="1655640"/>
                <a:gridCol w="1656000"/>
                <a:gridCol w="1657080"/>
              </a:tblGrid>
              <a:tr h="26514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Habitat 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ge structure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velopmental stages of natural forests or even-aged forests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polygóne prevažujú pralesy a prírodné lesy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polygóne prevažujú 5. ARS</a:t>
                      </a:r>
                      <a:r>
                        <a:rPr b="0" lang="sk-SK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[1]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a 4. ARS </a:t>
                      </a: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ebo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5. ARS  tvorí aspoň 1/3 ak sa jedná mozaiku aspoň dvoch ARS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0" lang="sk-SK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[1]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RS – agregovaný rastový stupeň (pozri Definície indikátorov FC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polygóne prevažujú 3. ARS, 2. ARS a , 1. ARS, pričom 5. ARS nesmie presahovať 1/3. V prípade, že prevažuje 1.ARS, musí byť prítomný ešte aspoň jeden ďalší ARS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ítomnosť len 1. ARS na celej ploche polygónu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atural regeneratio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of the tree spec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patial structure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(verti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al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, horizon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, structural patter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% lokality je tvorených dvoj- a viacvrstvovými porastmi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% lokality je tvorených mozaikou jednovrstvových porastov, v ktorej výmera jedného štrukturálneho prvku je prevažne do 5 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% lokality je tvorených mozaikou jednovrstvových porastov, v ktorej výmera štrukturálneho prvku a je prevažne 5,01 - 50 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79280" y="333360"/>
          <a:ext cx="8713800" cy="5111640"/>
        </p:xfrm>
        <a:graphic>
          <a:graphicData uri="http://schemas.openxmlformats.org/drawingml/2006/table">
            <a:tbl>
              <a:tblPr/>
              <a:tblGrid>
                <a:gridCol w="1079640"/>
                <a:gridCol w="1144440"/>
                <a:gridCol w="1622520"/>
                <a:gridCol w="1622520"/>
                <a:gridCol w="1622520"/>
                <a:gridCol w="1622160"/>
              </a:tblGrid>
              <a:tr h="100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ge-diameter 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  valuable tre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ks /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4 ks /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– 9 ks / 10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3 ks / 10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ge-diameter deadw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ks /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ly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erent degree decomposition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– 3 ks /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ly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erent degree decompos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ks /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1 ks / 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gat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ve</a:t>
                      </a: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fl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gat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ve</a:t>
                      </a: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fa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or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issions, nekrózy buka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pastures, zver (odhryz, obhryz), dry soil conditions, mechanical disturbance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Health 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5 % nad prirodzený výskyt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– 10 % nad prirodzený výskyt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% a viac nad prirodzený výskyt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 obmedzeni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Broader environ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verage of habitat in 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of disturb boa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0 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 00 – 49,99 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30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0 – 29, 99 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- 60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5,00 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60 %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Overall assessment of F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thod of "the weakest link in the chain" vs. method "weighted averag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r solution: rather complicated weighted average with variable weights for each indicator and "stat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weights have not been tested in practice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24000" y="260280"/>
          <a:ext cx="8496000" cy="6243840"/>
        </p:xfrm>
        <a:graphic>
          <a:graphicData uri="http://schemas.openxmlformats.org/drawingml/2006/table">
            <a:tbl>
              <a:tblPr/>
              <a:tblGrid>
                <a:gridCol w="1295280"/>
                <a:gridCol w="990720"/>
                <a:gridCol w="1355400"/>
                <a:gridCol w="970200"/>
                <a:gridCol w="971640"/>
                <a:gridCol w="971280"/>
                <a:gridCol w="970200"/>
                <a:gridCol w="971280"/>
              </a:tblGrid>
              <a:tr h="375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Criter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Weight of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a criter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Weight of an 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State of habit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Q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Typical habitat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Tree species compo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Herbs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&amp;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shru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3733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Forest habitat 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Age 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3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Regen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Spatial 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60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Large-diameter tre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5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deadw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61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Negative influ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Heal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3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BE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ition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es and minuses can compensate one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es and minuses can compensate one another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gorithm is difficult to understand or even to compare with othe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age of „triple weights": two "official" weights and limits used in each particular indicator =&gt; certain unclea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fficult calculation and reasoning of we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24000" y="404640"/>
          <a:ext cx="8496000" cy="6258240"/>
        </p:xfrm>
        <a:graphic>
          <a:graphicData uri="http://schemas.openxmlformats.org/drawingml/2006/table">
            <a:tbl>
              <a:tblPr/>
              <a:tblGrid>
                <a:gridCol w="396720"/>
                <a:gridCol w="3209760"/>
                <a:gridCol w="4889520"/>
              </a:tblGrid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Criteria (FC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Indicators (FC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Typical habitat spe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Tree species composition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(degree of approximation to the model and occurrence  of invasive tree speci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Herb &amp; shrub spe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Forest habitat 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Age structur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(developmental stages of natural forests or even-aged forests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Natural regeneration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Spatial structur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(vertical, horizontal, structural patter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large-diameter and biodiversity valuable tree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large-diameter deadw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Negative influenc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Negative factors / agen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Forest health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(as a result of negative factors impa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Broader enviro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ear definitions are needed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Terms employ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tree layer, growth class, natural regeneration,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Quantifiers, measurement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Form of recor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e.g. using mathematical symbols, descriptio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ree species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Degree of approximation to the mode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%) given for each particular habitat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9410: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pru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50–100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ycamore mapl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10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orbus aucupar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Occurrence of invasive tree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east controversial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fficient knowledge on the natural tree species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licated &amp; uncle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ak argumentation on the approximation degrees required (e.g. "what is the relevance of 30 %?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ability to assess gene pool natura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ability to identify the tree species behind th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rb &amp; shrub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ce of a larger number of species, more complicated fiel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treme difficultness of exact invest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erb layer composition is determined by the tre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st significant changes are: onset of invasive or expansive species, indicators of acidification and eutrophication, ruderal speci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imple list of herbs on sites with cover by Tansley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Herb &amp; shrub spec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pl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flection of most distinct change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ability to reflect reduction of biodiversity provided natural species are not replaced by the aforementioned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e-sided decision on the naturalness of certain species (e.g.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Urtica dioic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cc66"/>
                </a:solidFill>
                <a:latin typeface="Arial"/>
              </a:rPr>
              <a:t>S</a:t>
            </a: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mbiguity of the term "structure" (arrangement  of components / parts or interactions /processes within any higher hierarchical un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Our approach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structure limited to spatial structure of forest habitats and their groups only (age structure, structural patte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clear importance of  spatial structure for the assessment of F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patial structure of forest </a:t>
            </a:r>
            <a:r>
              <a:rPr b="0" lang="sk-SK" sz="3600" spc="-1" strike="noStrike">
                <a:solidFill>
                  <a:srgbClr val="ffcc66"/>
                </a:solidFill>
                <a:latin typeface="Arial"/>
              </a:rPr>
              <a:t>habitat</a:t>
            </a: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 and / or their group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96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rizontal structure (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siz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nd distribution of structural un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ertical structure (multi-layeredness of forest stands)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≈ function of  tree age =&gt; ag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lose affinity of both structu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Vertical diversity of natural forests has in managed forests been to a certain degree replaced by the mosaic of even-aged st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06:23:13Z</dcterms:created>
  <dc:creator>Matej Schwarz</dc:creator>
  <dc:description/>
  <dc:language>en-US</dc:language>
  <cp:lastModifiedBy>ŠOP SR</cp:lastModifiedBy>
  <dcterms:modified xsi:type="dcterms:W3CDTF">2004-08-16T14:33:51Z</dcterms:modified>
  <cp:revision>95</cp:revision>
  <dc:subject/>
  <dc:title>Zastúpenie jaseňa v lesných porastoch Slovenska</dc:title>
</cp:coreProperties>
</file>