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A54-60A2-4CF2-AB72-846D27A4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B16-6F4F-4AE3-A038-F0B372B3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7F9-9444-4E7C-803E-7936897A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141-8148-4D00-BBE4-E85BE582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611-15C2-4D15-95D9-4677056E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8E7-5530-46B3-A37A-8526D866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491-68EF-42B4-86D1-0DF289AA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5B0-333E-405D-87C6-E9F7206D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35A-CA3E-4C86-8CB6-E89BD4E8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D9A-D0AD-4608-8459-826D5A6B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E59-B593-40C7-B91D-009BE4E5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B92-0D0A-4238-A3CE-788CD334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34C2-364A-422C-A37A-D2DA276C0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erajšie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asné spôsoby mapovania lesných biotopov na Slovensku</a:t>
            </a:r>
            <a:br>
              <a:rPr sz="2000"/>
            </a:b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odnotiaca správa k bodu 3.1 programu aktivít NATURA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– lesné biotopy)</a:t>
            </a:r>
            <a:br>
              <a:rPr sz="1600"/>
            </a:b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ávu vypracoval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Ing. Š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melko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rSc. (EFRA Zvolen), Ing. I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man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esoprojekt  Zvolen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. P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ák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ŠOP Banská Bystrica), Ing. J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kovič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c. (LVÚ Zvo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uj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akteristi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istujúcich databáz o lesoch SR vrátane spôsobov ich získav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s metodického postupu spracovania základných údajov o lesných biotopoch pre potreby NATUR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denie možností využitia existujúcich databáz a náčrt konceptu monitorovania lesných biotopov v rámci NATURA 2000/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oncept monitorovania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bioto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dnotiť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ridelením kvalitatívnej kategórie (známky) A, B, C, D osobitne pre každé kritérium a indiká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súhrnné zhodnotenie stavu biotopu podľa čiastkových hodnotení jednotlivých kritérií a indikátorov použiť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číselné kvantifikátor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, ktoré zohľadnia rozdielnu váhu kritérií a indikátorov 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ýsledný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ový stavy biotopu A,B,C,D vyjadria jednou číselnou hodnotou  (napr. 87 %), ktorá udá stupeň relatívneho priblíženia sa konkrétneho biotopu k "optimu" (k najpriaznivejšiemu 100 % stav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kový stav biotopu k danému časovému okamžiku charakterizovať jeho výmerou, kvalitovou kategóriou a číselným kvantifkátorom, pri biotopoch zložených z viacerých lokalít alebo častí aj relatívnym zastúpením resp. variabilitou uvedených ukazovateľov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enu stavu biotopu medzi dvomi periodickými zisťovaniami vyjadriť diferenciou uvedených ukazovateľov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 hodnotení stavu biotopu a jeho zmeny uplatniť biometrické princípy monitorovania (zohľadniť vypovedaciu hodnotu – mieru presnosti zistenia charakteristík pre jeden i druhý stav aj pre jeho diferenciu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á charakteristika existujúcich databáz o lesoc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átane spôsobov  ich získavania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súčasnosti sú k dispozícii viaceré databázy o lesoch Slovenska, z ktorých pre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u NATURA 2000 má potencionálne najväčší význam nasledovných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äť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odársko-úpravnícke zisťovanie stavu l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sťovania v rámci prieskumov prírodných pomerov – prieskum ekológie l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zdravotného stavu lesov SR v sieti 16 x 16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exnejší monitoring stavu lesov SR v sieti 4 x 4 k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Ďalšie databázy o lesných ekosystémoch – výstupy z vedeckých projekt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Hospodársko-úpravnícke zisťovanie sta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a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najpodrobnejším zisťovaním a vykonáva ho Lesoprojekt na celom lesnom pôdnom fonde SR opakovane v 10-ročných intervaloch (každoročne na 1/10 celkovej výmery) v rámci pravidelných obnov lesných hospodárskych plánov (LH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om je rozčlenenie lesa na tzv. JPRL (jednotky priestorového rozdelenia lesa), ktorými sú dielce, čiastkové plochy, porastové skupiny, resp. etáže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(ich celkový počet je cca 400 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každej z týchto jednotiek sa zisťuje celý rad veličín charakterizujúcich stanovište, celkový stav porastu, jeho  kvalitatívne a kvantitatívne parametre i jeho potencionálne funkcie a na základe komplexného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súdenia sa odvodzuje plán (predpis) hospodárskych opatrení na najbližšie decén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itný význam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re Natura 2000 m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ú súhrnné výstupy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č. už  digitalizovan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orastové mapy (v mierke 1:10000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áza LHP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(opis stavu porastov, plán manažmentu).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    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cované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ú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nou metodikou pre všetky lesy SR a tvoria dlhod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ob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ý (vývojový) ra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RL sú via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odárskym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pr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ými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kami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íslušné veličiny sú charakterizované prevažne iba priemernou al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álnou hodnotou vzťahujúcou sa na celú výmeru danej JPRL, b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obnejšej vnútornej diferenciá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kum ekológie lesa</a:t>
            </a:r>
            <a:br>
              <a:rPr sz="24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konáva ho Lesoprojekt spravidla v ročnom predstihu pr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ovou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adväzuje na v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obecný stanovištný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obný typologický prieskum,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jeho revíziu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aktualizáci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Realizuje sa zisťovaním množstva údajov ekologického charakter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 JPRL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, celoplošne alebo výberovo (v sieti 2x2 až 1x1 km alebo zámerným výberom JPRL)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Výsledkom j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rozdelenie lesa na stanovištné jednotky lesníckej typológie („Zlatníkova škola“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– lesný typ, typ pôvodnej prírodnej biogeocenózy a všetkých od nej vývojo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chádzajúcich (je ich 479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LT – skupina lesných typov, združuje ekologicky podobné L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SLT- hospodársky súbor LT, združuje hospodársky podobné LT (187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mapa lesných typov a mapa pôdnych typov v mierke 1: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ekologické hodnotenie JPRL (kategorizácia lesa, stp.poškodenia,stp.ohrozeni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ekologická stabilita ai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modely hospodárenia v lese (pre skupiny porastových typo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    - prieskum pokrýva takmer všetky lesy SR,  - typologické mapy sa priebežne digitalizujú, - prirodzenosť TJ a ich jednoznačná väzba k prirodzenému drevinovému zloženiu bez ohľadu na súčasný stav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- hranice JPRL a LT sa vzájomne nekryjú, v jednej JPRL sa často vyskytuje vi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ypologických jednotiek (v databáze LHP sa uvádzajú iba 3 najzastúpenejši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rel. malá presnosť typologických máp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nekompatibilita TJ sl.lesníckej typológie a NATURA 2000 (C-M systé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Monitoring zdravotného stavu lesov SR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sieti 16 x 16 k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aplikáciou medzinárodného programu hodnotenia vplyvu znečisteného ovzdušia na zdravotný stav lesa (ICP Forests) v podmienkach Sloven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áva ho LVÚ Zvolen každoročne od roku 198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celom lesnom fonde SR v porastoch starších ako 40 ro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uje sa výberovým spôsobom na 111 trvalých monitorovacích pl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ác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M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) v odstupoch 16x16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40 úrovňových a nadúrovňových stromoc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í depigmentácia a strata asimilačných orgánov (SAO) a zisťujú sa aj ďalšie stromové a porastové veličin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5-ročných intervaloch sa odoberajú vzorky asimilačných orgánov a vzorky pôdy na podrobný laboratórny rozbor imisnej záťaž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upom je databáza o zdravotnom stave lesov, ktorá obsahuje relatívne podiely stromov  (N</a:t>
            </a:r>
            <a:r>
              <a:rPr b="0" lang="sk-SK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) v stupňoch poškodenia 0, 1, 2, 3, 4 a priemernú defoliáciu (SAO%) v členení podľa dreví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potreby NATURA 2000 majú tieto celoslovenské  výsledky iba informatívny charakter,  pre biotopy väčšej rozlohy môžu  však bodové údaje z  TMP patriacich k danému biotopu poskytnúť veľmi dobrý objektívny podklad  pre odvodenie ich imis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ého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škodenia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.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exnejší monitoring stavu lesov S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sieti 4 x 4 km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snahou o podrobnejšie podchytenie stavu lesa priamym zisťovaním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pravidelných 10 ročných intervalo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ú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tapu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val Lesoprojekt Zvolen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r. 1993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1192 TM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vo všetkých lesoch SR, so zameraním nielen na zdravotný ale  aj na hospodársky stav lesa, potom sa 1/10 siete využívala na každoročný prieskum ekológie l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ruhá etapa sa pripravuje od r. 2004 ak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ý projekt integrovanej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arizácie zameranej n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ľmi široké spektrum informácií (o produkcii, vnútornej štruktúre, kvalite, hodnote, regenerácii lesa, o zdravotnom stave, poškodení, ekológii, biodiverzite,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podáre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dľa princípu trvalo udržateľného rozvoja,  bilanc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hlíkových zásob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les. ekosystém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zisťovaného informačného spektra budú zakomponované aj tie kritériá a indikátory, ktoré sú potrebné pre hodnotenie priaznivého stavu chránených území zaradených do sústavy NATURA 200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. Ďalšie databázy o lesných ekosystémoch – výstup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 vedeckých projektov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 úrovni celej SR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ú z hľadiska projektu NATURA 2000 zaujímavé najmä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lasifikácia lesných plôc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kozmických záznamov Landsat TM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a drevinového zloženia lesov v digitálnej for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a z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dravot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éh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sta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lesných porasto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 jeho 10-ročného vývoj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  regionálnej úrovn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ú to  napr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ogická stabilita lesných spoločenstiev Nízkych Tatier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exný výskum horských les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odnotenie stavu biodiverzity lesných spoločenstie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modelov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územ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dlhodobé 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ýskumy štruktúr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vývoja prírodných lesov a praleso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obné výskumy v CHKO, v BR Poľana,  v TANAPE 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ch výhodou j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ž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 veľmi podrobné, podchycujú veľký počet veličín charakterizujúc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exn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čšinu zložie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ného ekosystému, vo vzájomn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vislostiach a v dlhšom časovom sle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ískané sú precíznymi metodickými postupmi, dobre sú zdokumentované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äčš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kované 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erne ľahko dostupné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etodický postup spracovania základných údajov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lesných biotopoch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potreby NATURA 2000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od jednotiek lesníckej typológie do jednotiek národnej klasifikácie biotop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výstupy: prevodový kľúč (Katalóg biotopov Slovenska, str. 130-172),  potencionálna mapa a databáza lesných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rčenie stupňa prirodzenost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evinového zloženia lesných porast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pomocou porovnania ich skutočného stavu s „ideálnym modelom porastu“, stupne 1-4 charakterizované prirodzenosťou DZ% a zastúpením hlavných drevín %,                     stp. 4 má obidve kritériá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ytvorenie modelov prirodzeného drevinového zloženia na báze existujúcich modelov cieľového drevinového zloženia, ktoré sú vypracované pre HSLT v jednotlivých lesných oblast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yčlenenie území európskeho významu, uvažovalo sa iba s porastami so SPDZ 1-3, prioritu mali porasty so SPDZ 1 a so 100% pokryvnosťou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</a:rPr>
              <a:t>Výhod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:     Pomerne dobré využitie časti existujúcich lesníckych databá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</a:rPr>
              <a:t>Nevýhod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: Platnosť výstupov obmedzená, iba ako všeobecná a pre celoslovenskú úroveň, riziko možných odchýlok od skutočnosti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ožnosti využitia existujúcich databáz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áčrt konceptu monitorovania lesných biotopov v rámci NATURA 2000/S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onitorovanie lesných biotopov obsahuje tri nadväzujúce etap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ovanie, vymedzenie hraníc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hodnotenie stavu biotopu podľa dohodnutých kritérií a indikátor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porovnávanie zistených stavov biotopu vo zvolených časových interval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otencionálne využitie existujúcich databáz je veľmi veľké, stále sa zdokonaľujú a aktualizujú, digitalizácia informačných vrstiev vrátane leteckých a kozmických obrazových záznamov umožňuje ich vhodné vzájomné prekrývanie a získanie chýbajúcich informácií aj o priestorovom rozmiestnení prvkov vnútornej štruktúry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Koncept monitorovania predpokladá nasledovný metodický postu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ovanie 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enie realizovať kombinovanou metódou: časť údaj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ziať z  už existujúcich zdrojov a  priamym zisťovaním a meraní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teréne ich spresniť  a d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plniť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me zisťovanie uskutočniť v závislosti od veľkosti biotopu: zaužívaný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upmi (celoplošne, pochôdzkou) alebo vhodným výberovým spôsob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delne rozmiestnených bodoch, skusných plochách, líniác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páso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bioto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dnotiť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jeh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radením do kategórie A, B C, D podľa kritérií a indikátor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58:14Z</dcterms:created>
  <dc:creator>soonyi</dc:creator>
  <dc:description/>
  <dc:language>en-US</dc:language>
  <cp:lastModifiedBy>Guziova</cp:lastModifiedBy>
  <dcterms:modified xsi:type="dcterms:W3CDTF">2004-06-14T19:10:23Z</dcterms:modified>
  <cp:revision>28</cp:revision>
  <dc:subject/>
  <dc:title>Doterajšie a súčasné spôsoby mapovania lesných biotopov na Slovensku (Hodnotiaca správa k bodu 3.1 programu aktivít NATURA 2000 – lesné biotopy)   </dc:title>
</cp:coreProperties>
</file>