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5E5-A5EA-4D45-8A9A-B0A1F810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270-3A1E-43B5-9662-D52BF595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765-63C0-4C1D-9DD7-08FEBEC8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9D3-311D-47FC-831B-4873F6ED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FC3-79C0-4083-9DD5-8288907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6F5-BD13-4226-9A89-2070884D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06E-31C8-4EF0-9764-A1C2B7B7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0BA-A07E-4362-A136-8E16EA9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629-BB3C-4859-BC7B-A176AEF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795-1E47-4C23-A3A8-4A0348F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DEC-8E4A-4776-9663-F9A384B7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C62-22F2-4CFD-B458-DD25A23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F986-5F4A-4D78-995B-D4027DEB7F6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Izolova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pulácia (takmer) izolovan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zolovaná populácia, ale na okrajoch areálu rozšírenia (marginál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eizolovaná populácia v rámci zväčšeného areálu rozšírenia (rozšíre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elkov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dostaču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mernica Rady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/409/EHS o ochrane voľne žijúc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budú podporovať výskum a akúkoľvek činnosť požadovanú ako základ pre ochranu, manažment a využívanie populácií všetkých druhov vtákov uvedených v článku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vláštna pozornosť bude venovaná výskumu a činnostiam zameraným na predmety uvedené v prílohe V. Členské štáty dodajú Komisii všetky informácie potrebné na to, aby mohla prijať adekvátne opatrenia na koordináciu výskumu a činností uvedených v tomto člán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postúpia Komisii každé tri roky správu o implementácii opatrení prijatých v jednotlivých štátoch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íloha V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rodné zoznamy druhov, ktorým hrozí vyhynutie alebo zvlášť ohrozených druhov s ohľadom na ich zemepisné rozšír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a ekologický opis oblastí, ktoré sú zvlášť dôležité pre sťahovavé druhy na ich migračných trasách a ako zimoviská a hniezdisk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údajov o početnosti populácií sťahovavých druhov na základe výsledkov ich krúžkov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vplyvu metód odchytu voľne žijúceho vtáctva na početnosť ich populá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alebo zdokonalenie ekologických metód prevencie škôd spôsobených vták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niektorých druhov ako indikátorov znečist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údium nepriaznivých účinkov chemického znečistenia na početnosť populácií vtáčích druh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princípoch, kritériách a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ovať FCS druhu vo vzťahu k jeho biotopu a prostrednictvom neho (dostatok vhodných biotopov 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rčenie váhy jednotlivých parametrov (napr.1-10) 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dri skup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eter Kaň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ákladné okruhy problé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o je priaznivý stav živočíšneho druh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 čoho priaznivý stav živočíšneho druhu vyplý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ké charakteristiky musí definovanie priaznivého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živočíšneho druhu obsahovať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 žijúcich živočíc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ľne rastúcich rastlí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nnosťou členských štátov je definovať a zabezpečiť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dru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ov v súlade so Smernic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druhu z hľadiska ochrany prírody sa bude považovať za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ke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ho druhu naznačujú, že sa dlhodob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uje ako  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rozšírenia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 pravdepodobne sa ani v dohľadnej d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ude   zmenšovať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 pravdepodobne aj bude existovať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 jeho populá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543/2002 Z.z. o ochrane prírody a kraji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 Priaznivý stav druhu, priaznivý stav biotopu a priaznivý stav časti kraj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Za priaznivý stav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hľadiska jeho ochrany (ďalej len „priaznivý stav druhu “) sa považuje taký stav, ke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daje o populačnej dynamik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u naznačujú, že sa dlhodobo udržuje ako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uje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ho populá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 Súvislá európska sústava chránených ú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. 1: „.....cieľom súvislej európskej sústavy chránených území je zachova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európskeho významu a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Rady 92/43/EHS z 21. mája 1992 o ochrane biotopov, voľne žijúcich živočíchov a voľne rastúcich rastlí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Rady 79/409/EHS z 2. apríla 1979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žijúcich vtákov 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oznamy druhov pre definovanie priaznivého st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Invertebrat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Pisc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mphib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Repti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Mamma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v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júcich živočíchov a voľne rastúcich rastl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 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eál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íslušného dru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topo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a dlhodobé zachovanie populá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Údaje o populá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Relatívna počet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  10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   15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     2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odstatný výsk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a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priemerná alebo znížen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eň zachovania vlastností daného biotopu dôležitých pre určité dru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ti obno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opsr.saxa</cp:lastModifiedBy>
  <dcterms:modified xsi:type="dcterms:W3CDTF">2004-02-02T07:21:10Z</dcterms:modified>
  <cp:revision>8</cp:revision>
  <dc:subject/>
  <dc:title>DEFINOVANIE PRIAZNIVÉHO STAVU ŽIVOČÍŠNYCH DRUHOV </dc:title>
</cp:coreProperties>
</file>