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6228A-08F2-4F69-ABF4-BD589F1C1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781C2-985F-408F-8597-932D985C4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C96C1-4284-4ECF-A307-231F30804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6308C-0380-4CA3-AB44-772DBD25E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5494AF-71CD-4971-A128-6689180D690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3A6157-2048-4BEE-B686-4F8E3F739C9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7B7FCB-E7A2-4167-92B5-16D147E74FF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FD1544-9BB5-4354-9A6B-63110154B7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3E8EC6-8659-462D-8C25-A60BB102D1A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CCD6ED-404C-4B19-9110-D0D85F6D0D5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5C87CE-F864-4970-BDD3-F7968A83F0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F553C-3F31-4F40-9ECC-F47F196A1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735D1C-2C21-4E9A-94D2-5DA7E27BA6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A8AEDE-5F07-4AE5-9DE8-DBC0E0C66C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3B097B-D6F0-4EDC-A4F5-C3F00AA91E9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78032B-622C-49BC-9C4B-5F49472EB2F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CC944A-35D3-4424-86D0-04561F56D8C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1F0E6-2D34-4286-AAD1-BF7C96702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2359D-3D82-4E50-8360-417D86F01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92A06-D088-4C7E-A001-2CC328AA8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28CA4-D8E1-4103-9D3C-3E1FF305B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6FF24-8AC0-4CE0-9E47-11A44EF7E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3FA01-21B9-40EB-8808-2F147A743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8A32B-6BEB-4112-A744-F679B88C9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1249F-7201-4CC4-A7E6-01182BEAEF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2F74-15B5-47F2-B6AD-E8DAE883A7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hyperlink" Target="http://www.sopsr.sk/natura/?p=6&amp;sec=5&amp;kod=SKUEV0151" TargetMode="External"/><Relationship Id="rId5" Type="http://schemas.openxmlformats.org/officeDocument/2006/relationships/hyperlink" Target="http://www.sopsr.sk/natura/?p=6&amp;sec=5&amp;kod=SKUEV0151"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116000" y="1442880"/>
            <a:ext cx="6767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oncept monitoringu pre  európsky významné druhy  živočíchov </a:t>
            </a:r>
            <a:endParaRPr b="0" lang="en-US" sz="3200" spc="-1" strike="noStrike">
              <a:solidFill>
                <a:srgbClr val="ffffff"/>
              </a:solidFill>
              <a:latin typeface="Arial"/>
            </a:endParaRPr>
          </a:p>
        </p:txBody>
      </p:sp>
      <p:sp>
        <p:nvSpPr>
          <p:cNvPr id="84" name=""/>
          <p:cNvSpPr/>
          <p:nvPr/>
        </p:nvSpPr>
        <p:spPr>
          <a:xfrm>
            <a:off x="2690640" y="3789360"/>
            <a:ext cx="3570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Roman Rajtar, Andrej Sax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Štátna ochrana prírody S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Centrum Natura 2000</a:t>
            </a:r>
            <a:endParaRPr b="0" lang="en-US" sz="2000" spc="-1" strike="noStrike">
              <a:solidFill>
                <a:srgbClr val="ffffff"/>
              </a:solidFill>
              <a:latin typeface="Arial"/>
            </a:endParaRPr>
          </a:p>
        </p:txBody>
      </p:sp>
      <p:pic>
        <p:nvPicPr>
          <p:cNvPr id="85" name="" descr=""/>
          <p:cNvPicPr/>
          <p:nvPr/>
        </p:nvPicPr>
        <p:blipFill>
          <a:blip r:embed="rId2"/>
          <a:stretch/>
        </p:blipFill>
        <p:spPr>
          <a:xfrm>
            <a:off x="7308720" y="5326200"/>
            <a:ext cx="1222560" cy="101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3750840" y="549360"/>
            <a:ext cx="141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KDE ?</a:t>
            </a:r>
            <a:endParaRPr b="0" lang="en-US" sz="3600" spc="-1" strike="noStrike">
              <a:solidFill>
                <a:srgbClr val="ffffff"/>
              </a:solidFill>
              <a:latin typeface="Arial"/>
            </a:endParaRPr>
          </a:p>
        </p:txBody>
      </p:sp>
      <p:sp>
        <p:nvSpPr>
          <p:cNvPr id="104" name=""/>
          <p:cNvSpPr/>
          <p:nvPr/>
        </p:nvSpPr>
        <p:spPr>
          <a:xfrm>
            <a:off x="879480" y="1787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268200" y="1268280"/>
            <a:ext cx="8696520" cy="6083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 </a:t>
            </a:r>
            <a:r>
              <a:rPr b="0" lang="sk-SK" sz="2800" spc="-1" strike="noStrike">
                <a:solidFill>
                  <a:srgbClr val="000000"/>
                </a:solidFill>
                <a:latin typeface="Tahoma"/>
              </a:rPr>
              <a:t>výber TMP odborníkmi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ak je to možné aspoň 75 % TMP v územiach N200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u="sng">
                <a:solidFill>
                  <a:srgbClr val="000000"/>
                </a:solidFill>
                <a:uFillTx/>
                <a:latin typeface="Tahoma"/>
              </a:rPr>
              <a:t>Odpoveď:</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Pre optimálne rozmiestnenie TMP bude použitý stratifikovaný výber s použitím základných kritéri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biogeografický reg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pokrytie biotopov Slovensk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územie Natura 20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reprezentatívnosť, </a:t>
            </a:r>
            <a:endParaRPr b="0" lang="en-US" sz="24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dostupnosť mapovateľov, at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Monitoring bude teda orientovaný len do tých typov biotopov, kde je predpoklad prirodzeného výskytu druhu (napr. pre </a:t>
            </a:r>
            <a:r>
              <a:rPr b="0" i="1" lang="sk-SK" sz="2000" spc="-1" strike="noStrike">
                <a:solidFill>
                  <a:srgbClr val="000000"/>
                </a:solidFill>
                <a:latin typeface="Tahoma"/>
              </a:rPr>
              <a:t>Vertigo angustior</a:t>
            </a:r>
            <a:r>
              <a:rPr b="0" lang="sk-SK" sz="2000" spc="-1" strike="noStrike">
                <a:solidFill>
                  <a:srgbClr val="000000"/>
                </a:solidFill>
                <a:latin typeface="Tahoma"/>
              </a:rPr>
              <a:t> to budú mokrade, zamokrené lúky a rašeliniská, pre </a:t>
            </a:r>
            <a:r>
              <a:rPr b="0" i="1" lang="sk-SK" sz="2000" spc="-1" strike="noStrike">
                <a:solidFill>
                  <a:srgbClr val="000000"/>
                </a:solidFill>
                <a:latin typeface="Tahoma"/>
              </a:rPr>
              <a:t>Lutra lutra</a:t>
            </a:r>
            <a:r>
              <a:rPr b="0" lang="sk-SK" sz="2000" spc="-1" strike="noStrike">
                <a:solidFill>
                  <a:srgbClr val="000000"/>
                </a:solidFill>
                <a:latin typeface="Tahoma"/>
              </a:rPr>
              <a:t> vodné toky, pre </a:t>
            </a:r>
            <a:r>
              <a:rPr b="0" i="1" lang="sk-SK" sz="2000" spc="-1" strike="noStrike">
                <a:solidFill>
                  <a:srgbClr val="000000"/>
                </a:solidFill>
                <a:latin typeface="Tahoma"/>
              </a:rPr>
              <a:t>Canis lupus</a:t>
            </a:r>
            <a:r>
              <a:rPr b="0" lang="sk-SK" sz="2000" spc="-1" strike="noStrike">
                <a:solidFill>
                  <a:srgbClr val="000000"/>
                </a:solidFill>
                <a:latin typeface="Tahoma"/>
              </a:rPr>
              <a:t> lesné porasty at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2905920" y="549360"/>
            <a:ext cx="3106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KO ČASTO ?</a:t>
            </a:r>
            <a:endParaRPr b="0" lang="en-US" sz="3600" spc="-1" strike="noStrike">
              <a:solidFill>
                <a:srgbClr val="ffffff"/>
              </a:solidFill>
              <a:latin typeface="Arial"/>
            </a:endParaRPr>
          </a:p>
        </p:txBody>
      </p:sp>
      <p:sp>
        <p:nvSpPr>
          <p:cNvPr id="107" name=""/>
          <p:cNvSpPr/>
          <p:nvPr/>
        </p:nvSpPr>
        <p:spPr>
          <a:xfrm>
            <a:off x="879480" y="1787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268200" y="1268280"/>
            <a:ext cx="869652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 </a:t>
            </a:r>
            <a:r>
              <a:rPr b="0" lang="sk-SK" sz="2800" spc="-1" strike="noStrike">
                <a:solidFill>
                  <a:srgbClr val="000000"/>
                </a:solidFill>
                <a:latin typeface="Tahoma"/>
              </a:rPr>
              <a:t>frekvencia monitoringu druhu</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u="sng">
                <a:solidFill>
                  <a:srgbClr val="000000"/>
                </a:solidFill>
                <a:uFillTx/>
                <a:latin typeface="Tahoma"/>
              </a:rPr>
              <a:t>Odpoveď:</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ahoma"/>
              </a:rPr>
              <a:t>Stanovená bude pre každý druh samostatne v závislosti od jeho ekológie a frekvencie reportingu E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V rámci 3-ročného intervalu pre vtáky a 6-ročného pre ostatné živočíšne druhy EV je stanovené, či sa bude daný druh monitorovať:</a:t>
            </a:r>
            <a:endParaRPr b="0" lang="en-US" sz="20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 </a:t>
            </a:r>
            <a:r>
              <a:rPr b="0" lang="sk-SK" sz="2000" spc="-1" strike="noStrike">
                <a:solidFill>
                  <a:srgbClr val="000000"/>
                </a:solidFill>
                <a:latin typeface="Tahoma"/>
              </a:rPr>
              <a:t>každoročne, </a:t>
            </a:r>
            <a:endParaRPr b="0" lang="en-US" sz="20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 </a:t>
            </a:r>
            <a:r>
              <a:rPr b="0" lang="sk-SK" sz="2000" spc="-1" strike="noStrike">
                <a:solidFill>
                  <a:srgbClr val="000000"/>
                </a:solidFill>
                <a:latin typeface="Tahoma"/>
              </a:rPr>
              <a:t>raz za 2 roky, </a:t>
            </a:r>
            <a:endParaRPr b="0" lang="en-US" sz="20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 </a:t>
            </a:r>
            <a:r>
              <a:rPr b="0" lang="sk-SK" sz="2000" spc="-1" strike="noStrike">
                <a:solidFill>
                  <a:srgbClr val="000000"/>
                </a:solidFill>
                <a:latin typeface="Tahoma"/>
              </a:rPr>
              <a:t>raz za 3 roky alebo </a:t>
            </a:r>
            <a:endParaRPr b="0" lang="en-US" sz="20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 </a:t>
            </a:r>
            <a:r>
              <a:rPr b="0" lang="sk-SK" sz="2000" spc="-1" strike="noStrike">
                <a:solidFill>
                  <a:srgbClr val="000000"/>
                </a:solidFill>
                <a:latin typeface="Tahoma"/>
              </a:rPr>
              <a:t>raz za 6 rokov.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Na základe zvolenej frekvencie monitoringu a jeho časového rozsahu, bude vytvorený harmonogram monitoringu jednotlivých druhov počas 6-ročného, resp. 3-ročného obdobi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879480" y="852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38200" y="836640"/>
            <a:ext cx="81374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Frekvencia monitoringu závisí o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citlivosti a zraniteľnosti populácie druhu na vonkajši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zmen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ohrozenosti druh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populačnej dynamiky, prirodzených fluktuáci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a vnútrodruhových a medzidruhových zmi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veľkosti populácie, dostatku vhodných biotopov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veľkosti areálu rozšíren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použitej metódy monitoringu (náročná a podrobná v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menej presná a nenáročná),</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reportovacej periód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754080" y="549360"/>
            <a:ext cx="1418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ČÍM ?</a:t>
            </a:r>
            <a:endParaRPr b="0" lang="en-US" sz="3600" spc="-1" strike="noStrike">
              <a:solidFill>
                <a:srgbClr val="ffffff"/>
              </a:solidFill>
              <a:latin typeface="Arial"/>
            </a:endParaRPr>
          </a:p>
        </p:txBody>
      </p:sp>
      <p:sp>
        <p:nvSpPr>
          <p:cNvPr id="112" name=""/>
          <p:cNvSpPr/>
          <p:nvPr/>
        </p:nvSpPr>
        <p:spPr>
          <a:xfrm>
            <a:off x="879480" y="1787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268200" y="1268280"/>
            <a:ext cx="8696520" cy="4376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ateriálne, technické, finančné a personálne zabezpečeni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Odpoveď:</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ersonálne zabezpečen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itoring budú zabezpečovať jednotlivé organizačné útvary ŠOP SR prostredníctvom vlastných kapacít (?), mimovládnych a vedecko-výskumných organizácií a dobrovoľníkov (?). Potrebné je uváženie spolupráce so školami. Dôležitá je výchova detí a mládeže, propagácia, styk s verejnosťou, osve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teriál, technika, financie: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4" name=""/>
          <p:cNvGraphicFramePr/>
          <p:nvPr/>
        </p:nvGraphicFramePr>
        <p:xfrm>
          <a:off x="6372360" y="549360"/>
          <a:ext cx="2592360" cy="1468440"/>
        </p:xfrm>
        <a:graphic>
          <a:graphicData uri="http://schemas.openxmlformats.org/presentationml/2006/ole">
            <p:oleObj r:id="rId2" spid="">
              <p:embed/>
              <p:pic>
                <p:nvPicPr>
                  <p:cNvPr id="115" name="" descr=""/>
                  <p:cNvPicPr/>
                  <p:nvPr/>
                </p:nvPicPr>
                <p:blipFill>
                  <a:blip r:embed="rId3"/>
                  <a:stretch/>
                </p:blipFill>
                <p:spPr>
                  <a:xfrm>
                    <a:off x="6372360" y="549360"/>
                    <a:ext cx="2592360" cy="1468440"/>
                  </a:xfrm>
                  <a:prstGeom prst="rect">
                    <a:avLst/>
                  </a:prstGeom>
                  <a:ln w="0">
                    <a:noFill/>
                  </a:ln>
                </p:spPr>
              </p:pic>
            </p:oleObj>
          </a:graphicData>
        </a:graphic>
      </p:graphicFrame>
      <p:sp>
        <p:nvSpPr>
          <p:cNvPr id="116" name=""/>
          <p:cNvSpPr/>
          <p:nvPr/>
        </p:nvSpPr>
        <p:spPr>
          <a:xfrm>
            <a:off x="461520" y="517680"/>
            <a:ext cx="578916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Druh: </a:t>
            </a:r>
            <a:r>
              <a:rPr b="1" lang="cs-CZ" sz="2000" spc="-1" strike="noStrike">
                <a:solidFill>
                  <a:srgbClr val="000000"/>
                </a:solidFill>
                <a:latin typeface="Tahoma"/>
              </a:rPr>
              <a:t>jasoň červenooký</a:t>
            </a:r>
            <a:r>
              <a:rPr b="1" i="1" lang="sk-SK" sz="2000" spc="-1" strike="noStrike">
                <a:solidFill>
                  <a:srgbClr val="000000"/>
                </a:solidFill>
                <a:latin typeface="Tahoma"/>
              </a:rPr>
              <a:t> (</a:t>
            </a:r>
            <a:r>
              <a:rPr b="1" i="1" lang="cs-CZ" sz="2000" spc="-1" strike="noStrike">
                <a:solidFill>
                  <a:srgbClr val="000000"/>
                </a:solidFill>
                <a:latin typeface="Tahoma"/>
              </a:rPr>
              <a:t>Parnassius apollo</a:t>
            </a:r>
            <a:r>
              <a:rPr b="1" i="1" lang="sk-SK" sz="2000" spc="-1" strike="noStrike">
                <a:solidFill>
                  <a:srgbClr val="0000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Minimálny počet monitorovaných lokalít: </a:t>
            </a:r>
            <a:r>
              <a:rPr b="0" lang="sk-SK" sz="2000" spc="-1" strike="noStrike">
                <a:solidFill>
                  <a:srgbClr val="000000"/>
                </a:solidFill>
                <a:latin typeface="Tahoma"/>
              </a:rPr>
              <a:t>1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Návrh monitorovacích plôch:</a:t>
            </a:r>
            <a:r>
              <a:rPr b="1" lang="sk-SK" sz="1800" spc="-1" strike="noStrike">
                <a:solidFill>
                  <a:srgbClr val="000000"/>
                </a:solidFill>
                <a:latin typeface="Tahoma"/>
              </a:rPr>
              <a:t> </a:t>
            </a:r>
            <a:endParaRPr b="0" lang="en-US" sz="1800" spc="-1" strike="noStrike">
              <a:solidFill>
                <a:srgbClr val="ffffff"/>
              </a:solidFill>
              <a:latin typeface="Arial"/>
            </a:endParaRPr>
          </a:p>
        </p:txBody>
      </p:sp>
      <p:graphicFrame>
        <p:nvGraphicFramePr>
          <p:cNvPr id="117" name=""/>
          <p:cNvGraphicFramePr/>
          <p:nvPr/>
        </p:nvGraphicFramePr>
        <p:xfrm>
          <a:off x="684360" y="2208240"/>
          <a:ext cx="8002440" cy="4245120"/>
        </p:xfrm>
        <a:graphic>
          <a:graphicData uri="http://schemas.openxmlformats.org/drawingml/2006/table">
            <a:tbl>
              <a:tblPr/>
              <a:tblGrid>
                <a:gridCol w="4002120"/>
                <a:gridCol w="4000320"/>
              </a:tblGrid>
              <a:tr h="406080">
                <a:tc gridSpan="2">
                  <a:txBody>
                    <a:bodyPr lIns="90000" rIns="90000" tIns="46800" bIns="46800" anchor="t">
                      <a:no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ea typeface="Times New Roman"/>
                        </a:rPr>
                        <a:t>Biogeografický región</a:t>
                      </a: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6880">
                <a:tc>
                  <a:txBody>
                    <a:bodyPr lIns="90000" rIns="90000" tIns="46800" bIns="46800" anchor="t">
                      <a:no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LPÍNSKY</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ANÓNSKY</a:t>
                      </a:r>
                      <a:endParaRPr b="0" lang="en-US" sz="1800" spc="-1" strike="noStrike">
                        <a:solidFill>
                          <a:srgbClr val="ffffff"/>
                        </a:solidFill>
                        <a:latin typeface="Arial"/>
                      </a:endParaRPr>
                    </a:p>
                  </a:txBody>
                  <a:tcPr anchor="t" marL="90000" marR="90000">
                    <a:lnL>
                      <a:noFill/>
                    </a:lnL>
                    <a:lnR>
                      <a:noFill/>
                    </a:lnR>
                    <a:lnT>
                      <a:noFill/>
                    </a:lnT>
                    <a:lnB>
                      <a:noFill/>
                    </a:lnB>
                    <a:noFill/>
                  </a:tcPr>
                </a:tc>
              </a:tr>
              <a:tr h="342252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1. SKUEV0256 Strážovské vrchy – Manínska tiesňava</a:t>
                      </a:r>
                      <a:endParaRPr b="0" lang="en-US" sz="18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2. SKUEV0256 Strážovské vrchy – Súľovské skaly</a:t>
                      </a:r>
                      <a:endParaRPr b="0" lang="en-US" sz="18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3. </a:t>
                      </a:r>
                      <a:r>
                        <a:rPr b="0" lang="sk-SK" sz="1800" spc="-1" strike="noStrike">
                          <a:solidFill>
                            <a:srgbClr val="000000"/>
                          </a:solidFill>
                          <a:latin typeface="Tahoma"/>
                          <a:ea typeface="Arial"/>
                        </a:rPr>
                        <a:t>SKUEV0001 Príboj</a:t>
                      </a:r>
                      <a:endParaRPr b="0" lang="en-US" sz="18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4. SKUEV0252 Malá Fatra – Terchovské lazy</a:t>
                      </a:r>
                      <a:endParaRPr b="0" lang="en-US" sz="18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5. </a:t>
                      </a:r>
                      <a:r>
                        <a:rPr b="0" lang="sk-SK" sz="1800" spc="-1" strike="noStrike">
                          <a:solidFill>
                            <a:srgbClr val="000000"/>
                          </a:solidFill>
                          <a:latin typeface="Tahoma"/>
                          <a:ea typeface="Arial"/>
                        </a:rPr>
                        <a:t>SKUEV0150 Červený grúň</a:t>
                      </a:r>
                      <a:endParaRPr b="0" lang="en-US" sz="18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6. </a:t>
                      </a:r>
                      <a:r>
                        <a:rPr b="0" lang="sk-SK" sz="1800" spc="-1" strike="noStrike">
                          <a:solidFill>
                            <a:srgbClr val="000000"/>
                          </a:solidFill>
                          <a:latin typeface="Tahoma"/>
                          <a:ea typeface="Arial"/>
                        </a:rPr>
                        <a:t>SKUEV0151 Vrchovisko pri Pohorelskej maši</a:t>
                      </a:r>
                      <a:r>
                        <a:rPr b="0" lang="sk-SK" sz="1800" spc="-1" strike="noStrike" u="sng">
                          <a:solidFill>
                            <a:srgbClr val="ffffcc"/>
                          </a:solidFill>
                          <a:uFillTx/>
                          <a:latin typeface="Tahoma"/>
                          <a:ea typeface="Arial"/>
                          <a:hlinkClick r:id="rId4"/>
                        </a:rPr>
                        <a:t> </a:t>
                      </a:r>
                      <a:r>
                        <a:rPr b="0" lang="sk-SK" sz="1800" spc="-1" strike="noStrike" u="sng">
                          <a:solidFill>
                            <a:srgbClr val="ffffcc"/>
                          </a:solidFill>
                          <a:uFillTx/>
                          <a:latin typeface="Tahoma"/>
                          <a:ea typeface="Times New Roman"/>
                          <a:hlinkClick r:id="rId5"/>
                        </a:rPr>
                        <a:t> </a:t>
                      </a:r>
                      <a:endParaRPr b="0" lang="en-US" sz="18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7. </a:t>
                      </a:r>
                      <a:r>
                        <a:rPr b="0" lang="sk-SK" sz="1800" spc="-1" strike="noStrike">
                          <a:solidFill>
                            <a:srgbClr val="000000"/>
                          </a:solidFill>
                          <a:latin typeface="Tahoma"/>
                          <a:ea typeface="Arial"/>
                        </a:rPr>
                        <a:t>SKUEV0197 Salatín</a:t>
                      </a:r>
                      <a:endParaRPr b="0" lang="en-US" sz="18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Arial"/>
                        </a:rPr>
                        <a:t>8. SKUEV0209 Morské oko</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1. SKUEV0064 Bratislavské luhy – k.ú Lozorno</a:t>
                      </a:r>
                      <a:endParaRPr b="0" lang="en-US" sz="18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2. </a:t>
                      </a:r>
                      <a:r>
                        <a:rPr b="0" lang="sk-SK" sz="1800" spc="-1" strike="noStrike">
                          <a:solidFill>
                            <a:srgbClr val="000000"/>
                          </a:solidFill>
                          <a:latin typeface="Tahoma"/>
                          <a:ea typeface="Arial"/>
                        </a:rPr>
                        <a:t>SKUEV0225 Muránska planina</a:t>
                      </a:r>
                      <a:r>
                        <a:rPr b="0" lang="sk-SK" sz="1800" spc="-1" strike="noStrike">
                          <a:solidFill>
                            <a:srgbClr val="000000"/>
                          </a:solidFill>
                          <a:latin typeface="Tahoma"/>
                          <a:ea typeface="Times New Roman"/>
                        </a:rPr>
                        <a:t> – vrch Homôlka, k. ú Muráň</a:t>
                      </a:r>
                      <a:endParaRPr b="0" lang="en-US" sz="18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3. SKUEV0104 Homolské Karpaty – Neštich</a:t>
                      </a:r>
                      <a:endParaRPr b="0" lang="en-US" sz="18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Arial"/>
                        </a:rPr>
                        <a:t>4. k. ú. Dolná Horná, okr. Nitra – Novákova lúka</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415080" y="403920"/>
            <a:ext cx="4856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ehľadná tabuľka monitoringu druhu:</a:t>
            </a:r>
            <a:endParaRPr b="0" lang="en-US" sz="2000" spc="-1" strike="noStrike">
              <a:solidFill>
                <a:srgbClr val="ffffff"/>
              </a:solidFill>
              <a:latin typeface="Arial"/>
            </a:endParaRPr>
          </a:p>
        </p:txBody>
      </p:sp>
      <p:graphicFrame>
        <p:nvGraphicFramePr>
          <p:cNvPr id="119" name=""/>
          <p:cNvGraphicFramePr/>
          <p:nvPr/>
        </p:nvGraphicFramePr>
        <p:xfrm>
          <a:off x="0" y="1077840"/>
          <a:ext cx="9144000" cy="4699080"/>
        </p:xfrm>
        <a:graphic>
          <a:graphicData uri="http://schemas.openxmlformats.org/drawingml/2006/table">
            <a:tbl>
              <a:tblPr/>
              <a:tblGrid>
                <a:gridCol w="473040"/>
                <a:gridCol w="1890720"/>
                <a:gridCol w="1876320"/>
                <a:gridCol w="658800"/>
                <a:gridCol w="1185840"/>
                <a:gridCol w="1295640"/>
                <a:gridCol w="987480"/>
                <a:gridCol w="776160"/>
              </a:tblGrid>
              <a:tr h="33732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Kritériá hodnot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Monitorovaný parameter</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Metód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Frekvenc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Čas v rámc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Poznámk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80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rok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dň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1076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Populác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Územie obývané populácio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Rozloha územ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A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v čase výskytu imág (jún-august), príp. húseníc (marec-máj)</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10. – 17. h</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Relatívna početnosť druh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očetnosť druh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A2, A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imága: jún-augus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húsenice: marec-máj</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imága: 10.-17. h</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húsenic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10.-17. h</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     </a:t>
                      </a:r>
                      <a:r>
                        <a:rPr b="0" lang="cs-CZ" sz="1600" spc="-1" strike="noStrike">
                          <a:solidFill>
                            <a:srgbClr val="000000"/>
                          </a:solidFill>
                          <a:latin typeface="Times New Roman"/>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Pravidelnosť výskytu/nálezov druhu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Frekvencia výskyt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A4</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Trend abundancie (denzity) z roka na rok</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Trend za posledných 6 rokov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A5</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0" name=""/>
          <p:cNvGraphicFramePr/>
          <p:nvPr/>
        </p:nvGraphicFramePr>
        <p:xfrm>
          <a:off x="0" y="836640"/>
          <a:ext cx="9144000" cy="5078520"/>
        </p:xfrm>
        <a:graphic>
          <a:graphicData uri="http://schemas.openxmlformats.org/drawingml/2006/table">
            <a:tbl>
              <a:tblPr/>
              <a:tblGrid>
                <a:gridCol w="474840"/>
                <a:gridCol w="1890360"/>
                <a:gridCol w="1874880"/>
                <a:gridCol w="658800"/>
                <a:gridCol w="1185840"/>
                <a:gridCol w="1295640"/>
                <a:gridCol w="987480"/>
                <a:gridCol w="776160"/>
              </a:tblGrid>
              <a:tr h="6303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Biotopy adultov</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Rozloha a počet biotopov adultov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B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vegetačné obdobi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10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Biotopy nedospelých štádií</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Rozloha, počet biotopov lariev a množstvo hostiteľských rastlí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B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vegetačné obdobi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6692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Ohroz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Ohrozenia biotopov prírodnými procesmi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Ohrozenia biotopov prírodnými procesm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B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celý rok s ťažiskom cez</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vegetačné obdobi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6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Ohrozenia biotopov antropogennymi vplyvm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Ohrozenia biotopov antropogennymi vplyvm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B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celý rok s ťažiskom cez</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vegetačné obdobi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33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Priame ohrozenia jedincov druhu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riame ohrozenia jedincov druh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C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vegetačné obdobi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
          <p:cNvSpPr/>
          <p:nvPr/>
        </p:nvSpPr>
        <p:spPr>
          <a:xfrm>
            <a:off x="395280" y="5981400"/>
            <a:ext cx="849636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ea typeface="Times New Roman"/>
              </a:rPr>
              <a:t>Poznámk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ea typeface="Times New Roman"/>
              </a:rPr>
              <a:t>1. Mladé húsenice bývajú často na koncoch výhonkov hostiteľských rastlín, staršie sa dajú nájsť na rastlinách najmä za slnečného počasia. Preferujú do červena sfarbené hostiteľské rastliny na suchých a teplých miestach.</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Arial"/>
            </a:endParaRPr>
          </a:p>
        </p:txBody>
      </p:sp>
      <p:graphicFrame>
        <p:nvGraphicFramePr>
          <p:cNvPr id="122" name=""/>
          <p:cNvGraphicFramePr/>
          <p:nvPr/>
        </p:nvGraphicFramePr>
        <p:xfrm>
          <a:off x="0" y="189000"/>
          <a:ext cx="9143640" cy="669960"/>
        </p:xfrm>
        <a:graphic>
          <a:graphicData uri="http://schemas.openxmlformats.org/drawingml/2006/table">
            <a:tbl>
              <a:tblPr/>
              <a:tblGrid>
                <a:gridCol w="2363040"/>
                <a:gridCol w="1876680"/>
                <a:gridCol w="658800"/>
                <a:gridCol w="1186920"/>
                <a:gridCol w="1294560"/>
                <a:gridCol w="987120"/>
                <a:gridCol w="776520"/>
              </a:tblGrid>
              <a:tr h="3373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Kritériá hodnot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ffffff"/>
                      </a:solidFill>
                    </a:lnB>
                    <a:solidFill>
                      <a:srgbClr val="c0c0c0"/>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Monitorovaný parameter</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ffffff"/>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Metód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ffffff"/>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Frekvenc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ffffff"/>
                      </a:solidFill>
                    </a:lnB>
                    <a:solidFill>
                      <a:srgbClr val="c0c0c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Čas v rámc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Poznámk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ffffff"/>
                      </a:solidFill>
                    </a:lnB>
                    <a:solidFill>
                      <a:srgbClr val="c0c0c0"/>
                    </a:solid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rok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dň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08000" y="563400"/>
            <a:ext cx="8964720" cy="64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ahoma"/>
              </a:rPr>
              <a:t>Metódy monitoringu (</a:t>
            </a:r>
            <a:r>
              <a:rPr b="1" i="1" lang="cs-CZ" sz="2000" spc="-1" strike="noStrike">
                <a:solidFill>
                  <a:srgbClr val="000000"/>
                </a:solidFill>
                <a:latin typeface="Tahoma"/>
              </a:rPr>
              <a:t>Lepidoptera</a:t>
            </a:r>
            <a:r>
              <a:rPr b="1" lang="cs-CZ" sz="2000" spc="-1" strike="noStrike">
                <a:solidFill>
                  <a:srgbClr val="0000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Metódy monitoringu populácie (skupina „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rPr>
              <a:t>A1. Monitorovanie územia obývaného populáciou, biotopov a ohrozen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Tvar a veľkosť územia, ktoré populácia daného druhu v predmetnej lokalite obýva, sa zistí pochôdzkami, počas ktorých sa vizuálne skontroluje celá jeho rozloha. Uskutoční sa v čase, keď sú zistiteľné imága alebo nedospelé štádiá monitorovaného druhu. Územie sa vyznačí do mapy, urobí sa jeho schematický náčrt, pričom sa znázornia významné biotopy, ktoré daný druh preferuje, a to imága i vývojové štádiá. Zhotovia sa fotografie územia. V ďalších rokoch sa bude kontrolovať, či sa toto územie obývané populáciou daného druhu motýľa mení alebo zostáva rovnaké.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rPr>
              <a:t>A2. Spočítavanie imág motýľov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ko základná metóda monitoringu početnosti imág motýľov s dennou aktivitou sa navrhuje transektová metóda spočítavania jedincov imág (transect counts) na presne stanovenej ploche. Táto plocha (monitorovacia plocha) je situovaná v území obývanom populáciou daného druhu motýľa (metodika A). V závislosti od konfigurácie terénu, štruktúry ekosystémov a rozmiestnenia vhodných “mikrostanovíšť” to môže byť jeden alebo niekoľko dlhých úzkych pásov prípadne jeden alebo niekoľko polygónov vytýčených v tomto území. Rozloha monitorovacej plochy by mala byť rádove okolo 1 – 2 ha (konkrétna veľkosť závisí od okolností na danej lokalit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539640" y="765000"/>
            <a:ext cx="8064720" cy="55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A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A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Metódy monitoringu biotopu (skupina „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B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B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Metódy monitoringu ohrození (skupina „C“)</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C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C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Prehľad základných informačných zdrojov</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Materiálne a personálne zabezpečen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Tahoma"/>
              </a:rPr>
              <a:t>Spracoval: RNDr. J. Kulfan CSc. (ÚEL SAV, ZV)</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539640" y="620640"/>
            <a:ext cx="6284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Druh: pimprlík bruškatý</a:t>
            </a:r>
            <a:r>
              <a:rPr b="1" i="1" lang="sk-SK" sz="2000" spc="-1" strike="noStrike">
                <a:solidFill>
                  <a:srgbClr val="000000"/>
                </a:solidFill>
                <a:latin typeface="Tahoma"/>
              </a:rPr>
              <a:t> (Vertigo moulinsian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Minimálny počet monitorovaných lokalít: </a:t>
            </a:r>
            <a:r>
              <a:rPr b="0" lang="sk-SK" sz="2000" spc="-1" strike="noStrike">
                <a:solidFill>
                  <a:srgbClr val="000000"/>
                </a:solidFill>
                <a:latin typeface="Tahoma"/>
              </a:rPr>
              <a:t>1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Návrh monitorovacích plôch:</a:t>
            </a:r>
            <a:endParaRPr b="0" lang="en-US" sz="2000" spc="-1" strike="noStrike">
              <a:solidFill>
                <a:srgbClr val="ffffff"/>
              </a:solidFill>
              <a:latin typeface="Arial"/>
            </a:endParaRPr>
          </a:p>
        </p:txBody>
      </p:sp>
      <p:graphicFrame>
        <p:nvGraphicFramePr>
          <p:cNvPr id="126" name=""/>
          <p:cNvGraphicFramePr/>
          <p:nvPr/>
        </p:nvGraphicFramePr>
        <p:xfrm>
          <a:off x="457200" y="2276640"/>
          <a:ext cx="8507520" cy="4438440"/>
        </p:xfrm>
        <a:graphic>
          <a:graphicData uri="http://schemas.openxmlformats.org/drawingml/2006/table">
            <a:tbl>
              <a:tblPr/>
              <a:tblGrid>
                <a:gridCol w="4254480"/>
                <a:gridCol w="4253040"/>
              </a:tblGrid>
              <a:tr h="291960">
                <a:tc gridSpan="2">
                  <a:txBody>
                    <a:bodyPr lIns="90000" rIns="90000" tIns="46800" bIns="46800" anchor="t">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Times New Roman"/>
                          <a:ea typeface="Times New Roman"/>
                        </a:rPr>
                        <a:t>Biogeografický región</a:t>
                      </a:r>
                      <a:endParaRPr b="0" lang="en-US" sz="13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1960">
                <a:tc>
                  <a:txBody>
                    <a:bodyPr lIns="90000" rIns="90000" tIns="46800" bIns="46800" anchor="t">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ALPÍNSKY</a:t>
                      </a:r>
                      <a:endParaRPr b="0" lang="en-US" sz="13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ANÓNSKY</a:t>
                      </a:r>
                      <a:endParaRPr b="0" lang="en-US" sz="1300" spc="-1" strike="noStrike">
                        <a:solidFill>
                          <a:srgbClr val="ffffff"/>
                        </a:solidFill>
                        <a:latin typeface="Arial"/>
                      </a:endParaRPr>
                    </a:p>
                  </a:txBody>
                  <a:tcPr anchor="t" marL="90000" marR="90000">
                    <a:lnL>
                      <a:noFill/>
                    </a:lnL>
                    <a:lnR>
                      <a:noFill/>
                    </a:lnR>
                    <a:lnT>
                      <a:noFill/>
                    </a:lnT>
                    <a:lnB>
                      <a:noFill/>
                    </a:lnB>
                    <a:noFill/>
                  </a:tcPr>
                </a:tc>
              </a:tr>
              <a:tr h="385596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1. SKUEV0191 Rašeliniská Bielej Oravy</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2. SKUEV0368 Brezovská dolina</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3. SKUEV0374 Záhradská - penovcové pramenisko</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4. k.ú. Vyšná Jablonka (Laborecká vrchovina) - močiar s porastom vysokosteblovej ostrice (</a:t>
                      </a:r>
                      <a:r>
                        <a:rPr b="0" i="1" lang="sk-SK" sz="1300" spc="-1" strike="noStrike">
                          <a:solidFill>
                            <a:srgbClr val="000000"/>
                          </a:solidFill>
                          <a:latin typeface="Times New Roman"/>
                          <a:ea typeface="Times New Roman"/>
                        </a:rPr>
                        <a:t>Carex </a:t>
                      </a:r>
                      <a:r>
                        <a:rPr b="0" lang="sk-SK" sz="1300" spc="-1" strike="noStrike">
                          <a:solidFill>
                            <a:srgbClr val="000000"/>
                          </a:solidFill>
                          <a:latin typeface="Times New Roman"/>
                          <a:ea typeface="Times New Roman"/>
                        </a:rPr>
                        <a:t>sp.) po pravej strane cesty pred obcou zo smeru Nižná Jablonka</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5. PP Mitická slatina (Strážovské vrchy), k.ú. Trenčianske Mitice - slatina</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k.ú. Malé Bielice, okr. Partizánske (Tríbeč) – rašelinisko</a:t>
                      </a:r>
                      <a:endParaRPr b="0" lang="en-US" sz="13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1. SKUEV0367 Holubyho kopanice</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Dolina Modrová (Považský Inovec) - vápnité močiare so spoločenstvom </a:t>
                      </a:r>
                      <a:r>
                        <a:rPr b="0" i="1" lang="sk-SK" sz="1300" spc="-1" strike="noStrike">
                          <a:solidFill>
                            <a:srgbClr val="000000"/>
                          </a:solidFill>
                          <a:latin typeface="Times New Roman"/>
                          <a:ea typeface="Times New Roman"/>
                        </a:rPr>
                        <a:t>Magnocariceta-Equisetum</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2. Hrhovské rybníky, (NP Slovenský kras) - okraje rybníkov s porastom vysokosteblových ostríc (</a:t>
                      </a:r>
                      <a:r>
                        <a:rPr b="0" i="1" lang="sk-SK" sz="1300" spc="-1" strike="noStrike">
                          <a:solidFill>
                            <a:srgbClr val="000000"/>
                          </a:solidFill>
                          <a:latin typeface="Times New Roman"/>
                          <a:ea typeface="Times New Roman"/>
                        </a:rPr>
                        <a:t>Carex </a:t>
                      </a:r>
                      <a:r>
                        <a:rPr b="0" lang="sk-SK" sz="1300" spc="-1" strike="noStrike">
                          <a:solidFill>
                            <a:srgbClr val="000000"/>
                          </a:solidFill>
                          <a:latin typeface="Times New Roman"/>
                          <a:ea typeface="Times New Roman"/>
                        </a:rPr>
                        <a:t>sp.), trstiny (</a:t>
                      </a:r>
                      <a:r>
                        <a:rPr b="0" i="1" lang="sk-SK" sz="1300" spc="-1" strike="noStrike">
                          <a:solidFill>
                            <a:srgbClr val="000000"/>
                          </a:solidFill>
                          <a:latin typeface="Times New Roman"/>
                          <a:ea typeface="Times New Roman"/>
                        </a:rPr>
                        <a:t>Phragmites </a:t>
                      </a:r>
                      <a:r>
                        <a:rPr b="0" lang="sk-SK" sz="1300" spc="-1" strike="noStrike">
                          <a:solidFill>
                            <a:srgbClr val="000000"/>
                          </a:solidFill>
                          <a:latin typeface="Times New Roman"/>
                          <a:ea typeface="Times New Roman"/>
                        </a:rPr>
                        <a:t>sp.) a pálky (</a:t>
                      </a:r>
                      <a:r>
                        <a:rPr b="0" i="1" lang="sk-SK" sz="1300" spc="-1" strike="noStrike">
                          <a:solidFill>
                            <a:srgbClr val="000000"/>
                          </a:solidFill>
                          <a:latin typeface="Times New Roman"/>
                          <a:ea typeface="Times New Roman"/>
                        </a:rPr>
                        <a:t>Typha </a:t>
                      </a:r>
                      <a:r>
                        <a:rPr b="0" lang="sk-SK" sz="1300" spc="-1" strike="noStrike">
                          <a:solidFill>
                            <a:srgbClr val="000000"/>
                          </a:solidFill>
                          <a:latin typeface="Times New Roman"/>
                          <a:ea typeface="Times New Roman"/>
                        </a:rPr>
                        <a:t>sp.)</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3. SKUEV0357 Cerová vrchovina – lesné biotopy, k.ú. Tachty, pramenný močiar rieky Gortva a jeho okolie</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4. SKUEV0267 Biele Hory, k.ú. Sološnica, Malá Kamenná dolina - travertínový prameň so spoločenstvom </a:t>
                      </a:r>
                      <a:r>
                        <a:rPr b="0" i="1" lang="sk-SK" sz="1300" spc="-1" strike="noStrike">
                          <a:solidFill>
                            <a:srgbClr val="000000"/>
                          </a:solidFill>
                          <a:latin typeface="Times New Roman"/>
                          <a:ea typeface="Times New Roman"/>
                        </a:rPr>
                        <a:t>Caricetum davallianae</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5. Chtelnická dolina, k. ú. Chtelnica (Malé Karpaty) - vápnitá slatina pod vodnou nádržou Chtelnica</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6. SKUEV0093 Bodícky kanál, PP Kráľovská lúka, k.ú. Bodíky, (Podunajská rovina) - mezofilná lúka</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7. Holbagrunty, rozhranie k.ú. Sološnica a Rohožník (Malé Karpaty) - močiar so spoločenstvom </a:t>
                      </a:r>
                      <a:r>
                        <a:rPr b="0" i="1" lang="sk-SK" sz="1300" spc="-1" strike="noStrike">
                          <a:solidFill>
                            <a:srgbClr val="000000"/>
                          </a:solidFill>
                          <a:latin typeface="Times New Roman"/>
                          <a:ea typeface="Times New Roman"/>
                        </a:rPr>
                        <a:t>Magnocaricetea</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8. VN Vývrat, k.ú. Rohožník a Kuchyňa (Malé Karpaty) - močiar pod nádržou (zväz </a:t>
                      </a:r>
                      <a:r>
                        <a:rPr b="0" i="1" lang="sk-SK" sz="1300" spc="-1" strike="noStrike">
                          <a:solidFill>
                            <a:srgbClr val="000000"/>
                          </a:solidFill>
                          <a:latin typeface="Times New Roman"/>
                          <a:ea typeface="Times New Roman"/>
                        </a:rPr>
                        <a:t>Calthyon</a:t>
                      </a:r>
                      <a:r>
                        <a:rPr b="0" lang="sk-SK" sz="1300" spc="-1" strike="noStrike">
                          <a:solidFill>
                            <a:srgbClr val="000000"/>
                          </a:solidFill>
                          <a:latin typeface="Times New Roman"/>
                          <a:ea typeface="Times New Roman"/>
                        </a:rPr>
                        <a:t>)</a:t>
                      </a:r>
                      <a:endParaRPr b="0" lang="en-US" sz="13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127" name=""/>
          <p:cNvGraphicFramePr/>
          <p:nvPr/>
        </p:nvGraphicFramePr>
        <p:xfrm>
          <a:off x="6948360" y="549360"/>
          <a:ext cx="1835280" cy="1730160"/>
        </p:xfrm>
        <a:graphic>
          <a:graphicData uri="http://schemas.openxmlformats.org/presentationml/2006/ole">
            <p:oleObj r:id="rId2" spid="">
              <p:embed/>
              <p:pic>
                <p:nvPicPr>
                  <p:cNvPr id="128" name="" descr=""/>
                  <p:cNvPicPr/>
                  <p:nvPr/>
                </p:nvPicPr>
                <p:blipFill>
                  <a:blip r:embed="rId3"/>
                  <a:stretch/>
                </p:blipFill>
                <p:spPr>
                  <a:xfrm>
                    <a:off x="6948360" y="549360"/>
                    <a:ext cx="1835280" cy="173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250920" y="411120"/>
            <a:ext cx="8713800" cy="655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Špecifiká monitoringu živočíchov</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Špecifiká a náročnosť monitoringu fauny môžeme zhrnúť do týchto bodov:</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živočíšne druhy sú mobilnou skupinou organizmov,</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vysoká časová náročnosť terénneho zberu dá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vysoká personálna náročnosť monitoringu,</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zber dát pri väčšine druhov podmienený aktuálnym  počasím a fázou dň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nedostatok údajov o niektorých druhoch (potreba inventarizácie a mapovani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bsencia máp rozšírenia jednotlivých druhov,</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metodická náročnosť monitoringu,</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otreba motivácie pre monitoring „menej zaujímavých“ druho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270360" y="510120"/>
            <a:ext cx="4856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ehľadná tabuľka monitoringu druhu:</a:t>
            </a:r>
            <a:endParaRPr b="0" lang="en-US" sz="2000" spc="-1" strike="noStrike">
              <a:solidFill>
                <a:srgbClr val="ffffff"/>
              </a:solidFill>
              <a:latin typeface="Arial"/>
            </a:endParaRPr>
          </a:p>
        </p:txBody>
      </p:sp>
      <p:graphicFrame>
        <p:nvGraphicFramePr>
          <p:cNvPr id="130" name=""/>
          <p:cNvGraphicFramePr/>
          <p:nvPr/>
        </p:nvGraphicFramePr>
        <p:xfrm>
          <a:off x="250920" y="1125360"/>
          <a:ext cx="8713800" cy="5443560"/>
        </p:xfrm>
        <a:graphic>
          <a:graphicData uri="http://schemas.openxmlformats.org/drawingml/2006/table">
            <a:tbl>
              <a:tblPr/>
              <a:tblGrid>
                <a:gridCol w="437040"/>
                <a:gridCol w="1132200"/>
                <a:gridCol w="1469880"/>
                <a:gridCol w="760680"/>
                <a:gridCol w="1202400"/>
                <a:gridCol w="1090440"/>
                <a:gridCol w="986040"/>
                <a:gridCol w="1635120"/>
              </a:tblGrid>
              <a:tr h="33732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ritéria hodnotenia</a:t>
                      </a:r>
                      <a:endParaRPr b="0" lang="en-US" sz="1600" spc="-1" strike="noStrike">
                        <a:solidFill>
                          <a:srgbClr val="ffffff"/>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c0c0c0"/>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onitorovaný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arameter</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etód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rekvenc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c0c0c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Čas v rámc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oznámka</a:t>
                      </a:r>
                      <a:endParaRPr b="0" lang="en-US" sz="1600" spc="-1" strike="noStrike">
                        <a:solidFill>
                          <a:srgbClr val="ffffff"/>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580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k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ň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412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opulácia</a:t>
                      </a:r>
                      <a:endParaRPr b="0" lang="en-US" sz="1600" spc="-1" strike="noStrike">
                        <a:solidFill>
                          <a:srgbClr val="ffffff"/>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eľkosť populácie na lokali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čet živých jedincov</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úl - augus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nitoring </a:t>
                      </a:r>
                      <a:r>
                        <a:rPr b="0" lang="en-US" sz="1600" spc="-1" strike="noStrike" u="sng">
                          <a:solidFill>
                            <a:srgbClr val="000000"/>
                          </a:solidFill>
                          <a:uFillTx/>
                          <a:latin typeface="Times New Roman"/>
                          <a:ea typeface="Times New Roman"/>
                        </a:rPr>
                        <a:t>nevykonávať</a:t>
                      </a:r>
                      <a:r>
                        <a:rPr b="0" lang="en-US" sz="1600" spc="-1" strike="noStrike">
                          <a:solidFill>
                            <a:srgbClr val="000000"/>
                          </a:solidFill>
                          <a:latin typeface="Times New Roman"/>
                          <a:ea typeface="Times New Roman"/>
                        </a:rPr>
                        <a:t> v daždi, ak je na vegetácii rosa alebo počas silného vetra</a:t>
                      </a:r>
                      <a:endParaRPr b="0" lang="en-US" sz="16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počet recentných, resp. subrecentných schránok</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2, A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úl - augus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067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4</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x za 6 rokov</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olovica septembra - október</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na začiatku 6-ročného reportovacieho obdobia</a:t>
                      </a:r>
                      <a:endParaRPr b="0" lang="en-US" sz="16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310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očetnosť populácie na lokali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rend početnosti druh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5</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dnotí sa na základe údajov o veľkosti populácie na lokalite</a:t>
                      </a:r>
                      <a:endParaRPr b="0" lang="en-US" sz="16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1" name=""/>
          <p:cNvGraphicFramePr/>
          <p:nvPr/>
        </p:nvGraphicFramePr>
        <p:xfrm>
          <a:off x="250920" y="765000"/>
          <a:ext cx="8713800" cy="5392800"/>
        </p:xfrm>
        <a:graphic>
          <a:graphicData uri="http://schemas.openxmlformats.org/drawingml/2006/table">
            <a:tbl>
              <a:tblPr/>
              <a:tblGrid>
                <a:gridCol w="438120"/>
                <a:gridCol w="1130400"/>
                <a:gridCol w="1471320"/>
                <a:gridCol w="760680"/>
                <a:gridCol w="1203120"/>
                <a:gridCol w="1087560"/>
                <a:gridCol w="987480"/>
                <a:gridCol w="1635120"/>
              </a:tblGrid>
              <a:tr h="37116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ritéria hodnotenia</a:t>
                      </a:r>
                      <a:endParaRPr b="0" lang="en-US" sz="1600" spc="-1" strike="noStrike">
                        <a:solidFill>
                          <a:srgbClr val="ffffff"/>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c0c0c0"/>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onitorovaný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arameter</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etód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rekvenc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c0c0c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Čas v rámc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oznámka</a:t>
                      </a:r>
                      <a:endParaRPr b="0" lang="en-US" sz="1600" spc="-1" strike="noStrike">
                        <a:solidFill>
                          <a:srgbClr val="ffffff"/>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580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k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ň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8404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iotop</a:t>
                      </a:r>
                      <a:endParaRPr b="0" lang="en-US" sz="1600" spc="-1" strike="noStrike">
                        <a:solidFill>
                          <a:srgbClr val="ffffff"/>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av biotop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harakter vegetácie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x za 3 rok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ún - jú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fytocenologický zápi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v spolupráci s botanikom)</a:t>
                      </a:r>
                      <a:endParaRPr b="0" lang="en-US" sz="16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úl - augus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eutrofizác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úl - augus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42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odný režim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ýška vodnej hladiny</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4</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x 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ún, júl, augus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r h="145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hrozenia</a:t>
                      </a:r>
                      <a:endParaRPr b="0" lang="en-US" sz="1600" spc="-1" strike="noStrike">
                        <a:solidFill>
                          <a:srgbClr val="ffffff"/>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iotopu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iera ovplyvnenia biotopu činnosťou človek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úl - augus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447840" y="476280"/>
            <a:ext cx="8445240" cy="63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Metódy monitoringu (</a:t>
            </a:r>
            <a:r>
              <a:rPr b="1" i="1" lang="sk-SK" sz="2000" spc="-1" strike="noStrike">
                <a:solidFill>
                  <a:srgbClr val="000000"/>
                </a:solidFill>
                <a:latin typeface="Tahoma"/>
              </a:rPr>
              <a:t>Mollusca</a:t>
            </a:r>
            <a:r>
              <a:rPr b="1" lang="sk-SK" sz="2000" spc="-1" strike="noStrike">
                <a:solidFill>
                  <a:srgbClr val="000000"/>
                </a:solidFill>
                <a:latin typeface="Tahoma"/>
              </a:rPr>
              <a:t>)</a:t>
            </a:r>
            <a:r>
              <a:rPr b="0" lang="sk-SK" sz="1800" spc="-1" strike="noStrike">
                <a:solidFill>
                  <a:srgbClr val="000000"/>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Metódy monitoringu populácie (skupina „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A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Priame pozorovanie jedincov na vegetácii.</a:t>
            </a:r>
            <a:r>
              <a:rPr b="0" lang="sk-SK" sz="1800" spc="-1" strike="noStrike">
                <a:solidFill>
                  <a:srgbClr val="000000"/>
                </a:solidFill>
                <a:latin typeface="Tahoma"/>
              </a:rPr>
              <a:t> Výhodou je, že nedochádza k usmrcovaniu jedincov a nie je potrebný čas na laboratórne spracovanie vzoriek. Metóda si však vyžaduje skúsenosti s determináciou druhu priamo v teréne, nakoľko ide o veľmi malé živočích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A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Metóda "A" môže byť doplnená o priamy zber jedincov, samozrejme len prázdnych schránok. V niektorých prípadoch (keď je jedinec stiahnutý v ulite) je však pre neodborníka pomerne náročné zistiť, či ide o živého jedinca alebo len prázdnu schránk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A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Metódy monitoringu biotopu (skupina „B“</a:t>
            </a:r>
            <a:r>
              <a:rPr b="0" lang="sk-SK" sz="1800" spc="-1" strike="noStrike">
                <a:solidFill>
                  <a:srgbClr val="000000"/>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B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Metódy monitoringu ohrození (skupina „C“)</a:t>
            </a:r>
            <a:r>
              <a:rPr b="0" lang="sk-SK" sz="1800" spc="-1" strike="noStrike">
                <a:solidFill>
                  <a:srgbClr val="000000"/>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C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C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Tahoma"/>
              </a:rPr>
              <a:t>Spracovala: Mgr. Ľ. Vavrová (ŠOP SR, COPK BB)</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42920" y="404640"/>
            <a:ext cx="8893080" cy="673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Prehľad základných informačných zdrojov: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Horsák, M., 2003: How to sample mollusc communities in mires easily. (Jak jednodušeji vzorkovat prameništní malakocenózy). Malacologica Bohemoslovaca (Československá slimač), Praha, 2: 11-1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Killeen, I. J. &amp; Moorkens, E. A., 2003: Monitoring Desmoulin`s Whorl Snail, </a:t>
            </a:r>
            <a:r>
              <a:rPr b="0" i="1" lang="sk-SK" sz="1800" spc="-1" strike="noStrike">
                <a:solidFill>
                  <a:srgbClr val="000000"/>
                </a:solidFill>
                <a:latin typeface="Tahoma"/>
              </a:rPr>
              <a:t>Vertigo moulinsiana</a:t>
            </a:r>
            <a:r>
              <a:rPr b="0" lang="sk-SK" sz="1800" spc="-1" strike="noStrike">
                <a:solidFill>
                  <a:srgbClr val="000000"/>
                </a:solidFill>
                <a:latin typeface="Tahoma"/>
              </a:rPr>
              <a:t>. Conserving Natura 2000 Rivers Monitoring Series No. 6, English Nature, Peterborough. (práca je dostupná aj na stránke www.english-nature.org.u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Materiálne a personálne zabezpečenie:</a:t>
            </a:r>
            <a:r>
              <a:rPr b="1" lang="sk-SK" sz="1800" spc="-1" strike="noStrike">
                <a:solidFill>
                  <a:srgbClr val="000000"/>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u="sng">
                <a:solidFill>
                  <a:srgbClr val="000000"/>
                </a:solidFill>
                <a:uFillTx/>
                <a:latin typeface="Tahoma"/>
              </a:rPr>
              <a:t>Základné príslušenstvo na monitoring mäkkýšov:</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Lopatka na odber vzorie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Igelitové sáčky na uloženie vzorie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Sitko s okami s priemerom cca 0,5x0,5 mm (napr. klasické kuchynské kovové sitko), lupa na determináciu druhov priamo v teré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Gumené rukavice a čižm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Digitálny fotoaparát na fotodokumentáciu (príp. videokamer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Terénny zápisník, ceruzka, meter, presné posuvné meradlo (tzv. šub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Identifikačné štítky - najlepšie z umelej hmoty - na označenie odobratých vzoriek. (Papierové nie sú vhodné, nakoľko pri odbere vzoriek z vlhkých biotopov sa papier v sáčku so vzorkou rozmočí a pri dlhšom uskladňovaní je papier skonzumovaný živými mäkkýšmi, ktoré sú v odobratej vzork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19280" y="2276280"/>
            <a:ext cx="58435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Ďakujem za pozornosť</a:t>
            </a:r>
            <a:endParaRPr b="0" lang="en-US" sz="4400" spc="-1" strike="noStrike">
              <a:solidFill>
                <a:srgbClr val="ffffff"/>
              </a:solidFill>
              <a:latin typeface="Tahoma"/>
            </a:endParaRPr>
          </a:p>
        </p:txBody>
      </p:sp>
      <p:pic>
        <p:nvPicPr>
          <p:cNvPr id="135" name="" descr=""/>
          <p:cNvPicPr/>
          <p:nvPr/>
        </p:nvPicPr>
        <p:blipFill>
          <a:blip r:embed="rId2"/>
          <a:stretch/>
        </p:blipFill>
        <p:spPr>
          <a:xfrm>
            <a:off x="6877080" y="5157720"/>
            <a:ext cx="1200240" cy="996840"/>
          </a:xfrm>
          <a:prstGeom prst="rect">
            <a:avLst/>
          </a:prstGeom>
          <a:ln w="0">
            <a:noFill/>
          </a:ln>
        </p:spPr>
      </p:pic>
      <p:pic>
        <p:nvPicPr>
          <p:cNvPr id="136" name="" descr=""/>
          <p:cNvPicPr/>
          <p:nvPr/>
        </p:nvPicPr>
        <p:blipFill>
          <a:blip r:embed="rId3"/>
          <a:stretch/>
        </p:blipFill>
        <p:spPr>
          <a:xfrm>
            <a:off x="971640" y="5013360"/>
            <a:ext cx="819000" cy="110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31640" y="765000"/>
            <a:ext cx="8461440" cy="606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u="sng">
                <a:solidFill>
                  <a:srgbClr val="000000"/>
                </a:solidFill>
                <a:uFillTx/>
                <a:latin typeface="Tahoma"/>
              </a:rPr>
              <a:t>Využitie výsledkov monitoringu vo vzťahu k Smerniciam:</a:t>
            </a: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zistenie a dohľad nad stavom druhov a biotopov (čl.11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2. nasmerovanie manažmentu druhov a biotopov (čl.2 BD a čl.6, 10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3. prijímanie okamžitých opatrení (čl.3, 4, 5 BD a čl.12, 13, 14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4. identifikácia účinkov manažmentových opatrení (čl.13 BD a čl.6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5. identifikácia rozhodujúcich vplyvov a zmien (čl.6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6. podpora výskumu (čl. 10 BD a čl.18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7. reporting EK (čl.12 BD a čl.17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8. komplexné zhodnotenie na úrovni EÚ (čl.9 H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468360" y="836640"/>
            <a:ext cx="815796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ieľ monitoringu: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avidelné zisťovanie a hodnotenie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vu európsky významných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živočíchov a ich biotopov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 Slovensku a dlhodobé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ledovanie stability,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mien a vývojových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ndov tohto stavu.</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89" name=""/>
          <p:cNvGraphicFramePr/>
          <p:nvPr/>
        </p:nvGraphicFramePr>
        <p:xfrm>
          <a:off x="5508720" y="3933720"/>
          <a:ext cx="3306600" cy="2478240"/>
        </p:xfrm>
        <a:graphic>
          <a:graphicData uri="http://schemas.openxmlformats.org/presentationml/2006/ole">
            <p:oleObj r:id="rId2" spid="">
              <p:embed/>
              <p:pic>
                <p:nvPicPr>
                  <p:cNvPr id="90" name="" descr=""/>
                  <p:cNvPicPr/>
                  <p:nvPr/>
                </p:nvPicPr>
                <p:blipFill>
                  <a:blip r:embed="rId3"/>
                  <a:stretch/>
                </p:blipFill>
                <p:spPr>
                  <a:xfrm>
                    <a:off x="5508720" y="3933720"/>
                    <a:ext cx="3306600" cy="247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oncept monitoringu:</a:t>
            </a:r>
            <a:endParaRPr b="0" lang="en-US" sz="3200" spc="-1" strike="noStrike">
              <a:solidFill>
                <a:srgbClr val="ffffff"/>
              </a:solidFill>
              <a:latin typeface="Tahoma"/>
            </a:endParaRPr>
          </a:p>
        </p:txBody>
      </p:sp>
      <p:sp>
        <p:nvSpPr>
          <p:cNvPr id="92" name="PlaceHolder 2"/>
          <p:cNvSpPr>
            <a:spLocks noGrp="1"/>
          </p:cNvSpPr>
          <p:nvPr>
            <p:ph/>
          </p:nvPr>
        </p:nvSpPr>
        <p:spPr>
          <a:xfrm>
            <a:off x="735120" y="1557000"/>
            <a:ext cx="8229600" cy="48243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u="sng">
                <a:solidFill>
                  <a:srgbClr val="000000"/>
                </a:solidFill>
                <a:uFillTx/>
                <a:latin typeface="Tahoma"/>
              </a:rPr>
              <a:t>Hľadanie odpovede na základné otázky:</a:t>
            </a:r>
            <a:endParaRPr b="0" lang="en-US" sz="2400" spc="-1" strike="noStrike">
              <a:solidFill>
                <a:srgbClr val="ffffff"/>
              </a:solidFill>
              <a:latin typeface="Tahoma"/>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PREČO ?</a:t>
            </a:r>
            <a:r>
              <a:rPr b="0" lang="sk-SK" sz="2400" spc="-1" strike="noStrike">
                <a:solidFill>
                  <a:srgbClr val="000000"/>
                </a:solidFill>
                <a:latin typeface="Tahoma"/>
              </a:rPr>
              <a:t> – PS (manažment), reporting</a:t>
            </a:r>
            <a:endParaRPr b="0" lang="en-US" sz="2400" spc="-1" strike="noStrike">
              <a:solidFill>
                <a:srgbClr val="ffffff"/>
              </a:solidFill>
              <a:latin typeface="Tahoma"/>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ČO ?</a:t>
            </a:r>
            <a:r>
              <a:rPr b="0" lang="sk-SK" sz="2400" spc="-1" strike="noStrike">
                <a:solidFill>
                  <a:srgbClr val="000000"/>
                </a:solidFill>
                <a:latin typeface="Tahoma"/>
              </a:rPr>
              <a:t> – DaBEV a ich FCS (kritéria a subkritériá)</a:t>
            </a:r>
            <a:endParaRPr b="0" lang="en-US" sz="2400" spc="-1" strike="noStrike">
              <a:solidFill>
                <a:srgbClr val="ffffff"/>
              </a:solidFill>
              <a:latin typeface="Tahoma"/>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KOĽKO ?</a:t>
            </a:r>
            <a:r>
              <a:rPr b="0" lang="sk-SK" sz="2400" spc="-1" strike="noStrike">
                <a:solidFill>
                  <a:srgbClr val="000000"/>
                </a:solidFill>
                <a:latin typeface="Tahoma"/>
              </a:rPr>
              <a:t> – výber populácie zahrnutý do monitoringu</a:t>
            </a:r>
            <a:endParaRPr b="0" lang="en-US" sz="2400" spc="-1" strike="noStrike">
              <a:solidFill>
                <a:srgbClr val="ffffff"/>
              </a:solidFill>
              <a:latin typeface="Tahoma"/>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AKO ?</a:t>
            </a:r>
            <a:r>
              <a:rPr b="0" lang="sk-SK" sz="2400" spc="-1" strike="noStrike">
                <a:solidFill>
                  <a:srgbClr val="000000"/>
                </a:solidFill>
                <a:latin typeface="Tahoma"/>
              </a:rPr>
              <a:t> – metódy zberu, ukladania a vyhodnocovania</a:t>
            </a:r>
            <a:endParaRPr b="0" lang="en-US" sz="2400" spc="-1" strike="noStrike">
              <a:solidFill>
                <a:srgbClr val="ffffff"/>
              </a:solidFill>
              <a:latin typeface="Tahoma"/>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KEDY ?</a:t>
            </a:r>
            <a:r>
              <a:rPr b="0" lang="sk-SK" sz="2400" spc="-1" strike="noStrike">
                <a:solidFill>
                  <a:srgbClr val="000000"/>
                </a:solidFill>
                <a:latin typeface="Tahoma"/>
              </a:rPr>
              <a:t> – počas roka a dňa</a:t>
            </a:r>
            <a:endParaRPr b="0" lang="en-US" sz="2400" spc="-1" strike="noStrike">
              <a:solidFill>
                <a:srgbClr val="ffffff"/>
              </a:solidFill>
              <a:latin typeface="Tahoma"/>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KDE ?</a:t>
            </a:r>
            <a:r>
              <a:rPr b="0" lang="sk-SK" sz="2400" spc="-1" strike="noStrike">
                <a:solidFill>
                  <a:srgbClr val="000000"/>
                </a:solidFill>
                <a:latin typeface="Tahoma"/>
              </a:rPr>
              <a:t> – návrh TMP</a:t>
            </a:r>
            <a:endParaRPr b="0" lang="en-US" sz="2400" spc="-1" strike="noStrike">
              <a:solidFill>
                <a:srgbClr val="ffffff"/>
              </a:solidFill>
              <a:latin typeface="Tahoma"/>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AKO ČASTO ?</a:t>
            </a:r>
            <a:r>
              <a:rPr b="0" lang="sk-SK" sz="2400" spc="-1" strike="noStrike">
                <a:solidFill>
                  <a:srgbClr val="000000"/>
                </a:solidFill>
                <a:latin typeface="Tahoma"/>
              </a:rPr>
              <a:t> – frekvencia</a:t>
            </a:r>
            <a:endParaRPr b="0" lang="en-US" sz="2400" spc="-1" strike="noStrike">
              <a:solidFill>
                <a:srgbClr val="ffffff"/>
              </a:solidFill>
              <a:latin typeface="Tahoma"/>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ČÍM ?</a:t>
            </a:r>
            <a:r>
              <a:rPr b="0" lang="sk-SK" sz="2400" spc="-1" strike="noStrike">
                <a:solidFill>
                  <a:srgbClr val="000000"/>
                </a:solidFill>
                <a:latin typeface="Tahoma"/>
              </a:rPr>
              <a:t> – materiálne a personálne zabezpečeni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382560" y="692280"/>
            <a:ext cx="211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KOĽKO ?</a:t>
            </a:r>
            <a:endParaRPr b="0" lang="en-US" sz="3600" spc="-1" strike="noStrike">
              <a:solidFill>
                <a:srgbClr val="ffffff"/>
              </a:solidFill>
              <a:latin typeface="Arial"/>
            </a:endParaRPr>
          </a:p>
        </p:txBody>
      </p:sp>
      <p:sp>
        <p:nvSpPr>
          <p:cNvPr id="94" name=""/>
          <p:cNvSpPr/>
          <p:nvPr/>
        </p:nvSpPr>
        <p:spPr>
          <a:xfrm>
            <a:off x="879480" y="1787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666000" y="1589040"/>
            <a:ext cx="8358480" cy="3933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 </a:t>
            </a:r>
            <a:r>
              <a:rPr b="0" lang="sk-SK" sz="2800" spc="-1" strike="noStrike">
                <a:solidFill>
                  <a:srgbClr val="000000"/>
                </a:solidFill>
                <a:latin typeface="Tahoma"/>
              </a:rPr>
              <a:t>%, plocha (alebo inak definovaný rozsah)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pokrytia populácie a jej biotopu monitoringom</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u="sng">
                <a:solidFill>
                  <a:srgbClr val="000000"/>
                </a:solidFill>
                <a:uFillTx/>
                <a:latin typeface="Tahoma"/>
              </a:rPr>
              <a:t>Odpoveď:</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V závislosti od kľúčovosti (významnosti)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resp. ohrozenosti druhu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pomôcka: tabuľka % pokrytia druhov a biotopov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v územiach NATURA 2000)</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3738240" y="692280"/>
            <a:ext cx="15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KO ?</a:t>
            </a:r>
            <a:endParaRPr b="0" lang="en-US" sz="3600" spc="-1" strike="noStrike">
              <a:solidFill>
                <a:srgbClr val="ffffff"/>
              </a:solidFill>
              <a:latin typeface="Arial"/>
            </a:endParaRPr>
          </a:p>
        </p:txBody>
      </p:sp>
      <p:sp>
        <p:nvSpPr>
          <p:cNvPr id="97" name=""/>
          <p:cNvSpPr/>
          <p:nvPr/>
        </p:nvSpPr>
        <p:spPr>
          <a:xfrm>
            <a:off x="879480" y="1787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268200" y="1413000"/>
            <a:ext cx="8696520" cy="4923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etódy zberu, ukladania a vyhodnocovania dá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Odpoveď:</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ZBER: Vecný popis metodiky a presného postupu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nitoringu</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KLADANIE: Vytvorená aplikácia (resp. modul prepojený s ISTB rozšírený o potrebné poli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33280" y="260280"/>
            <a:ext cx="8802720" cy="698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VYHODNOCOVANI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 vytvorenie mechanizmu vyhodnocovania dát z monitoringu</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 využitie doterajších štatistických metód spracovania, v dôsledku množstva spracovávaných dá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 využitie existujúcich databáz a GIS vrstiev s ich prepracovaním, alebo doplnením pre účely monitoringu živočíšnych druhov</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 nutnosť digitálneho spracovania a vyhodnocovania výsledkov</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Dáta špecifických druhov, ktorými sa podobnejšie nezaoberajú pracovníci ŠOP SR, predkladať na verifikáciu externému odborníkovi za príslušnú skupinu živočíchov, ktorý vykoná analýzu terénnych údajov. Dáta nejednoznačné, sporné, neisté, problematické alebo otázne odborník konzultuje priamo s terénnym pracovníkom.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628080" y="692280"/>
            <a:ext cx="170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KEDY ?</a:t>
            </a:r>
            <a:endParaRPr b="0" lang="en-US" sz="3600" spc="-1" strike="noStrike">
              <a:solidFill>
                <a:srgbClr val="ffffff"/>
              </a:solidFill>
              <a:latin typeface="Arial"/>
            </a:endParaRPr>
          </a:p>
        </p:txBody>
      </p:sp>
      <p:sp>
        <p:nvSpPr>
          <p:cNvPr id="101" name=""/>
          <p:cNvSpPr/>
          <p:nvPr/>
        </p:nvSpPr>
        <p:spPr>
          <a:xfrm>
            <a:off x="879480" y="1787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268200" y="1413000"/>
            <a:ext cx="8696520" cy="5579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 </a:t>
            </a:r>
            <a:r>
              <a:rPr b="0" lang="sk-SK" sz="2800" spc="-1" strike="noStrike">
                <a:solidFill>
                  <a:srgbClr val="000000"/>
                </a:solidFill>
                <a:latin typeface="Tahoma"/>
              </a:rPr>
              <a:t>najvhodnejší čas (resp. časové rozpätie) monitoringu počas roka a dňa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u="sng">
                <a:solidFill>
                  <a:srgbClr val="000000"/>
                </a:solidFill>
                <a:uFillTx/>
                <a:latin typeface="Tahoma"/>
              </a:rPr>
              <a:t>Odpoveď:</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Odborníci ho stanovia v metodike monitoringu jednotlivo podľa subkritérií FC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vyhotovenie monitorovacieho harmonogramu v rámci hodnotiacej periódy (6 ročná perióda pre 153 druhov živočíchov a 3 ročná perióda pre 81 druhov vtákov</a:t>
            </a:r>
            <a:r>
              <a:rPr b="0" lang="sk-SK"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09:45:45Z</dcterms:created>
  <dc:creator>Saxa</dc:creator>
  <dc:description/>
  <dc:language>en-US</dc:language>
  <cp:lastModifiedBy>Saxa</cp:lastModifiedBy>
  <dcterms:modified xsi:type="dcterms:W3CDTF">2005-03-15T07:14:16Z</dcterms:modified>
  <cp:revision>108</cp:revision>
  <dc:subject/>
  <dc:title>Snímek 1</dc:title>
</cp:coreProperties>
</file>