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97A6-CDF3-47D2-9A23-EDF1D48A12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Mapovanie a hodnotenie – pokračovanie Metód monitorov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Frekvencia monitorov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Spracovanie výsledkov, štruktúra výstupných informáci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Realizácia monitoring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Základné východiská pre systém monitoringu v 10 nÚ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Východiská monitoringu lesných biotopov – úloha B2 – uznesenie vlády a MP SR + DANCEE projekt a čo ĎAL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DANCEE proje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Ciele monitoringu lesných biotop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Vychodiská monitoringu - Požiadavky na systém monitoring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pokračovanie - východisk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pokračovanie - východisk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Hierarchické úrovne monitorov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Metódy monitorov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A33-C566-4E1C-A676-88A93A75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22A-8079-475A-BAFB-7A7F4F97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7E3-0D1C-4E6D-A824-5543B919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36D-FD2E-480C-9252-878FDC36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7EA-BC3C-4CBA-9245-956CC5E6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448-63C0-4334-9D0E-270D9799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396-C484-4B75-A7C6-BA51D32E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849-8856-4B35-AC31-21E94FCD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B3B-D5C4-40EA-ADC5-9946ED8B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C41-2896-48B9-B8AC-410F4460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A0B-D932-4971-8864-FF445A85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F53-18E3-49BB-8AA0-EDE801EE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608D-A655-404C-B3E8-67C839B06876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opsr.sk/natura/doc/monitoring/3/lb_koncept.ppt" TargetMode="External"/><Relationship Id="rId2" Type="http://schemas.openxmlformats.org/officeDocument/2006/relationships/hyperlink" Target="http://www.sopsr.sk/natura/doc/monitoring/3/lb_koncept.ppt" TargetMode="External"/><Relationship Id="rId3" Type="http://schemas.openxmlformats.org/officeDocument/2006/relationships/hyperlink" Target="http://www.sopsr.sk/natura/doc/monitoring/3/lb_koncept.ppt" TargetMode="External"/><Relationship Id="rId4" Type="http://schemas.openxmlformats.org/officeDocument/2006/relationships/hyperlink" Target="http://www.sopsr.sk/natura/doc/monitoring/3/lb_koncept.ppt" TargetMode="External"/><Relationship Id="rId5" Type="http://schemas.openxmlformats.org/officeDocument/2006/relationships/hyperlink" Target="http://www.sopsr.sk/natura/doc/monitoring/3/lb_koncept.ppt" TargetMode="External"/><Relationship Id="rId6" Type="http://schemas.openxmlformats.org/officeDocument/2006/relationships/hyperlink" Target="http://www.sopsr.sk/natura/doc/monitoring/3/lb_koncept.ppt" TargetMode="External"/><Relationship Id="rId7" Type="http://schemas.openxmlformats.org/officeDocument/2006/relationships/hyperlink" Target="http://www.sopsr.sk/natura/doc/monitoring/3/lb_koncept.ppt" TargetMode="External"/><Relationship Id="rId8" Type="http://schemas.openxmlformats.org/officeDocument/2006/relationships/hyperlink" Target="http://www.sopsr.sk/natura/doc/monitoring/3/lb_koncept.ppt" TargetMode="External"/><Relationship Id="rId9" Type="http://schemas.openxmlformats.org/officeDocument/2006/relationships/hyperlink" Target="http://www.sopsr.sk/natura/doc/monitoring/3/lb_koncept.ppt" TargetMode="External"/><Relationship Id="rId10" Type="http://schemas.openxmlformats.org/officeDocument/2006/relationships/hyperlink" Target="http://www.sopsr.sk/natura/doc/monitoring/3/lb_koncept.ppt" TargetMode="External"/><Relationship Id="rId11" Type="http://schemas.openxmlformats.org/officeDocument/2006/relationships/hyperlink" Target="http://www.sopsr.sk/natura/doc/monitoring/3/lb_koncept.ppt" TargetMode="External"/><Relationship Id="rId12" Type="http://schemas.openxmlformats.org/officeDocument/2006/relationships/hyperlink" Target="http://www.sopsr.sk/natura/doc/monitoring/3/lb_koncept.ppt" TargetMode="External"/><Relationship Id="rId13" Type="http://schemas.openxmlformats.org/officeDocument/2006/relationships/hyperlink" Target="http://www.sopsr.sk/natura/doc/monitoring/3/lb_koncept.ppt" TargetMode="External"/><Relationship Id="rId14" Type="http://schemas.openxmlformats.org/officeDocument/2006/relationships/hyperlink" Target="http://www.sopsr.sk/natura/doc/monitoring/3/lb_koncept.ppt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990720"/>
            <a:ext cx="792504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a50021"/>
                </a:solidFill>
                <a:latin typeface="Arial"/>
              </a:rPr>
              <a:t>Koncept monitoringu európsky významných lesných typov biotopov  na Slovensku</a:t>
            </a: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avol Polák, COPK Banská Bystrica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a50021"/>
                </a:solidFill>
                <a:latin typeface="Arial"/>
              </a:rPr>
              <a:t>Monitoring európsky významných biotopov a druhov – odborný seminár, </a:t>
            </a:r>
            <a:endParaRPr b="0" lang="en-US" sz="16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a50021"/>
                </a:solidFill>
                <a:latin typeface="Arial"/>
              </a:rPr>
              <a:t>15. – 17. marca 2005, Výskumný ústav trávnych porastov Banská Bystrica  </a:t>
            </a:r>
            <a:endParaRPr b="0" lang="en-US" sz="1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9" name="sopsr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907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0" y="5410080"/>
          <a:ext cx="7134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10080"/>
                    <a:ext cx="7134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52280"/>
            <a:ext cx="883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Frekvencia monitorovania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smernica o biotopoch - 6 ročný cyklus (1. správa za SK v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roku 2007 (obdobie od prijatia smernice do roku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2007, 2. správa za SK 2013 za roky 2007 – 2012)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áta z databáz Lesoprojektu – 10 ročný cyklus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(obnovované  na 1/10 SR každý rok, v prípade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rozsiahlejších kalamít je cyklus narušený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áta získavané mapovaním pre Programy starostlivosti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(predpoklad 1 x za 10 rokov, kontrolne  1 x 5 rokov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odrobnejšie monitorovanie previesť vždy rok pred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asielaním správy  do EK (2006, 2012 a pod.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né biotopy sú špecifické tým, že sa vyvíjajú v dlhšom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časovom horizonte ako hodnotiace správy (cca 100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rokov) a je otázne ako sa postaviť k prirodzeným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menám v rámci vývoja lesných ekosystémov a ich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opadu na PSZ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5228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Realizácia monitoring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apovanie lesných biotopov – zisťovanie vstupných dát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 rámci ČMS Biota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 ÚEV, kde sa pripravujú Programy starostlivosti,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alebo sa začnú pripravovať v roku 2005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abezpečované internými aj externými kapacitami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onitoring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yužívanie dát z mapovania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yužívanie dát z databáz Lesoprojekt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spracovávanie, vyhodnocovanie, a zisťovanie dát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berovými metódami, je nutné pripraviť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9680" y="155520"/>
            <a:ext cx="83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ákladné východiská pre systém monitoringu v 10 nÚE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228600"/>
            <a:ext cx="876312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Uznesenie vlády SR č.239 zo 17. marca 2004 k národnému zoznamu navrhovaných území európskeho význam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úloha B2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uložená ministrovi pôdohospodárstva do 31. 12.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- pripraviť a na schválenie vláde predložiť projekt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onitoringu lesných ekosystémov v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územiach zaradených do siete NATURA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- MP SR pripravilo: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1. Projekt NIL – 8.2004 (ŠOP SR a MŽP SR –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ripomienkovali ako nepoužiteľný pre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komplexné naplnenie úlohy B2)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2. Projekt monitoringu lesných ekosystémov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-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12.2004 (ŠOP SR, MŽP SR – pripomienkovalo –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23 pripomienok, 22 bolo akceptovaných, 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materiál ??? – nevieme či bol predložený vláde)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52280"/>
            <a:ext cx="8991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ANCEE projekt 2004 – Natura 2000 v SR – Preklenutie implementačného proces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racovná skupina pre lesné biotopy (LVÚ,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oprojekt,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EFRA, ŠOP SR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úloha 3 – Koncept monitoringu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3.1. – Zhodnotenie existujúcich metód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onitorovania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3.3. – Pripraviť koncept monitoringu európsky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znamných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odpovednosť EFRA – prof. Šmelko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ripravený v zmysle projektu monitorovania lesných ekosystémov podľa úlohy B2  z uznesenia a podľa hodnotenia priaznivého stavu zachovania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15. – 16. 11. 2004 – seminár v Bratislave, kde bol predstavený koncept monitoringu lesných biotopov – prezentácia prof. Šmelko - dostupná na web stránke ŠOP SR 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www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.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sopsr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5"/>
              </a:rPr>
              <a:t>.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6"/>
              </a:rPr>
              <a:t>sk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7"/>
              </a:rPr>
              <a:t>/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8"/>
              </a:rPr>
              <a:t>natura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9"/>
              </a:rPr>
              <a:t>/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0"/>
              </a:rPr>
              <a:t>doc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1"/>
              </a:rPr>
              <a:t>/monitoring/3/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2"/>
              </a:rPr>
              <a:t>lb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3"/>
              </a:rPr>
              <a:t>_koncept.</a:t>
            </a:r>
            <a:r>
              <a:rPr b="0" lang="sk-SK" sz="2400" spc="-1" strike="noStrike" u="sng">
                <a:solidFill>
                  <a:srgbClr val="0000cc"/>
                </a:solidFill>
                <a:uFillTx/>
                <a:latin typeface="Arial"/>
                <a:hlinkClick r:id="rId14"/>
              </a:rPr>
              <a:t>ppt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685800"/>
            <a:ext cx="8839440" cy="3809880"/>
            <a:chOff x="152280" y="685800"/>
            <a:chExt cx="8839440" cy="3809880"/>
          </a:xfrm>
        </p:grpSpPr>
        <p:sp>
          <p:nvSpPr>
            <p:cNvPr id="53" name=""/>
            <p:cNvSpPr/>
            <p:nvPr/>
          </p:nvSpPr>
          <p:spPr>
            <a:xfrm>
              <a:off x="3581280" y="685800"/>
              <a:ext cx="251460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a50021"/>
                  </a:solidFill>
                  <a:latin typeface="Arial"/>
                </a:rPr>
                <a:t>Definovanie priaznivého </a:t>
              </a:r>
              <a:endParaRPr b="0" lang="en-US" sz="1600" spc="-1" strike="noStrike">
                <a:solidFill>
                  <a:srgbClr val="a50021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a50021"/>
                  </a:solidFill>
                  <a:latin typeface="Arial"/>
                </a:rPr>
                <a:t>stavu zachovania (PSZ)</a:t>
              </a:r>
              <a:endParaRPr b="0" lang="en-US" sz="16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80880" y="1600200"/>
              <a:ext cx="8382240" cy="2895480"/>
              <a:chOff x="380880" y="1600200"/>
              <a:chExt cx="8382240" cy="2895480"/>
            </a:xfrm>
          </p:grpSpPr>
          <p:sp>
            <p:nvSpPr>
              <p:cNvPr id="55" name=""/>
              <p:cNvSpPr/>
              <p:nvPr/>
            </p:nvSpPr>
            <p:spPr>
              <a:xfrm>
                <a:off x="4038480" y="1600200"/>
                <a:ext cx="1828800" cy="5331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Hodnotenie PSZ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200" spc="-1" strike="noStrike">
                    <a:solidFill>
                      <a:srgbClr val="a50021"/>
                    </a:solidFill>
                    <a:latin typeface="Arial"/>
                  </a:rPr>
                  <a:t>(lokalitné, národné)</a:t>
                </a:r>
                <a:endParaRPr b="0" lang="en-US" sz="12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58000" y="1600200"/>
                <a:ext cx="1905120" cy="5331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Reporting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200" spc="-1" strike="noStrike">
                    <a:solidFill>
                      <a:srgbClr val="a50021"/>
                    </a:solidFill>
                    <a:latin typeface="Arial"/>
                  </a:rPr>
                  <a:t>Správy o stave pre EK</a:t>
                </a:r>
                <a:endParaRPr b="0" lang="en-US" sz="12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81680" y="1676160"/>
                <a:ext cx="976320" cy="152640"/>
              </a:xfrm>
              <a:prstGeom prst="rightArrow">
                <a:avLst>
                  <a:gd name="adj1" fmla="val 50000"/>
                  <a:gd name="adj2" fmla="val 159906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0880" y="2361960"/>
                <a:ext cx="2590920" cy="533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Spracovanie 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Progr. starostlivosti (PS)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05120" y="3124080"/>
                <a:ext cx="2209680" cy="6094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Realizácia PS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400000">
                <a:off x="4343040" y="1977840"/>
                <a:ext cx="144360" cy="1320840"/>
              </a:xfrm>
              <a:prstGeom prst="downArrow">
                <a:avLst>
                  <a:gd name="adj1" fmla="val 50000"/>
                  <a:gd name="adj2" fmla="val 228741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Informácie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o efektivite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0640000">
                <a:off x="1976400" y="1996560"/>
                <a:ext cx="2133720" cy="136440"/>
              </a:xfrm>
              <a:prstGeom prst="leftArrow">
                <a:avLst>
                  <a:gd name="adj1" fmla="val 50000"/>
                  <a:gd name="adj2" fmla="val 390963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Podklady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 </a:t>
                </a: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pre opatrenia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14600" y="2895480"/>
                <a:ext cx="152280" cy="228600"/>
              </a:xfrm>
              <a:prstGeom prst="downArrow">
                <a:avLst>
                  <a:gd name="adj1" fmla="val 50000"/>
                  <a:gd name="adj2" fmla="val 37530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81080" y="3962160"/>
                <a:ext cx="3733920" cy="533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ÚEV, CHVÚ, 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európsky významné biotopy a druhy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19520" y="3733560"/>
                <a:ext cx="152280" cy="228600"/>
              </a:xfrm>
              <a:prstGeom prst="downArrow">
                <a:avLst>
                  <a:gd name="adj1" fmla="val 50000"/>
                  <a:gd name="adj2" fmla="val 37530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248520" y="2438280"/>
                <a:ext cx="2209680" cy="10666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Monitoring PSZ 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biotopov a druhov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a území vyčlenených 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ff0000"/>
                    </a:solidFill>
                    <a:latin typeface="Arial"/>
                  </a:rPr>
                  <a:t>na ich ochranu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2420000">
                <a:off x="5805360" y="2133360"/>
                <a:ext cx="976320" cy="152640"/>
              </a:xfrm>
              <a:prstGeom prst="rightArrow">
                <a:avLst>
                  <a:gd name="adj1" fmla="val 50000"/>
                  <a:gd name="adj2" fmla="val 159906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a50021"/>
                    </a:solidFill>
                    <a:latin typeface="Arial"/>
                  </a:rPr>
                  <a:t>Dáta</a:t>
                </a:r>
                <a:endParaRPr b="0" lang="en-US" sz="16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5717880" y="3136680"/>
                <a:ext cx="152640" cy="1066680"/>
              </a:xfrm>
              <a:prstGeom prst="downArrow">
                <a:avLst>
                  <a:gd name="adj1" fmla="val 50000"/>
                  <a:gd name="adj2" fmla="val 174705"/>
                </a:avLst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a50021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4724280" y="1295280"/>
              <a:ext cx="152640" cy="216000"/>
            </a:xfrm>
            <a:prstGeom prst="downArrow">
              <a:avLst>
                <a:gd name="adj1" fmla="val 50000"/>
                <a:gd name="adj2" fmla="val 35377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280" y="1523880"/>
              <a:ext cx="8839440" cy="0"/>
            </a:xfrm>
            <a:prstGeom prst="line">
              <a:avLst/>
            </a:prstGeom>
            <a:ln w="255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50021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6080" y="152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Ciele monitoringu lesných biotopov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4495680"/>
            <a:ext cx="8915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odklad pre vypracovanie hodnotiacich správ o stave biotopov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odklad pre hodnotenie stavu zachovania biotopov a podklad pre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spracovanie programov starostlivosti o ÚEV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odklad pre posudzovanie účinkov realizovaných manažmentových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opatrení v ÚEV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podklad pre posudzovanie vplyvov iných činností na stav a vývoj 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biotopov v ÚEV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320" y="152280"/>
            <a:ext cx="899136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chodiská monitoringu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19 typov lesných biotopov (8 prioritných typov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očet výskytov (lokalít) jednotlivých biotopov je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ariabilný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(napr. 91N0 – 1 známa lokalita v SR,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9130 - ??? veľký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očet lokalít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charakter výskytu jednotlivých biotopov je rozdielny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(výmera, teritoriálny rozptyl v SR, iné), napr.: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80* - v celej SR, rozstrúsene, zväčša na menších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plochách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410 – zväčša súvislý  rozsiahly výskyt vo vyšších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polohách, ale aj menšieho rozsahu na podmáčaných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plochách a iné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30 – v celej SR na väčších súvislejších plochách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E0* - líniový charakter výskytu (3 biotopy v SR)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90 – výskyt len na Záhorí,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70 – výskyt len v Popradskej a Spišskej kotline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M0, 91G0*, Ls2.1 – ťažká identifikácia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a50021"/>
                </a:solidFill>
                <a:latin typeface="Arial"/>
              </a:rPr>
              <a:t>91H0* - prelínanie s nelesnými typmi biotopov a pod.</a:t>
            </a:r>
            <a:endParaRPr b="0" lang="en-US" sz="23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1200" y="76320"/>
            <a:ext cx="63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chodiská monitoringu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2920" y="609480"/>
          <a:ext cx="8893080" cy="6161040"/>
        </p:xfrm>
        <a:graphic>
          <a:graphicData uri="http://schemas.openxmlformats.org/drawingml/2006/table">
            <a:tbl>
              <a:tblPr/>
              <a:tblGrid>
                <a:gridCol w="3535200"/>
                <a:gridCol w="5357880"/>
              </a:tblGrid>
              <a:tr h="70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Základná informácia o lesnom biotope na hodnotenom území 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(resp. kritéria na národnej úrovni)</a:t>
                      </a:r>
                      <a:endParaRPr b="0" lang="en-US" sz="18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Výmera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(plocha biotopu; areál biotopu)</a:t>
                      </a:r>
                      <a:endParaRPr b="0" lang="en-US" sz="20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Súčasná výmera biotopu na hodnotenom území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Potenciálna výmera biotopu</a:t>
                      </a:r>
                      <a:r>
                        <a:rPr b="1" lang="sk-SK" sz="18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(na základe pokladov lesníckych typologických máp po transformácii jednotiek na biotopové)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Hodnotenie stavu lesného biotopu z hľadiska jeho ochrany (FCS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Kritériá (FCS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2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Indikátory (FCS)</a:t>
                      </a:r>
                      <a:endParaRPr b="0" lang="en-US" sz="22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Typické druhy biotopu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Druhové zloženie stromovej vrstvy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(miera priblíženia k modelu a výskyt inváznych drevín)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Bylinné druhy a kry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Štruktúra lesného biotopu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Veková štruktúra</a:t>
                      </a:r>
                      <a:r>
                        <a:rPr b="1" lang="sk-SK" sz="18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(vývojové štádiá a rastové stupne);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Prirodzené zmladenie drevín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Priestorová štruktúra</a:t>
                      </a:r>
                      <a:r>
                        <a:rPr b="1" lang="sk-SK" sz="18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(vertikálna, horizontálna, štrukturálna mozaikovitosť)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Hrubé a zvlášť cenné stromy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Hrubé mŕtve drevo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Negatívne vplyvy 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1081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Negatívne faktory 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1081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Zdravotný stav</a:t>
                      </a:r>
                      <a:r>
                        <a:rPr b="1" lang="sk-SK" sz="18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(ako výsledok vplyvu negatívnych faktorov, rozdrobenosť, veľkosť)</a:t>
                      </a:r>
                      <a:endParaRPr b="0" lang="en-US" sz="14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  <a:p>
                      <a:pPr marL="263520" indent="-263520"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Symbol" charset="2"/>
                        <a:buChar char=""/>
                        <a:tabLst>
                          <a:tab algn="l" pos="1081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700" spc="-1" strike="noStrike">
                          <a:solidFill>
                            <a:srgbClr val="663300"/>
                          </a:solidFill>
                          <a:latin typeface="Arial"/>
                          <a:ea typeface="Times New Roman"/>
                        </a:rPr>
                        <a:t>Širšie priestorové súvislosti</a:t>
                      </a:r>
                      <a:endParaRPr b="0" lang="en-US" sz="1700" spc="-1" strike="noStrike">
                        <a:solidFill>
                          <a:srgbClr val="a50021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22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76320"/>
            <a:ext cx="899136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chodiská monitoringu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ostupnosť a relevantnosť existujúcich dát o lesných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biotopoch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neúplný východiskový stav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(chýba základná porovnávacia báza –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sťažuje vypracovávanie Progr. starostliv., ale aj prípravu monitoringu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dáta z databázy LHP (Lesoprojekt) – opis porast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obsahujú viaceré dáta vhodné z hľadiska hodnotenia FCS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1/10 SR každý rok obnovovaná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z iných častí databáz a iných databáz (Lesoprojektu) dohodnúť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poskytnutie iných dát dôležitých z hľadiska  hodnotenia PSZ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zdravotný stav lesa a iné databázy LVÚ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zdravotný stav lesa – nepoužiteľné z hľadiska PSZ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ostatné – viažu sa zväčša na konkrétne výskumné plochy – nie sú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dostatočne reprezentatívne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apovanie lesných biotopov !!!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pilotne prebehlo v roku 2004 v DANCEE projekte na 3 ÚEV –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predovšetkým ako podklad k spracovaniu prog. starostlivosti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je potrebné dopracovať systém zberu a vyhodnocovania dát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(kompatibilita s ISTB a pod.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zamerať sa na dáta, ktoré nie je možné získať z existujúcich 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databáz (mŕtve drevo, štruktúra, a pod.)</a:t>
            </a:r>
            <a:endParaRPr b="0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Hierarchické úrovne monitorovania a vyhodnocovania monitoringu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Slovensko / biogeografický región / areál rozšírenia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ných biotopov (lesné biotopy hodnotené v rámci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celého Slovenska, t.j aj stav mimo vyčlenených ÚEV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né biotopy v rámci vyčlenených Území európskeho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znamu (celkovo – t.j. akým spôsobom prispievajú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k udržaniu alebo zlepšovaniu stavu zachovania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biotopov, úroveň jednotlivých ÚEV bude len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omocná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lesné biotopy na jednotlivých lokalitách výskytu (??? –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priestorové jednotky definované v definíciách PSZ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alebo až JPRL – čo by zjednodušilo systém 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onitorovania, ale aj iné úlohy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76320"/>
            <a:ext cx="89154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Metódy monitorovania lesných biotopo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Celoplošné zisťovanie údajov – podrobné mapovanie všetkých dát o biotope nevyhnutných k určeniu stavu zachovania – vhodné pre menšie ÚEV, resp. vzácne biotopy málo preskúmané, východiskové dáta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yužívanie údajov z existujúcich databáz – vhodné len pre celoslovenské hodnotenie a rozsiahlejšie ÚEV (dáta o chybajúcich kritériach a indikátoroch sú nahradené  zástupnými kritériami a indikátormi – spracované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yužívanie údajov z existujúcich databáz dopĺňané mapovaním chýbajúcich dát v databázach, pre kľúčové biotopy v ÚEV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a50021"/>
                </a:solidFill>
                <a:latin typeface="Arial"/>
              </a:rPr>
              <a:t>Výberové zisťovanie údajov (možné v neskoršej fáze monitorovania, keď sú k dispozícií východiskové dáta), využívanie matematicko-štatistických metód – vhodné pre biotopy s rozsiahlym rozšírením v rámci SR – založenie monitorovacích plôch (kruhy, pásy, polygóny a pod.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08:04:55Z</dcterms:created>
  <dc:creator>ŠOP SR</dc:creator>
  <dc:description/>
  <dc:language>en-US</dc:language>
  <cp:lastModifiedBy>ŠOP SR</cp:lastModifiedBy>
  <dcterms:modified xsi:type="dcterms:W3CDTF">2005-03-14T14:04:07Z</dcterms:modified>
  <cp:revision>9</cp:revision>
  <dc:subject/>
  <dc:title>Prezentace aplikace PowerPoint</dc:title>
</cp:coreProperties>
</file>