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8666-579D-4E2C-9946-70B1DCB3D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DC04-AB50-40FF-8ED7-73CB0A48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80C7-5B6A-4718-9F83-A8E801A62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2D16-FEEB-4264-9CC1-D229767E7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6C7A-3364-42AF-8696-DDCEAD48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583B-1DB9-47CA-8605-E9090F0B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C96F-E185-495F-A423-B6F61FAC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380A-22DF-4101-A8BD-BB930D9D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0F72-3B61-4869-A8A0-9D264E87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2D16-2EB2-4702-9873-C545EFED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10B7-C62B-4F33-9686-6717F107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F015-9559-4A77-9A17-F570E56F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6375-085E-4565-9C4A-24D3A3CCF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" y="-3240"/>
            <a:ext cx="9142560" cy="6890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hare logo" descr=""/>
          <p:cNvPicPr/>
          <p:nvPr/>
        </p:nvPicPr>
        <p:blipFill>
          <a:blip r:embed="rId1"/>
          <a:stretch/>
        </p:blipFill>
        <p:spPr>
          <a:xfrm>
            <a:off x="76320" y="76320"/>
            <a:ext cx="761760" cy="380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62200" y="227880"/>
            <a:ext cx="189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TWINNING SK 2002 IB/EN/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94040" y="304920"/>
            <a:ext cx="103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NATURA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9520" y="243828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URA 2000</a:t>
            </a:r>
            <a:br>
              <a:rPr sz="4000"/>
            </a:b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Príklady monitoringu v Nemecku</a:t>
            </a:r>
            <a:br>
              <a:rPr sz="4000"/>
            </a:b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Rastlinné druhy európskeho význymu</a:t>
            </a:r>
            <a:br>
              <a:rPr sz="2800"/>
            </a:br>
            <a:br>
              <a:rPr sz="28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lbert Lang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Bayerisches Langesamt fur Umweltschutz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424720" y="46080"/>
            <a:ext cx="59076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íklady monitorin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440" y="-3240"/>
            <a:ext cx="9142560" cy="689040"/>
            <a:chOff x="1440" y="-3240"/>
            <a:chExt cx="9142560" cy="689040"/>
          </a:xfrm>
        </p:grpSpPr>
        <p:sp>
          <p:nvSpPr>
            <p:cNvPr id="49" name=""/>
            <p:cNvSpPr/>
            <p:nvPr/>
          </p:nvSpPr>
          <p:spPr>
            <a:xfrm>
              <a:off x="1440" y="-3240"/>
              <a:ext cx="9142560" cy="6890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hare logo" descr=""/>
            <p:cNvPicPr/>
            <p:nvPr/>
          </p:nvPicPr>
          <p:blipFill>
            <a:blip r:embed="rId1"/>
            <a:stretch/>
          </p:blipFill>
          <p:spPr>
            <a:xfrm>
              <a:off x="76320" y="76320"/>
              <a:ext cx="76176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862200" y="227880"/>
              <a:ext cx="189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WINNING SK 2002 IB/EN/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394040" y="304920"/>
              <a:ext cx="1031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NATURA 2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8424720" y="46080"/>
              <a:ext cx="590760" cy="49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"/>
          <p:cNvSpPr/>
          <p:nvPr/>
        </p:nvSpPr>
        <p:spPr>
          <a:xfrm>
            <a:off x="457200" y="2133720"/>
            <a:ext cx="571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smernice o biotopo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ypripedium calceo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desia parnassifo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phagnum sp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ing C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pripedium calceol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 bavorskom proje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9960" y="1760400"/>
            <a:ext cx="4800600" cy="28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r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ura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enschutzkartierung (A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enhilfsprogramm (AH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tierungen des AHO Bay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440" y="-3240"/>
            <a:ext cx="9142560" cy="689040"/>
            <a:chOff x="1440" y="-3240"/>
            <a:chExt cx="9142560" cy="689040"/>
          </a:xfrm>
        </p:grpSpPr>
        <p:sp>
          <p:nvSpPr>
            <p:cNvPr id="58" name=""/>
            <p:cNvSpPr/>
            <p:nvPr/>
          </p:nvSpPr>
          <p:spPr>
            <a:xfrm>
              <a:off x="1440" y="-3240"/>
              <a:ext cx="9142560" cy="6890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hare logo" descr=""/>
            <p:cNvPicPr/>
            <p:nvPr/>
          </p:nvPicPr>
          <p:blipFill>
            <a:blip r:embed="rId1"/>
            <a:stretch/>
          </p:blipFill>
          <p:spPr>
            <a:xfrm>
              <a:off x="76320" y="76320"/>
              <a:ext cx="76176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862200" y="227880"/>
              <a:ext cx="189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WINNING SK 2002 IB/EN/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394040" y="304920"/>
              <a:ext cx="1031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NATURA 2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8424720" y="46080"/>
              <a:ext cx="590760" cy="49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"/>
          <p:cNvSpPr/>
          <p:nvPr/>
        </p:nvSpPr>
        <p:spPr>
          <a:xfrm>
            <a:off x="4724280" y="1770120"/>
            <a:ext cx="4419720" cy="47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atura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ersuchungen in FFH-Gebieten für Managementplä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schlag zur FFH-Method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3581280"/>
            <a:ext cx="990720" cy="304920"/>
          </a:xfrm>
          <a:prstGeom prst="rightArrow">
            <a:avLst>
              <a:gd name="adj1" fmla="val 50000"/>
              <a:gd name="adj2" fmla="val 8122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3048120"/>
            <a:ext cx="152280" cy="144756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3448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iter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847880"/>
            <a:ext cx="3457440" cy="501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38080" y="2133720"/>
            <a:ext cx="2611440" cy="389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nitoring C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pripedium calceolu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v Bavorsku</a:t>
            </a:r>
            <a:br>
              <a:rPr sz="3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enschutzkartierung (ASK) und Artenhilfsprogramm (AH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440" y="-3240"/>
            <a:ext cx="9142560" cy="689040"/>
            <a:chOff x="1440" y="-3240"/>
            <a:chExt cx="9142560" cy="689040"/>
          </a:xfrm>
        </p:grpSpPr>
        <p:sp>
          <p:nvSpPr>
            <p:cNvPr id="71" name=""/>
            <p:cNvSpPr/>
            <p:nvPr/>
          </p:nvSpPr>
          <p:spPr>
            <a:xfrm>
              <a:off x="1440" y="-3240"/>
              <a:ext cx="9142560" cy="6890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Phare logo" descr=""/>
            <p:cNvPicPr/>
            <p:nvPr/>
          </p:nvPicPr>
          <p:blipFill>
            <a:blip r:embed="rId3"/>
            <a:stretch/>
          </p:blipFill>
          <p:spPr>
            <a:xfrm>
              <a:off x="76320" y="76320"/>
              <a:ext cx="76176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862200" y="227880"/>
              <a:ext cx="189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WINNING SK 2002 IB/EN/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394040" y="304920"/>
              <a:ext cx="1031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NATURA 2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" descr=""/>
            <p:cNvPicPr/>
            <p:nvPr/>
          </p:nvPicPr>
          <p:blipFill>
            <a:blip r:embed="rId4"/>
            <a:stretch/>
          </p:blipFill>
          <p:spPr>
            <a:xfrm>
              <a:off x="8424720" y="46080"/>
              <a:ext cx="590760" cy="490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3429000" y="1828800"/>
            <a:ext cx="571500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6469200" y="3581280"/>
            <a:ext cx="267480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 rot="5400000">
            <a:off x="7010280" y="3733920"/>
            <a:ext cx="1067040" cy="30456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2133720"/>
            <a:ext cx="1067040" cy="30456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228600" y="2446200"/>
            <a:ext cx="5867280" cy="4411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2057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2057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A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24480" y="2031840"/>
            <a:ext cx="30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Eingabeprogramm PC-ASK für die Datenbank FisN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77120" y="45720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Arealkar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0800000">
            <a:off x="5181480" y="2514240"/>
            <a:ext cx="1067040" cy="304920"/>
          </a:xfrm>
          <a:prstGeom prst="rightArrow">
            <a:avLst>
              <a:gd name="adj1" fmla="val 50000"/>
              <a:gd name="adj2" fmla="val 8748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24382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Fin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66000" y="66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FH-Monitoring von C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pripedium calceolu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Deutschland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rschlag zur Method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440" y="-3240"/>
            <a:ext cx="9142560" cy="689040"/>
            <a:chOff x="1440" y="-3240"/>
            <a:chExt cx="9142560" cy="689040"/>
          </a:xfrm>
        </p:grpSpPr>
        <p:sp>
          <p:nvSpPr>
            <p:cNvPr id="89" name=""/>
            <p:cNvSpPr/>
            <p:nvPr/>
          </p:nvSpPr>
          <p:spPr>
            <a:xfrm>
              <a:off x="1440" y="-3240"/>
              <a:ext cx="9142560" cy="6890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hare logo" descr=""/>
            <p:cNvPicPr/>
            <p:nvPr/>
          </p:nvPicPr>
          <p:blipFill>
            <a:blip r:embed="rId1"/>
            <a:stretch/>
          </p:blipFill>
          <p:spPr>
            <a:xfrm>
              <a:off x="76320" y="76320"/>
              <a:ext cx="76176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62200" y="227880"/>
              <a:ext cx="189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WINNING SK 2002 IB/EN/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394040" y="304920"/>
              <a:ext cx="1031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NATURA 2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8424720" y="46080"/>
              <a:ext cx="590760" cy="49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"/>
          <p:cNvSpPr/>
          <p:nvPr/>
        </p:nvSpPr>
        <p:spPr>
          <a:xfrm>
            <a:off x="6095880" y="6629400"/>
            <a:ext cx="304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sentation_plant monitoring_draft1, STE Lang Albe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1962000"/>
            <a:ext cx="7772400" cy="1557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schläge aus den Bundesländern zur Bewertung des Erhaltungszustandes führen zu einem Vorschlag, der in einer Arbeitsgruppe der Länder und des Bundes erarbeitet wurde (s. www.bfn.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0" y="3809880"/>
            <a:ext cx="2131920" cy="304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295280" y="3809880"/>
            <a:ext cx="2516400" cy="304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2514600" y="3581280"/>
            <a:ext cx="6438960" cy="3276720"/>
          </a:xfrm>
          <a:prstGeom prst="borderCallout2">
            <a:avLst>
              <a:gd name="adj1" fmla="val 18750"/>
              <a:gd name="adj2" fmla="val -8333"/>
              <a:gd name="adj3" fmla="val 3486"/>
              <a:gd name="adj4" fmla="val -20439"/>
              <a:gd name="adj5" fmla="val 55958"/>
              <a:gd name="adj6" fmla="val -26601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3565440"/>
            <a:ext cx="655308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zugsraum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ldung von Wuchsort(komplex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opulationsgröße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ndividuenzählung oder Hochrechnung aus Stichpro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italität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Fertilitätsrate (fertile, sterile und fruchtende Spros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ort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.a. Vegetationsaufnahmen, pH-W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einträchtigunge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Flächenanteil schät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hythmus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jährlich im Juli-Aug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FH-Monitoring von C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pripedium calceolu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Deutschland - Bayerisch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rschlag zur Method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40" y="-3240"/>
            <a:ext cx="9142560" cy="689040"/>
            <a:chOff x="1440" y="-3240"/>
            <a:chExt cx="9142560" cy="689040"/>
          </a:xfrm>
        </p:grpSpPr>
        <p:sp>
          <p:nvSpPr>
            <p:cNvPr id="102" name=""/>
            <p:cNvSpPr/>
            <p:nvPr/>
          </p:nvSpPr>
          <p:spPr>
            <a:xfrm>
              <a:off x="1440" y="-3240"/>
              <a:ext cx="9142560" cy="6890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Phare logo" descr=""/>
            <p:cNvPicPr/>
            <p:nvPr/>
          </p:nvPicPr>
          <p:blipFill>
            <a:blip r:embed="rId1"/>
            <a:stretch/>
          </p:blipFill>
          <p:spPr>
            <a:xfrm>
              <a:off x="76320" y="76320"/>
              <a:ext cx="76176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862200" y="227880"/>
              <a:ext cx="189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WINNING SK 2002 IB/EN/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4040" y="304920"/>
              <a:ext cx="1031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NATURA 2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8424720" y="46080"/>
              <a:ext cx="590760" cy="490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2017800" cy="2971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914400" y="3886200"/>
            <a:ext cx="1995480" cy="2971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1905120" y="3886200"/>
            <a:ext cx="1990440" cy="2971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2819520" y="3886200"/>
            <a:ext cx="2022480" cy="2971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3733920" y="3886200"/>
            <a:ext cx="2249280" cy="2971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171440" y="1905120"/>
            <a:ext cx="6801120" cy="3809880"/>
          </a:xfrm>
          <a:prstGeom prst="borderCallout2">
            <a:avLst>
              <a:gd name="adj1" fmla="val 18750"/>
              <a:gd name="adj2" fmla="val -8333"/>
              <a:gd name="adj3" fmla="val 3000"/>
              <a:gd name="adj4" fmla="val -5486"/>
              <a:gd name="adj5" fmla="val 69625"/>
              <a:gd name="adj6" fmla="val -6837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1160" y="1962000"/>
            <a:ext cx="693432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zugsraum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s 5 oder über 5 Teilbestä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opulationsgröße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ndividuenzählung oder Hochrechnung aus Stichpro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italität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Fertilität durch Zählung von Sprossen mit 1 Blüte oder mehr als 1 Blü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ort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.a. Vegetationsaufnahmen, pH-W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einträchtigunge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Flächenanteil schät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hythmus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ur Erfassung 2x im Jahr, Monitoring im 3-Jahres- bzw. 6-Jahres-Rhyth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2227320" cy="3352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447920" y="3505320"/>
            <a:ext cx="2319120" cy="33526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FH-Monitoring von C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ldesia parnassifol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Deutschland - Bayerisch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rschlag zur Method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440" y="-3240"/>
            <a:ext cx="9142560" cy="689040"/>
            <a:chOff x="1440" y="-3240"/>
            <a:chExt cx="9142560" cy="689040"/>
          </a:xfrm>
        </p:grpSpPr>
        <p:sp>
          <p:nvSpPr>
            <p:cNvPr id="118" name=""/>
            <p:cNvSpPr/>
            <p:nvPr/>
          </p:nvSpPr>
          <p:spPr>
            <a:xfrm>
              <a:off x="1440" y="-3240"/>
              <a:ext cx="9142560" cy="6890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hare logo" descr=""/>
            <p:cNvPicPr/>
            <p:nvPr/>
          </p:nvPicPr>
          <p:blipFill>
            <a:blip r:embed="rId3"/>
            <a:stretch/>
          </p:blipFill>
          <p:spPr>
            <a:xfrm>
              <a:off x="76320" y="76320"/>
              <a:ext cx="76176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862200" y="227880"/>
              <a:ext cx="189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WINNING SK 2002 IB/EN/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94040" y="304920"/>
              <a:ext cx="1031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NATURA 2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4"/>
            <a:stretch/>
          </p:blipFill>
          <p:spPr>
            <a:xfrm>
              <a:off x="8424720" y="46080"/>
              <a:ext cx="590760" cy="49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"/>
          <p:cNvSpPr/>
          <p:nvPr/>
        </p:nvSpPr>
        <p:spPr>
          <a:xfrm>
            <a:off x="2209680" y="1905120"/>
            <a:ext cx="6667560" cy="4343400"/>
          </a:xfrm>
          <a:prstGeom prst="borderCallout2">
            <a:avLst>
              <a:gd name="adj1" fmla="val 18750"/>
              <a:gd name="adj2" fmla="val -8333"/>
              <a:gd name="adj3" fmla="val 2629"/>
              <a:gd name="adj4" fmla="val -17523"/>
              <a:gd name="adj5" fmla="val 61074"/>
              <a:gd name="adj6" fmla="val -22546"/>
            </a:avLst>
          </a:prstGeom>
          <a:solidFill>
            <a:srgbClr val="ffcc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1981080"/>
            <a:ext cx="655344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zugsraum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indigenen Bestände in Deutsch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opulationsgröße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ndividuenzählung und / oder Hochrechnung aus Deckung (0,04qm = 1 Exempl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italität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erzicht auf Turionen- und Blüten-Zäh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ort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Gewässerchemismus (z.B. pH-We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einträchtigunge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Flächenanteil der begleitenden Arten und der Beschattung in 10%-Schritten schät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hythmus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biotische Ersterfassung im Monatsrhythmus, Nutzung 2x jährlich, Monitoring im 2-Jahres-Rhythmus (abiotische Faktoren eventuell jährli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H-Monitoringkonzept fü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phagnum spp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hlt bislang für Deutsch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2209680"/>
            <a:ext cx="8229600" cy="3733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2286000"/>
            <a:ext cx="838188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schla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k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fung mit dem Monitoring der Moor- Lebensraumtypen, das sind 3160, 7110-7150, 7230 und 91D0 (Achtung: es fehlen die sauren Niedermoor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knüpfung mit dem Monitoring der Moor-dominierten SAC-Gebi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g bei aktuellen Problemen, z.B. grossf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gem Torfabbau. Dazu sind Referenzwerte notwendi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440" y="-3240"/>
            <a:ext cx="9142560" cy="689040"/>
            <a:chOff x="1440" y="-3240"/>
            <a:chExt cx="9142560" cy="689040"/>
          </a:xfrm>
        </p:grpSpPr>
        <p:sp>
          <p:nvSpPr>
            <p:cNvPr id="129" name=""/>
            <p:cNvSpPr/>
            <p:nvPr/>
          </p:nvSpPr>
          <p:spPr>
            <a:xfrm>
              <a:off x="1440" y="-3240"/>
              <a:ext cx="9142560" cy="6890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hare logo" descr=""/>
            <p:cNvPicPr/>
            <p:nvPr/>
          </p:nvPicPr>
          <p:blipFill>
            <a:blip r:embed="rId1"/>
            <a:stretch/>
          </p:blipFill>
          <p:spPr>
            <a:xfrm>
              <a:off x="76320" y="76320"/>
              <a:ext cx="76176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862200" y="227880"/>
              <a:ext cx="189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WINNING SK 2002 IB/EN/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4040" y="304920"/>
              <a:ext cx="1031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NATURA 2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8424720" y="46080"/>
              <a:ext cx="590760" cy="490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6T13:57:58Z</dcterms:created>
  <dc:creator>BB</dc:creator>
  <dc:description/>
  <dc:language>en-US</dc:language>
  <cp:lastModifiedBy>Medveďová</cp:lastModifiedBy>
  <dcterms:modified xsi:type="dcterms:W3CDTF">2006-01-26T14:16:19Z</dcterms:modified>
  <cp:revision>52</cp:revision>
  <dc:subject/>
  <dc:title>Slide 1</dc:title>
</cp:coreProperties>
</file>