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450A1-2581-42EF-AD46-4070A1576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63E92-BCC9-4EBC-AEDA-6CB7447EC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30B18-D46A-4353-95A0-55263266D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9AB01-81D8-483A-BD6F-BE0C1393C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EB3F5-5C34-4F87-A524-835288D70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5F4C3-A68A-4EE0-95BF-D90549E5C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847D4-36B8-4A72-858A-406A39F14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88A3A-2D6A-4E34-894C-1CA9AE266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14945-D711-4A19-AFF1-CDCDCA23B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8168C-149B-4B54-B29F-9885039B6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55E3E-43D8-4BCC-A723-74A1F2649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619BD-9BD4-4059-92C4-E103FFEFE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B43B3-0749-43BD-8D04-9D9E242D2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7B5F0-37D5-4ABD-A31E-AD415D396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FBF67-CC26-491B-88CE-628DF1D6F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7EAA7-F994-4727-82DC-AB815953B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FFEF9-7999-4658-9FD5-3C9EF011B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7D0B9-9B90-401A-BDC5-57C2590ED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6AA71-9511-4FF1-920F-F7C440516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6E0BD-D6F3-4906-8E3B-F5C7B8147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42CFA-A36F-4939-BF88-933ABC162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8F78E-F5A1-43A0-BA6B-241F353A6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76620-BDE3-41FD-9873-0229C0BC3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42249-B55B-4D43-B9C7-0959893FB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Expbanna" descr=""/>
          <p:cNvPicPr/>
          <p:nvPr/>
        </p:nvPicPr>
        <p:blipFill>
          <a:blip r:embed="rId3"/>
          <a:stretch/>
        </p:blipFill>
        <p:spPr>
          <a:xfrm>
            <a:off x="0" y="0"/>
            <a:ext cx="6858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9D2B4-492C-41AC-AAF4-DA0CA40B0598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EXPHORSA" descr=""/>
          <p:cNvPicPr/>
          <p:nvPr/>
        </p:nvPicPr>
        <p:blipFill>
          <a:blip r:embed="rId4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36AA1-21EC-4626-9FB6-0E651BA6DE1D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0" y="0"/>
            <a:ext cx="6362640" cy="6858000"/>
            <a:chOff x="0" y="0"/>
            <a:chExt cx="6362640" cy="6858000"/>
          </a:xfrm>
        </p:grpSpPr>
        <p:pic>
          <p:nvPicPr>
            <p:cNvPr id="48" name="Expbanna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6858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EXPHORSA" descr=""/>
            <p:cNvPicPr/>
            <p:nvPr/>
          </p:nvPicPr>
          <p:blipFill>
            <a:blip r:embed="rId4"/>
            <a:stretch/>
          </p:blipFill>
          <p:spPr>
            <a:xfrm>
              <a:off x="3505320" y="5715000"/>
              <a:ext cx="2857320" cy="95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0" name="EXPHORSA" descr=""/>
          <p:cNvPicPr/>
          <p:nvPr/>
        </p:nvPicPr>
        <p:blipFill>
          <a:blip r:embed="rId5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482400"/>
                </a:solidFill>
                <a:latin typeface="Times New Roman"/>
              </a:rPr>
              <a:t>Monitoring európsky významných rastlinných druhov na Slovensku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7524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Ing. Marta Kubandov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482400"/>
                </a:solidFill>
                <a:latin typeface="Times New Roman"/>
              </a:rPr>
              <a:t>Pri </a:t>
            </a:r>
            <a:r>
              <a:rPr b="1" lang="sk-SK" sz="2400" spc="-1" strike="noStrike">
                <a:solidFill>
                  <a:srgbClr val="482400"/>
                </a:solidFill>
                <a:latin typeface="Times New Roman"/>
              </a:rPr>
              <a:t>nenápadných druhoch a druhoch, ktoré netvoria každoročne nadzemné orgány</a:t>
            </a:r>
            <a:r>
              <a:rPr b="0" lang="sk-SK" sz="2400" spc="-1" strike="noStrike">
                <a:solidFill>
                  <a:srgbClr val="482400"/>
                </a:solidFill>
                <a:latin typeface="Times New Roman"/>
              </a:rPr>
              <a:t> – je potrebné jedince na TMP zamerať.</a:t>
            </a:r>
            <a:endParaRPr b="0" lang="en-US" sz="2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na vymedzenej ploche sa zaznamená počet kvitnúcich a plodných exemplárov a počet sterilných jedincov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vitalitu vypočítame ako podiel kvitnúcich, resp. plodných jedincov z celkového počtu jedincov na lokal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zistenú vitalitu na trvalej ploche budeme považovať za reprezentatívnu pre celú lokali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Times New Roman"/>
              </a:rPr>
              <a:t>4. Stav biotopu</a:t>
            </a:r>
            <a:endParaRPr b="0" lang="en-US" sz="28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4.1 Veľkosť biotopu 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- plocha reálneho výskytu druhu 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(zhodná s tzv. veľkosťou plochy výskytu druhu) 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spolu s okolitou plochou biotopu v m</a:t>
            </a:r>
            <a:r>
              <a:rPr b="0" lang="sk-SK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– stanoví sa odhadom alebo pomocou G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- vyjadruje veľkosť plochy, kde sa nachádzajú miesta 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potenciálne šírenie druhu v rámci lok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4.2 Percentuálne zastúpenie inváznych neofytných taxónov 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– pokryvnosť inváznych taxónov v % na ploche biotopu 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(uvedie sa zoznam zistených inváznych taxónov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482400"/>
                </a:solidFill>
                <a:latin typeface="Times New Roman"/>
              </a:rPr>
              <a:t>4.3 Svetelné pomery </a:t>
            </a:r>
            <a:r>
              <a:rPr b="0" lang="sk-SK" sz="2400" spc="-1" strike="noStrike">
                <a:solidFill>
                  <a:srgbClr val="482400"/>
                </a:solidFill>
                <a:latin typeface="Times New Roman"/>
              </a:rPr>
              <a:t>– miera zatienenia (zapojenia) resp. presvetlenia biotopu krovinami a stromami v %</a:t>
            </a:r>
            <a:br>
              <a:rPr sz="2400"/>
            </a:br>
            <a:r>
              <a:rPr b="0" lang="sk-SK" sz="2400" spc="-1" strike="noStrike">
                <a:solidFill>
                  <a:srgbClr val="482400"/>
                </a:solidFill>
                <a:latin typeface="Times New Roman"/>
              </a:rPr>
              <a:t>- stanoví sa odhadom v teréne</a:t>
            </a:r>
            <a:endParaRPr b="0" lang="en-US" sz="2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4.4 Nepriaznivé vplyvy - </a:t>
            </a:r>
            <a:r>
              <a:rPr b="0" lang="es-A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priazniv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á</a:t>
            </a:r>
            <a:r>
              <a:rPr b="0" lang="es-A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zmen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A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harakteru biotopu prirodzenými procesmi </a:t>
            </a:r>
            <a:r>
              <a:rPr b="0" lang="es-A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napr. vysychanie, zarastanie nežiadúcimi druhmi)</a:t>
            </a:r>
            <a:r>
              <a:rPr b="0" lang="es-A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lebo 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ľudskými aktivitami, 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lizovanými na lokalite 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napr. odvodňovanie, vysádzanie nepôvodných neinváznych taxónov)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lebo v jej bezprostrednom okolí 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napr. skládky odpadu, hnojenie, športové a rekreačné aktivity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-  p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 každú lokalitu sa nepriaznivé vplyvy predstavujúce ohrozenie lokality bližšie špecifikujú.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482400"/>
                </a:solidFill>
                <a:latin typeface="Times New Roman"/>
              </a:rPr>
              <a:t>5. Dynamika populácie</a:t>
            </a:r>
            <a:endParaRPr b="0" lang="en-US" sz="28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zmena v početnosti populácie druhu na lokalite za posledných 10 rokov, resp. iné časové obdob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potrebné zohľadniť prirodzené výkyvy v početnosti druhu na lokal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charakteristika sa nebude hodnotiť priamo v teré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482400"/>
                </a:solidFill>
                <a:latin typeface="Times New Roman"/>
              </a:rPr>
              <a:t>Koordinácia monitoringu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993300"/>
                </a:solidFill>
                <a:latin typeface="Times New Roman"/>
              </a:rPr>
              <a:t>lokality na „intenzívny“ monitoring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 boli vyberané na COPK a konzultované s pracovníkm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pracovníci na správach dostanú rozpis monitorovaných lokalít na obdobie 6 roko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ku každej vybranej lokalite obdržia mapu a formulár vypracovaný zvlášť pre každý druh európskeho význa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100"/>
              </a:spcBef>
              <a:buClr>
                <a:srgbClr val="99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993300"/>
                </a:solidFill>
                <a:latin typeface="Times New Roman"/>
              </a:rPr>
              <a:t>lokality nezahrnuté do rozpisu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 budú podľa možností pracovníkov na organizačných útvaroch kontrolované v stanovených intervalo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482400"/>
                </a:solidFill>
                <a:latin typeface="Times New Roman"/>
              </a:rPr>
              <a:t>Formulár na monitoring druhov </a:t>
            </a:r>
            <a:r>
              <a:rPr b="0" lang="sk-SK" sz="2800" spc="-1" strike="noStrike">
                <a:solidFill>
                  <a:srgbClr val="482400"/>
                </a:solidFill>
                <a:latin typeface="Times New Roman"/>
              </a:rPr>
              <a:t>obsahuje:</a:t>
            </a:r>
            <a:endParaRPr b="0" lang="en-US" sz="28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názov druh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názov lok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názov organizačného útvar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dátum monitoring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meno pracovník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hodnotiacu tabuľku druh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prázdnu tabuľku na vypĺňanie údajo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02236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priestor pre zaznamenani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negatívnych vplyvov v území a jeho bezprostrednom okol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počet kvitnúcich, plodných a sterilných jedincov a veľkosť T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výskyt inváznych neofytov v územ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482400"/>
                </a:solidFill>
                <a:latin typeface="Times New Roman"/>
              </a:rPr>
              <a:t>Vyplnené formuláre</a:t>
            </a:r>
            <a:r>
              <a:rPr b="0" lang="sk-SK" sz="2400" spc="-1" strike="noStrike">
                <a:solidFill>
                  <a:srgbClr val="482400"/>
                </a:solidFill>
                <a:latin typeface="Times New Roman"/>
              </a:rPr>
              <a:t> sa vždy koncom kalendárneho roka zašlú na COPK, kde:</a:t>
            </a:r>
            <a:endParaRPr b="0" lang="en-US" sz="2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sa budú zhromažďovať pre potreby reporting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na základe metodiky sa vypočíta stav druhu na jednotlivých lokalitách a tiež v rámci územia Slovensk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v prípade zhoršenia stavu populácie na lokalite oproti predošlým rokom sa navrhnú manažmentové opatrenia na zlepšenie stavu populáci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000" spc="-1" strike="noStrike">
                <a:solidFill>
                  <a:srgbClr val="482400"/>
                </a:solidFill>
                <a:latin typeface="Times New Roman"/>
              </a:rPr>
              <a:t>Ďakujem za pozornosť.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22" name="poniklec" descr=""/>
          <p:cNvPicPr/>
          <p:nvPr/>
        </p:nvPicPr>
        <p:blipFill>
          <a:blip r:embed="rId2"/>
          <a:stretch/>
        </p:blipFill>
        <p:spPr>
          <a:xfrm>
            <a:off x="3200400" y="2057400"/>
            <a:ext cx="3352680" cy="416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Times New Roman"/>
              </a:rPr>
              <a:t>Koncepcia monitoringu pre potreby „reportingu“  bola vypracovaná pre:</a:t>
            </a:r>
            <a:r>
              <a:rPr b="0" lang="sk-SK" sz="28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6666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 u="sng">
                <a:solidFill>
                  <a:srgbClr val="666600"/>
                </a:solidFill>
                <a:uFillTx/>
                <a:latin typeface="Times New Roman"/>
              </a:rPr>
              <a:t>37 druhov cievnatých rastlín</a:t>
            </a: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 z príloh II a IV Smernice o biotopo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6666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 u="sng">
                <a:solidFill>
                  <a:srgbClr val="666600"/>
                </a:solidFill>
                <a:uFillTx/>
                <a:latin typeface="Times New Roman"/>
              </a:rPr>
              <a:t>nezahŕňa 4 druhy</a:t>
            </a: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 cievnatých rastlín, ktoré sú považované za </a:t>
            </a:r>
            <a:r>
              <a:rPr b="1" lang="sk-SK" sz="2800" spc="-1" strike="noStrike" u="sng">
                <a:solidFill>
                  <a:srgbClr val="666600"/>
                </a:solidFill>
                <a:uFillTx/>
                <a:latin typeface="Times New Roman"/>
              </a:rPr>
              <a:t>vyhynuté</a:t>
            </a: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 alebo už dlhšie neboli na našom území zaznamenan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6666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 u="sng">
                <a:solidFill>
                  <a:srgbClr val="666600"/>
                </a:solidFill>
                <a:uFillTx/>
                <a:latin typeface="Times New Roman"/>
              </a:rPr>
              <a:t>nezahŕňa 9 druhov machorastov</a:t>
            </a: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, pri ktorých nemáme dostatok údajov o ich rozšíre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Times New Roman"/>
              </a:rPr>
              <a:t>Pre každý monitorovaný druh bol vypracovaný systém monitoringu na základe:</a:t>
            </a:r>
            <a:endParaRPr b="0" lang="en-US" sz="28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ohrozenosti druhu na území Slovenska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počtu v súčasnosti evidovaných lokalít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rozšírení druhu na území Slovenska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predpokladu zmien jeho biotopu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biologických vlastností druhu (výrazné zmeny v početnosti populácií v jednotlivých rokoch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0000"/>
                </a:solidFill>
                <a:latin typeface="Times New Roman"/>
              </a:rPr>
              <a:t>Pre jednotlivé druhy boli stanovené: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1640" y="1766520"/>
            <a:ext cx="7769160" cy="44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Times New Roman"/>
              </a:rPr>
              <a:t>frekvencie monitoringu</a:t>
            </a: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každý rok, 1 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 za 2 roky, 1 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 za 3 roky, 1 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 za 5 alebo 6 rokov  a 1 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 za 10 roko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Times New Roman"/>
              </a:rPr>
              <a:t>typy monitoringu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sk-SK" sz="2400" spc="-1" strike="noStrike">
                <a:solidFill>
                  <a:srgbClr val="993300"/>
                </a:solidFill>
                <a:latin typeface="Times New Roman"/>
              </a:rPr>
              <a:t>typ 1</a:t>
            </a: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sk-SK" sz="2400" spc="-1" strike="noStrike" u="sng">
                <a:solidFill>
                  <a:srgbClr val="000000"/>
                </a:solidFill>
                <a:uFillTx/>
                <a:latin typeface="Times New Roman"/>
              </a:rPr>
              <a:t>všetky lokality sledovať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 pravidelne v danýc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intervaloch – </a:t>
            </a:r>
            <a:r>
              <a:rPr b="0" lang="sk-SK" sz="2400" spc="-1" strike="noStrike">
                <a:solidFill>
                  <a:srgbClr val="666600"/>
                </a:solidFill>
                <a:latin typeface="Times New Roman"/>
              </a:rPr>
              <a:t>pri 21 druho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sk-SK" sz="2400" spc="-1" strike="noStrike">
                <a:solidFill>
                  <a:srgbClr val="993300"/>
                </a:solidFill>
                <a:latin typeface="Times New Roman"/>
              </a:rPr>
              <a:t>typ 2</a:t>
            </a: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vybranú </a:t>
            </a:r>
            <a:r>
              <a:rPr b="0" lang="sk-SK" sz="2400" spc="-1" strike="noStrike" u="sng">
                <a:solidFill>
                  <a:srgbClr val="000000"/>
                </a:solidFill>
                <a:uFillTx/>
                <a:latin typeface="Times New Roman"/>
              </a:rPr>
              <a:t>vzorku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 sledovať </a:t>
            </a:r>
            <a:r>
              <a:rPr b="0" lang="sk-SK" sz="2400" spc="-1" strike="noStrike" u="sng">
                <a:solidFill>
                  <a:srgbClr val="000000"/>
                </a:solidFill>
                <a:uFillTx/>
                <a:latin typeface="Times New Roman"/>
              </a:rPr>
              <a:t>častejšie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0" lang="sk-SK" sz="2400" spc="-1" strike="noStrike" u="sng">
                <a:solidFill>
                  <a:srgbClr val="000000"/>
                </a:solidFill>
                <a:uFillTx/>
                <a:latin typeface="Times New Roman"/>
              </a:rPr>
              <a:t>zvyšok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 lokalí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sk-SK" sz="2400" spc="-1" strike="noStrike" u="sng">
                <a:solidFill>
                  <a:srgbClr val="000000"/>
                </a:solidFill>
                <a:uFillTx/>
                <a:latin typeface="Times New Roman"/>
              </a:rPr>
              <a:t>v dlhšom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 vopred stanovenom </a:t>
            </a:r>
            <a:r>
              <a:rPr b="0" lang="sk-SK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tervale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sk-SK" sz="2400" spc="-1" strike="noStrike">
                <a:solidFill>
                  <a:srgbClr val="666600"/>
                </a:solidFill>
                <a:latin typeface="Times New Roman"/>
              </a:rPr>
              <a:t>8 druho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sk-SK" sz="2400" spc="-1" strike="noStrike">
                <a:solidFill>
                  <a:srgbClr val="993300"/>
                </a:solidFill>
                <a:latin typeface="Times New Roman"/>
              </a:rPr>
              <a:t>typ 3</a:t>
            </a: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vybranú </a:t>
            </a:r>
            <a:r>
              <a:rPr b="0" lang="sk-SK" sz="2400" spc="-1" strike="noStrike" u="sng">
                <a:solidFill>
                  <a:srgbClr val="000000"/>
                </a:solidFill>
                <a:uFillTx/>
                <a:latin typeface="Times New Roman"/>
              </a:rPr>
              <a:t>vzorku sledovať pravidelne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0" lang="sk-SK" sz="2400" spc="-1" strike="noStrike" u="sng">
                <a:solidFill>
                  <a:srgbClr val="000000"/>
                </a:solidFill>
                <a:uFillTx/>
                <a:latin typeface="Times New Roman"/>
              </a:rPr>
              <a:t>zvyšok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lokalít </a:t>
            </a:r>
            <a:r>
              <a:rPr b="0" lang="sk-SK" sz="2400" spc="-1" strike="noStrike" u="sng">
                <a:solidFill>
                  <a:srgbClr val="000000"/>
                </a:solidFill>
                <a:uFillTx/>
                <a:latin typeface="Times New Roman"/>
              </a:rPr>
              <a:t>len kontrolovať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 v rámci priebežnéh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mapovania biotopov – </a:t>
            </a:r>
            <a:r>
              <a:rPr b="0" lang="sk-SK" sz="2400" spc="-1" strike="noStrike">
                <a:solidFill>
                  <a:srgbClr val="666600"/>
                </a:solidFill>
                <a:latin typeface="Times New Roman"/>
              </a:rPr>
              <a:t>8 druho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3600" spc="-1" strike="noStrike">
                <a:solidFill>
                  <a:srgbClr val="993300"/>
                </a:solidFill>
                <a:latin typeface="Times New Roman"/>
              </a:rPr>
              <a:t>Cirsium brachycephalum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Times New Roman"/>
              </a:rPr>
              <a:t>Typ 2: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 na vybraných 11 lokalitách vykonávať monitoring druhu 1 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 za 2 roky, na ostatných 24 lokalitách monitorovať stav v intervale 1 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 za 6 rokov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Times New Roman"/>
              </a:rPr>
              <a:t>Najvhodnejšie obdobie pre monitoring:</a:t>
            </a: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v čase kvitnutia druhu (jún – september), resp. pred kosením lokali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482400"/>
                </a:solidFill>
                <a:latin typeface="Times New Roman"/>
              </a:rPr>
              <a:t>Monitorované parametre druhov európskeho významu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85000" indent="-585000" algn="just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Times New Roman"/>
              </a:rPr>
              <a:t>veľkosť plochy výskytu - 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veľkosť plochy v m</a:t>
            </a:r>
            <a:r>
              <a:rPr b="0" lang="sk-SK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, ktorú osídľuje na lokalite anexový druh v podobe fertilných, sterilných alebo poškodených jedincov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-  stanovuje sa odhadom priamo na lokalite alebo sa zameria pomocou GPS (nezisťuje sa dodatočne z GIS-vrstiev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- ak </a:t>
            </a:r>
            <a:r>
              <a:rPr b="0" lang="es-A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puláci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s-A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vor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í</a:t>
            </a:r>
            <a:r>
              <a:rPr b="0" lang="es-A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k-SK" sz="2400" spc="-1" strike="noStrike" u="sng">
                <a:solidFill>
                  <a:srgbClr val="666600"/>
                </a:solidFill>
                <a:uFillTx/>
                <a:latin typeface="Times New Roman"/>
              </a:rPr>
              <a:t>niekoľko</a:t>
            </a:r>
            <a:r>
              <a:rPr b="0" lang="es-A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obre </a:t>
            </a:r>
            <a:r>
              <a:rPr b="1" lang="es-AR" sz="2400" spc="-1" strike="noStrike" u="sng">
                <a:solidFill>
                  <a:srgbClr val="666600"/>
                </a:solidFill>
                <a:uFillTx/>
                <a:latin typeface="Times New Roman"/>
                <a:ea typeface="Times New Roman"/>
              </a:rPr>
              <a:t>ohraničených mikropopulácií</a:t>
            </a:r>
            <a:r>
              <a:rPr b="0" lang="es-A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A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účet plôch mikropopuláci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- ak má druh </a:t>
            </a:r>
            <a:r>
              <a:rPr b="1" lang="es-AR" sz="2400" spc="-1" strike="noStrike" u="sng">
                <a:solidFill>
                  <a:srgbClr val="666600"/>
                </a:solidFill>
                <a:uFillTx/>
                <a:latin typeface="Times New Roman"/>
                <a:ea typeface="Times New Roman"/>
              </a:rPr>
              <a:t>rozptýlen</a:t>
            </a:r>
            <a:r>
              <a:rPr b="1" lang="sk-SK" sz="2400" spc="-1" strike="noStrike" u="sng">
                <a:solidFill>
                  <a:srgbClr val="666600"/>
                </a:solidFill>
                <a:uFillTx/>
                <a:latin typeface="Times New Roman"/>
              </a:rPr>
              <a:t>ý</a:t>
            </a:r>
            <a:r>
              <a:rPr b="1" lang="es-AR" sz="2400" spc="-1" strike="noStrike" u="sng">
                <a:solidFill>
                  <a:srgbClr val="666600"/>
                </a:solidFill>
                <a:uFillTx/>
                <a:latin typeface="Times New Roman"/>
                <a:ea typeface="Times New Roman"/>
              </a:rPr>
              <a:t> výskyt</a:t>
            </a:r>
            <a:r>
              <a:rPr b="0" lang="es-A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A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lá plocha, na ktorej sa druh rozptylene vyskytuje </a:t>
            </a:r>
            <a:r>
              <a:rPr b="0" lang="es-A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nie len bezprostredné okolie jedincov)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Times New Roman"/>
              </a:rPr>
              <a:t>2. Počet jedincov</a:t>
            </a:r>
            <a:endParaRPr b="0" lang="en-US" sz="28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- počet jedincov anexového druhu (fertilných, sterilných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poškodených spolu) zaznamenaný na lokalite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- pri druhoch tvoriacich trsy – počet trsov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- pri druhu </a:t>
            </a:r>
            <a:r>
              <a:rPr b="0" i="1" lang="sk-SK" sz="2400" spc="-1" strike="noStrike">
                <a:solidFill>
                  <a:srgbClr val="000000"/>
                </a:solidFill>
                <a:latin typeface="Times New Roman"/>
              </a:rPr>
              <a:t>Marsilea quadrifolia 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– veľkosť a súvislosť porast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sk-SK" sz="2400" spc="-1" strike="noStrike" u="sng">
                <a:solidFill>
                  <a:srgbClr val="666600"/>
                </a:solidFill>
                <a:uFillTx/>
                <a:latin typeface="Times New Roman"/>
              </a:rPr>
              <a:t>menšie populácie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 – presný počet exempláro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sk-SK" sz="2400" spc="-1" strike="noStrike" u="sng">
                <a:solidFill>
                  <a:srgbClr val="666600"/>
                </a:solidFill>
                <a:uFillTx/>
                <a:latin typeface="Times New Roman"/>
              </a:rPr>
              <a:t>veľké populácie a populácie v neprístupnom teréne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 –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odhadom, napr. viac ako 300, do 500 a po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Times New Roman"/>
              </a:rPr>
              <a:t>3. Vitalita populácie</a:t>
            </a:r>
            <a:endParaRPr b="0" lang="en-US" sz="28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percentuálny podiel kvitnúcich resp. plodných jedincov z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celkového počtu jedincov druhu na lokali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pri druhoch tvoriacich trsy – podiel kvitnúcich resp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plodných trsov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174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zisťuje sa </a:t>
            </a:r>
            <a:r>
              <a:rPr b="0" lang="sk-SK" sz="2400" spc="-1" strike="noStrike" u="sng">
                <a:solidFill>
                  <a:srgbClr val="993300"/>
                </a:solidFill>
                <a:uFillTx/>
                <a:latin typeface="Times New Roman"/>
              </a:rPr>
              <a:t>na trvalých plochách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 (TMP) 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(všetky lokality z 1. typu monitoringu, pri 2. type všetky s výnimkou lokalít monitorovaných raz za 10 rokov a na vybraných lokalitách pri 3. type monitoringu – na zvyšných lokalitách sa vyberie náhodne plocha v rámci lokalit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482400"/>
                </a:solidFill>
                <a:latin typeface="Times New Roman"/>
              </a:rPr>
              <a:t>Veľkosť plôch</a:t>
            </a:r>
            <a:r>
              <a:rPr b="0" lang="sk-SK" sz="2400" spc="-1" strike="noStrike">
                <a:solidFill>
                  <a:srgbClr val="482400"/>
                </a:solidFill>
                <a:latin typeface="Times New Roman"/>
              </a:rPr>
              <a:t> – od veľkosti a prístupnosti lokality, typu biotopu, hustoty populácie druhu na lokalite.</a:t>
            </a:r>
            <a:endParaRPr b="0" lang="en-US" sz="2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666600"/>
                </a:solidFill>
                <a:latin typeface="Times New Roman"/>
              </a:rPr>
              <a:t>menšie lokality (do 100 m</a:t>
            </a:r>
            <a:r>
              <a:rPr b="1" lang="sk-SK" sz="2400" spc="-1" strike="noStrike" baseline="30000">
                <a:solidFill>
                  <a:srgbClr val="666600"/>
                </a:solidFill>
                <a:latin typeface="Times New Roman"/>
              </a:rPr>
              <a:t>2</a:t>
            </a:r>
            <a:r>
              <a:rPr b="1" lang="sk-SK" sz="2400" spc="-1" strike="noStrike">
                <a:solidFill>
                  <a:srgbClr val="666600"/>
                </a:solidFill>
                <a:latin typeface="Times New Roman"/>
              </a:rPr>
              <a:t>)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 – aby TMP zahŕňala väčšinu populácie druhu na lokal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666600"/>
                </a:solidFill>
                <a:latin typeface="Times New Roman"/>
              </a:rPr>
              <a:t>rozľahlé lúčne alebo lesné lokality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 – transekt 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(pri lúčnych napr. 5 m široký a 20-30 m dlhý; pri lesných biotopoch najmenej 20 m široký a dlhý podľa potreby) 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alebo štvorcovú trvalú plochu 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(rozmery reprezentatívne pre biotop, napr. 20 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 20 m v lesných biotopoch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666600"/>
                </a:solidFill>
                <a:latin typeface="Times New Roman"/>
              </a:rPr>
              <a:t>pobrežné a vodné biotopy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 – transekt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 (rozmery podľa potreby a podmienok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666600"/>
                </a:solidFill>
                <a:latin typeface="Times New Roman"/>
              </a:rPr>
              <a:t>stepné a rašelinné biotopy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 – plocha 4 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 4 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666600"/>
                </a:solidFill>
                <a:latin typeface="Times New Roman"/>
              </a:rPr>
              <a:t>skalné biotopy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 – štvorcová plocha alebo transekt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 (rozmery podľa podmienok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4T08:46:12Z</dcterms:created>
  <dc:creator>PC</dc:creator>
  <dc:description/>
  <dc:language>en-US</dc:language>
  <cp:lastModifiedBy>PC</cp:lastModifiedBy>
  <dcterms:modified xsi:type="dcterms:W3CDTF">2005-03-14T11:29:10Z</dcterms:modified>
  <cp:revision>13</cp:revision>
  <dc:subject/>
  <dc:title>Monitoring európsky významných rastlinných druhov na Slovensku</dc:title>
</cp:coreProperties>
</file>