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F03-9933-4D4F-BBBE-68CA69F2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C87-5C31-4298-9707-30A3C22F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981-9E4F-430D-BCF6-D0B32908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65D-64CC-4A80-99DF-0C2FF1EA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2E8-2962-4B61-9F6D-00D61B22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91E-0112-49D1-A06B-CD3A014D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439-149F-4F75-A8A5-0650F335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9E9-AF84-4EF3-A620-97178F7F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7C5-F680-4A7B-9633-C1302C98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4FB-3EFC-49D6-B5F7-E86A786F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6AC-D15B-477C-8F29-53BC5EE3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08F-A293-4192-8D3B-E6C398F6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5D29-7C1F-4B73-B4A4-16B356F21A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7960" y="291960"/>
            <a:ext cx="8128080" cy="1739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K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oncepcia monitoringu 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lesných biotopov</a:t>
            </a:r>
            <a:r>
              <a:rPr b="1" lang="cs-CZ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Ján Šeffer, Rastislav Lasák, Ivan Jarolímek, Milan Valachovi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č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br>
              <a:rPr sz="1800"/>
            </a:b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Richard Hrivnák, Viera Stanová, Helena O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ť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ahelová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, Marta Kubandová</a:t>
            </a: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3320" y="1039680"/>
            <a:ext cx="725832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pôsob organizácie zberu dát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ôže byť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lišný v období, ktoré možno označiť ako prechodné, keď programy starostlivosti o ÚEV buď nie sú, alebo nezabezpečujú pravidelné informácie o stave bioto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čas tohto obdobia je možné pripustiť v odôvodnených prípadoch náhodný výber pri monitoringu niektorých ty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 ďalšom období, keď programy starostlivosti budú zabezpečovať dostatočné množstvo kvalitných dát, sa bu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užívať iba inventarizačné metó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680" y="44136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Arial"/>
              </a:rPr>
              <a:t>Parametre monitoringu jednotlivých typov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e každý typ biotopu sa stanov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základe počtu lokalít, ich rozmiestnenia a stupňa poznani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rametre pre jeho monitoring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ožno odlíšiť spôsob monitoringu v prechodnom období od monitoringu „definitívneho“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760" y="500040"/>
            <a:ext cx="64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Arial"/>
              </a:rPr>
              <a:t>Parametre monitoringu jednotlivých typov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3440" y="1163520"/>
            <a:ext cx="8161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Zhodnotenie stavu pozn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átke zhodnotenie, v prípade potreby navrhnúť zmapova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Organizácia zberu dá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vrhnú sa dva spôsoby – optimálny a dostatočn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Zber dát v prechodnom obdob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 ak sa líši od prechádzajúce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Kritériá pre homogénne skup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vedú sa špecifické kritéria pre typ biotopu (nadmorská výška, región atď.) podľa jeho distribúcie na Slovensk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Interval 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 v prípade inventarizácie v kratšom ako 5-ročnom cyk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as 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vrhne sa optimálny čas monitoring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514440"/>
            <a:ext cx="79246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odnotenie monitorovacích d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ľa metodiky pre 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efinovanie a hodnotenie stavu zachovania biotop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835280"/>
            <a:ext cx="8292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okality bioto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EV alebo inak definovaných území ako sú CHÚ, orografické celky,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vodia a p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iogeografických regiónov, resp. národnej úro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267080"/>
            <a:ext cx="8292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lokalitnej úrovni je možné použiť jednak vážené hodnoty jednotlivých kritérií a jednak syntetickú hodnoty stavu biotopu na lokalite v časovej r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 vhodnejšie využívať tieto hodnoty, pretože umožňujú rozpoznať aj zmeny, ktoré sa dejú v rámci kategórií (A – 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6210t" descr=""/>
          <p:cNvPicPr/>
          <p:nvPr/>
        </p:nvPicPr>
        <p:blipFill>
          <a:blip r:embed="rId1"/>
          <a:stretch/>
        </p:blipFill>
        <p:spPr>
          <a:xfrm>
            <a:off x="0" y="249120"/>
            <a:ext cx="6553080" cy="1670040"/>
          </a:xfrm>
          <a:prstGeom prst="rect">
            <a:avLst/>
          </a:prstGeom>
          <a:ln w="0">
            <a:noFill/>
          </a:ln>
        </p:spPr>
      </p:pic>
      <p:pic>
        <p:nvPicPr>
          <p:cNvPr id="118" name="6210" descr=""/>
          <p:cNvPicPr/>
          <p:nvPr/>
        </p:nvPicPr>
        <p:blipFill>
          <a:blip r:embed="rId2"/>
          <a:stretch/>
        </p:blipFill>
        <p:spPr>
          <a:xfrm>
            <a:off x="3035160" y="3921120"/>
            <a:ext cx="6108840" cy="2948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6760" y="2101680"/>
            <a:ext cx="854712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p biotopu je zachytený mapovaním travinnej vegetá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oritný typ sa bude monitorovať celoplošnou inventarizáciou. Neprioritný spôsobom 2 prípadne 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ber dát v prechodnom obdob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prípade neprioritného typu 4. spôso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atistický výber viazať na orografické celky – poho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j až jú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6510t" descr=""/>
          <p:cNvPicPr/>
          <p:nvPr/>
        </p:nvPicPr>
        <p:blipFill>
          <a:blip r:embed="rId1"/>
          <a:stretch/>
        </p:blipFill>
        <p:spPr>
          <a:xfrm>
            <a:off x="0" y="203040"/>
            <a:ext cx="557856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6510" descr=""/>
          <p:cNvPicPr/>
          <p:nvPr/>
        </p:nvPicPr>
        <p:blipFill>
          <a:blip r:embed="rId2"/>
          <a:stretch/>
        </p:blipFill>
        <p:spPr>
          <a:xfrm>
            <a:off x="3065400" y="3924360"/>
            <a:ext cx="6078600" cy="2933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7040" y="1465200"/>
            <a:ext cx="6804000" cy="24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top je zachytený v rámci mapovania travinnej vegetá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hľadom na množstvo lokalít navrhujeme 4. spôsob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er lokalít podľa základnej regionalizácie Slovenska (západ, stred a výcho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d prvým kosení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7140t" descr=""/>
          <p:cNvPicPr/>
          <p:nvPr/>
        </p:nvPicPr>
        <p:blipFill>
          <a:blip r:embed="rId1"/>
          <a:stretch/>
        </p:blipFill>
        <p:spPr>
          <a:xfrm>
            <a:off x="0" y="263520"/>
            <a:ext cx="4976640" cy="987480"/>
          </a:xfrm>
          <a:prstGeom prst="rect">
            <a:avLst/>
          </a:prstGeom>
          <a:ln w="0">
            <a:noFill/>
          </a:ln>
        </p:spPr>
      </p:pic>
      <p:pic>
        <p:nvPicPr>
          <p:cNvPr id="124" name="7140" descr=""/>
          <p:cNvPicPr/>
          <p:nvPr/>
        </p:nvPicPr>
        <p:blipFill>
          <a:blip r:embed="rId2"/>
          <a:stretch/>
        </p:blipFill>
        <p:spPr>
          <a:xfrm>
            <a:off x="2895480" y="3838680"/>
            <a:ext cx="6067440" cy="2931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640" y="1682640"/>
            <a:ext cx="655488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top je zachytený v rámci mapovania rašelinís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oplošná inventarizá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ber dát v prechodnom obdob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atistický náhodný vý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er sa uskutoční podľa orografického člen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ún až septe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960" y="1346040"/>
            <a:ext cx="7505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podával aktuálne informácie o stave všetkých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prepojený s plánovaním a realizáciou manažmen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uskutočniteľný z hľadiska expertných kapací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finančne efektív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napojený na ďalšie monitorovacie systémy (AEP, RSV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720" y="425520"/>
            <a:ext cx="81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o očakávame od monitorovacieho systému pre nelesné biotop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63560" y="3475080"/>
            <a:ext cx="1904760" cy="900000"/>
            <a:chOff x="1663560" y="3475080"/>
            <a:chExt cx="1904760" cy="900000"/>
          </a:xfrm>
        </p:grpSpPr>
        <p:sp>
          <p:nvSpPr>
            <p:cNvPr id="48" name=""/>
            <p:cNvSpPr/>
            <p:nvPr/>
          </p:nvSpPr>
          <p:spPr>
            <a:xfrm>
              <a:off x="166356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15840" y="3703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Realizáci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473800" y="3475080"/>
            <a:ext cx="1904760" cy="900000"/>
            <a:chOff x="5473800" y="3475080"/>
            <a:chExt cx="1904760" cy="900000"/>
          </a:xfrm>
        </p:grpSpPr>
        <p:sp>
          <p:nvSpPr>
            <p:cNvPr id="51" name=""/>
            <p:cNvSpPr/>
            <p:nvPr/>
          </p:nvSpPr>
          <p:spPr>
            <a:xfrm>
              <a:off x="547380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49760" y="38559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416400" y="1641600"/>
            <a:ext cx="2057400" cy="919080"/>
            <a:chOff x="3416400" y="1641600"/>
            <a:chExt cx="2057400" cy="919080"/>
          </a:xfrm>
        </p:grpSpPr>
        <p:sp>
          <p:nvSpPr>
            <p:cNvPr id="54" name=""/>
            <p:cNvSpPr/>
            <p:nvPr/>
          </p:nvSpPr>
          <p:spPr>
            <a:xfrm>
              <a:off x="3492720" y="1641600"/>
              <a:ext cx="1904760" cy="91908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16400" y="164160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stavu zachovania biotop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463480" y="2301120"/>
            <a:ext cx="1338480" cy="1258200"/>
            <a:chOff x="2463480" y="2301120"/>
            <a:chExt cx="1338480" cy="1258200"/>
          </a:xfrm>
        </p:grpSpPr>
        <p:sp>
          <p:nvSpPr>
            <p:cNvPr id="57" name=""/>
            <p:cNvSpPr/>
            <p:nvPr/>
          </p:nvSpPr>
          <p:spPr>
            <a:xfrm flipH="1">
              <a:off x="2502000" y="2560680"/>
              <a:ext cx="10663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9187400">
              <a:off x="2501640" y="2639880"/>
              <a:ext cx="126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Informácie o efektiv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882880" y="693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ung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59600" y="1641600"/>
            <a:ext cx="1600200" cy="914400"/>
            <a:chOff x="6159600" y="1641600"/>
            <a:chExt cx="1600200" cy="914400"/>
          </a:xfrm>
        </p:grpSpPr>
        <p:sp>
          <p:nvSpPr>
            <p:cNvPr id="61" name=""/>
            <p:cNvSpPr/>
            <p:nvPr/>
          </p:nvSpPr>
          <p:spPr>
            <a:xfrm>
              <a:off x="6159600" y="1641600"/>
              <a:ext cx="1587600" cy="9144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59600" y="18064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Správa o stave pre 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663560" y="4375080"/>
            <a:ext cx="5638680" cy="1366920"/>
            <a:chOff x="1663560" y="4375080"/>
            <a:chExt cx="5638680" cy="1366920"/>
          </a:xfrm>
        </p:grpSpPr>
        <p:sp>
          <p:nvSpPr>
            <p:cNvPr id="64" name=""/>
            <p:cNvSpPr/>
            <p:nvPr/>
          </p:nvSpPr>
          <p:spPr>
            <a:xfrm flipV="1">
              <a:off x="6445080" y="4375080"/>
              <a:ext cx="0" cy="617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01640" y="4408560"/>
              <a:ext cx="0" cy="584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63560" y="4992840"/>
              <a:ext cx="5638680" cy="7491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22280" y="5186520"/>
              <a:ext cx="47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N2000 biotop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19720" y="2560680"/>
            <a:ext cx="1150920" cy="914400"/>
            <a:chOff x="5319720" y="2560680"/>
            <a:chExt cx="1150920" cy="914400"/>
          </a:xfrm>
        </p:grpSpPr>
        <p:sp>
          <p:nvSpPr>
            <p:cNvPr id="69" name=""/>
            <p:cNvSpPr/>
            <p:nvPr/>
          </p:nvSpPr>
          <p:spPr>
            <a:xfrm rot="2209200">
              <a:off x="5693760" y="2811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Dá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319720" y="2560680"/>
              <a:ext cx="104760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397480" y="209700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0240" y="1503360"/>
            <a:ext cx="8191800" cy="39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ávrh monitoringu nelesných biotopov vychádza z údajovej bázy, ktorá bola vytvorená pre potreby návrhu sústavy N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Koncep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 je postavený na Informa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m systéme lúk a rašelinísk, ktorý je plne kompatibilný s ISTB Štátnej ochrany prír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v naplnenia a kvalita dát v rámci týchto IS je v porovnaní s ostatnými údajovými bázami uspokojivý. Nedostato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 pokrytých je len niekoľko typov biotopov (napr. kroviny, skalné a vodné biotopy), ktoré sú z hľadiska plochy menej významn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daje s týchto informa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ých systémov sa ukázali ako plne vyhovujúce pre hodnotenie stavu zachovania bioto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9640" y="609480"/>
            <a:ext cx="68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Východis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960" y="595440"/>
            <a:ext cx="7848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ôsob zberu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ber dát sa bude realizovať opakovanou inventarizáciou vymapovaných polygónov (lokalí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je sa metodika mapovania biotopov (Šeffer et al. 2002) s tým, že monitorované budú polygóny, kde boli identifikované biotopy z Dodatku I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 Smernice o biotopo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4094280"/>
            <a:ext cx="7454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kladanie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ukladanie dát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ude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lúžiť ISTB, ktorý má všetky polia z formulára, ktorý bol pre túto metodiku pripraven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8720" y="542880"/>
            <a:ext cx="801396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finovali sme štyri zásadné spôsoby zberu údajov, ktoré vychádzajú zo stavu údajovej základne pre nelesné biotop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4160" y="2314440"/>
            <a:ext cx="831852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46800" anchor="t">
            <a:spAutoFit/>
          </a:bodyPr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loplošná inventarizácia, ktorá v päťročnom intervale zabezpečí hodnotenie každej loka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ventarizácia v 5-ročnom intervale v územiach európskeho významu (ÚEV), ktorá bude doplnená náhodným výberom lokalít mimo Ú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ventarizácia vybraných lokalít v kratšom ako 5-ročnom cyk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áhodný výber dostatočnej vzorky lokalít zo základného súboru (množina všetkých známych lokalí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5680" y="2043000"/>
            <a:ext cx="69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postup je optimálny a zabezpečuje nielen kvalitné dáta o všetkých lokalitách pre potreby národných správ o stave zachovania, ale aj, čo je dôležitejšie, pre potreby konkrétnej ochrany prír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5680" y="1138320"/>
            <a:ext cx="805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eloplošná inventarizác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ktorá v päťročnom intervale zabezpečí inventarizáciu každej lok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5680" y="3606840"/>
            <a:ext cx="78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äťročný interval je zvolený kvôli prepojeniu s programovaním starostlivosti a agro-environmentálnym programom (projekty sú schvaľované na dobu 5 rokov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3320" y="1198440"/>
            <a:ext cx="7367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ventarizácia v 5-ročnom intervale v úze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ach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európskeho významu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plnená náhodným (v štatistickom zmysle) výberom lokalít mimo Ú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áhodný výber sa bude realizovať tak, že sa celý súbor lokalít biotopu rozdelí na niekoľko homogénnych skupín definovaných podľa kritérií špecifických pre každý typ biotopu (nadmorská výška, región atď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možno využiť pre typy biotopov, ktoré majú počet lokalít rádovo v stovkách. Poskytne dostatočné údaje o stave lokalít v chránených územiach a s rozumnou spoľahlivosťou o stave lokalít mi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berovej vzorky sa musí dostať aspoň 10% lokalít z území mimo sústavy N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360" y="1150920"/>
            <a:ext cx="74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ventarizácia vybraných lokal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 kratšom ako 5-ročnom cyk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3320" y="3398760"/>
            <a:ext cx="87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áhodný výber dostatoč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j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zor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lokal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zo základného súboru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množina všetkých známych lokalí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3320" y="4351320"/>
            <a:ext cx="772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ýber sa b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ude riadiť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ľa nadefinovaných homogénnych skupí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lán zb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a urobí na začiatku 6-ročného reportovacieho cyklu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možno využiť dočasne v prípade typov s veľkým množstvom lokalít, alebo v prípade málo ohrozovaných biotopov. Do výberovej vzorky sa musí dostať minimálne 20% lokalí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3320" y="1701720"/>
            <a:ext cx="811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sa navrhuje pre typy biotopov s dynamickým režimom (napr. vodné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 rašeliniskové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iotopy), u ktorých z praktických dôvodov (množstvo lokalít) nemožno predpokladať celoplošnejšie pokryt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Daphne-pc7</cp:lastModifiedBy>
  <dcterms:modified xsi:type="dcterms:W3CDTF">2005-03-14T09:12:42Z</dcterms:modified>
  <cp:revision>63</cp:revision>
  <dc:subject/>
  <dc:title>Prezentace aplikace PowerPoint</dc:title>
</cp:coreProperties>
</file>