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FD4-6F36-4ABD-90EB-3F2B1787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00B-14FE-43DE-942A-8207AE12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F56-961A-4360-8B56-9AB78853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732-973D-487E-8AAF-2C49EA7F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FA4-4463-44DD-ABA7-5AC4138C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E1A-FE82-4417-A397-7A1329E8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376-8CA1-4978-A35F-59F0CE63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DDB-8B4B-4CE3-8F88-913BFD2A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750-C495-4622-8A26-6AF395A0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573-5F1C-45C9-ABFC-44AB6210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3C9-6334-41E0-8692-A08F6D54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79E-0C40-4494-8548-78F891E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42E2-EFF2-41E0-87B8-1207CF8E5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-3240"/>
            <a:ext cx="9142560" cy="689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hare logo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61760" cy="38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62200" y="227880"/>
            <a:ext cx="18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WINNING SK 2002 IB/EN/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4040" y="30492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TURA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9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 200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itoring </a:t>
            </a: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biotopov a druho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jeho súvislosť s čl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mernice o biotopoch</a:t>
            </a:r>
            <a:br>
              <a:rPr sz="2800"/>
            </a:br>
            <a:br>
              <a:rPr sz="28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lbert 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24720" y="46080"/>
            <a:ext cx="590760" cy="49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373640" y="0"/>
            <a:ext cx="395280" cy="533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1760" y="482040"/>
            <a:ext cx="422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Š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NA OCHRANA PR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ÍRODY SLOVENSKEJ REPUBLI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Hab 04-03/03, rev.3</a:t>
            </a:r>
            <a:br>
              <a:rPr sz="36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ílo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: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av zachovania typu biotop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180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720" y="0"/>
              <a:ext cx="8951040" cy="728280"/>
              <a:chOff x="63720" y="0"/>
              <a:chExt cx="8951040" cy="728280"/>
            </a:xfrm>
          </p:grpSpPr>
          <p:pic>
            <p:nvPicPr>
              <p:cNvPr id="182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63720" y="76320"/>
                <a:ext cx="76248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85068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9188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3280" y="46080"/>
                <a:ext cx="59148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6800" y="0"/>
                <a:ext cx="3956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2462400" y="482040"/>
                <a:ext cx="423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3657600" y="1828800"/>
            <a:ext cx="5486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orma pre hodnotenie stavu zachovania biotopov zahŕň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arametr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reá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blasť v rámci areál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é štruktúry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funkcie a prognó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eferenčné hodnot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areál a populác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tegóriu „neznám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kategóriu „nepriaznivý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imitné hodnoty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 5, 6, 10 a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0" y="1828800"/>
            <a:ext cx="361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je to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toring?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a čo slúž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40" y="-3240"/>
            <a:ext cx="9142560" cy="731520"/>
            <a:chOff x="1440" y="-3240"/>
            <a:chExt cx="9142560" cy="731520"/>
          </a:xfrm>
        </p:grpSpPr>
        <p:sp>
          <p:nvSpPr>
            <p:cNvPr id="51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76320" y="0"/>
              <a:ext cx="8939160" cy="728280"/>
              <a:chOff x="76320" y="0"/>
              <a:chExt cx="8939160" cy="728280"/>
            </a:xfrm>
          </p:grpSpPr>
          <p:pic>
            <p:nvPicPr>
              <p:cNvPr id="53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76320"/>
                <a:ext cx="76176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86220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39404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4720" y="46080"/>
                <a:ext cx="59076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73640" y="0"/>
                <a:ext cx="39528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471760" y="482040"/>
                <a:ext cx="422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838080" y="180036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namená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avidelné dlhodobé pozorova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 slúži ako základ pre viaceré ciele a úlohy vyplývajúce zo smernic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 biotop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526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sk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4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chovanie biotopov a druho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2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sudzovanie vplyvov činnost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danie podporných sché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ledovanie stavu biotopov a druho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ávy v 2- resp. 6-ročných intervaloch (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6, 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lánovanie ochranných opatren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6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2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601992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sk-SK" sz="2700" spc="-1" strike="noStrike">
                <a:solidFill>
                  <a:srgbClr val="ff0000"/>
                </a:solidFill>
                <a:latin typeface="Arial"/>
              </a:rPr>
              <a:t>evyhnutný pre naplnenie smernice o biotopoch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803240"/>
            <a:ext cx="609840" cy="5054760"/>
          </a:xfrm>
          <a:custGeom>
            <a:avLst/>
            <a:gdLst>
              <a:gd name="textAreaLeft" fmla="*/ 81720 w 609840"/>
              <a:gd name="textAreaRight" fmla="*/ 528120 w 609840"/>
              <a:gd name="textAreaTop" fmla="*/ 1058760 h 5054760"/>
              <a:gd name="textAreaBottom" fmla="*/ 3464640 h 505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49" stAng="-5400000" swAng="-5400000"/>
                <a:lnTo>
                  <a:pt x="0" y="10280"/>
                </a:lnTo>
                <a:arcTo wR="21600" hR="9049" stAng="10800000" swAng="-2990272"/>
                <a:lnTo>
                  <a:pt x="14400" y="21082"/>
                </a:lnTo>
                <a:lnTo>
                  <a:pt x="21600" y="18714"/>
                </a:lnTo>
                <a:lnTo>
                  <a:pt x="14400" y="15309"/>
                </a:lnTo>
                <a:lnTo>
                  <a:pt x="14400" y="17580"/>
                </a:lnTo>
                <a:arcTo wR="21600" hR="9049" stAng="7809728" swAng="2892111"/>
                <a:lnTo>
                  <a:pt x="50" y="9665"/>
                </a:lnTo>
                <a:arcTo wR="21600" hR="9049" stAng="-10701839" swAng="5301839"/>
                <a:close/>
              </a:path>
              <a:path fill="darkenLess" w="21600" h="21600">
                <a:moveTo>
                  <a:pt x="21600" y="0"/>
                </a:moveTo>
                <a:arcTo wR="21600" hR="9049" stAng="-5400000" swAng="-5400000"/>
                <a:lnTo>
                  <a:pt x="0" y="9049"/>
                </a:lnTo>
                <a:arcTo wR="21600" hR="9049" stAng="10800000" swAng="-98161"/>
                <a:lnTo>
                  <a:pt x="50" y="9665"/>
                </a:lnTo>
                <a:arcTo wR="21600" hR="9049" stAng="-10701839" swAng="530183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podlieha monitoringu v prípade území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440" y="-3240"/>
            <a:ext cx="9142560" cy="731520"/>
            <a:chOff x="1440" y="-3240"/>
            <a:chExt cx="9142560" cy="731520"/>
          </a:xfrm>
        </p:grpSpPr>
        <p:sp>
          <p:nvSpPr>
            <p:cNvPr id="65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373640" y="0"/>
              <a:ext cx="3952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471760" y="482040"/>
              <a:ext cx="422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NA OCHRANA PR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ÍRODY SLOVENSKEJ REPUBL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33520" y="2057400"/>
            <a:ext cx="792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Územia patriace do súvislej európskej sústavy CHÚ (vyhlásené územia NATURA 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N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rchtesga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ypy biotopov prílohy I smernice o biotopoch, nap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- bioto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6210, 9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pulácie druhov prílohy II, IV, V smernice o biotopoch, nap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otis myo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fo viri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hagnum s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etó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40" y="-3240"/>
            <a:ext cx="9142560" cy="731520"/>
            <a:chOff x="1440" y="-3240"/>
            <a:chExt cx="9142560" cy="731520"/>
          </a:xfrm>
        </p:grpSpPr>
        <p:sp>
          <p:nvSpPr>
            <p:cNvPr id="75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4373640" y="0"/>
              <a:ext cx="3952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471760" y="482040"/>
              <a:ext cx="422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NA OCHRANA PR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ÍRODY SLOVENSKEJ REPUBL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" y="1981080"/>
            <a:ext cx="8381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áca v teré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ulá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odokumen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á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tr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a at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Diaľkový zber údajo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el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Letecké sním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ap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R-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graf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čné platform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apr. 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spravovaný národnou inštitú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5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4114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znamená monitoring biotopov a druho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87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3720" y="0"/>
              <a:ext cx="8951040" cy="728280"/>
              <a:chOff x="63720" y="0"/>
              <a:chExt cx="8951040" cy="728280"/>
            </a:xfrm>
          </p:grpSpPr>
          <p:pic>
            <p:nvPicPr>
              <p:cNvPr id="89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63720" y="76320"/>
                <a:ext cx="76248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85068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9188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3280" y="46080"/>
                <a:ext cx="59148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6800" y="0"/>
                <a:ext cx="3956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2462400" y="482040"/>
                <a:ext cx="423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57200" y="1981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iotopov a druhov smernice o biotopoch obsah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40" y="2895480"/>
            <a:ext cx="8305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anovenie existujúceho stav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votný zber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avidelné dlhodobé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ozorovanie výskytu biotopov príp. populá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ťahuje sa n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eprezentatívnos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eľkosť plochy, resp. populác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 tzv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aznivý stav zachovan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ýskytu typu biotopu a dru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kú úlohu má 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oring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 napĺňaní č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smernice o biotopo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99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hare logo" descr=""/>
            <p:cNvPicPr/>
            <p:nvPr/>
          </p:nvPicPr>
          <p:blipFill>
            <a:blip r:embed="rId2"/>
            <a:stretch/>
          </p:blipFill>
          <p:spPr>
            <a:xfrm>
              <a:off x="63720" y="76320"/>
              <a:ext cx="7624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5176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922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8423640" y="46080"/>
              <a:ext cx="591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366800" y="0"/>
              <a:ext cx="3956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462400" y="482040"/>
              <a:ext cx="42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NA OCHRANA PR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ÍRODY SLOVENSKEJ REPUBL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52280" y="1981080"/>
            <a:ext cx="4038840" cy="4647960"/>
            <a:chOff x="152280" y="1981080"/>
            <a:chExt cx="4038840" cy="4647960"/>
          </a:xfrm>
        </p:grpSpPr>
        <p:sp>
          <p:nvSpPr>
            <p:cNvPr id="107" name=""/>
            <p:cNvSpPr/>
            <p:nvPr/>
          </p:nvSpPr>
          <p:spPr>
            <a:xfrm>
              <a:off x="190440" y="1981080"/>
              <a:ext cx="4000680" cy="464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280" y="1995120"/>
              <a:ext cx="4038840" cy="40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114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Č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s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hranné opatrenia pre zachovanie stavu územi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pr. formou programov starostlivost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sek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ákaz zhoršovania stavu biotopov a druh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Odsek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</a:rPr>
                <a:t>Posudzovanie vplyvov na životné prostredi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Ods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4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114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800" spc="-1" strike="noStrike">
                  <a:solidFill>
                    <a:srgbClr val="000000"/>
                  </a:solidFill>
                  <a:latin typeface="Arial"/>
                </a:rPr>
                <a:t>Kompenzačné opatr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257800" y="1981080"/>
            <a:ext cx="3822840" cy="3200400"/>
            <a:chOff x="5257800" y="1981080"/>
            <a:chExt cx="3822840" cy="3200400"/>
          </a:xfrm>
        </p:grpSpPr>
        <p:sp>
          <p:nvSpPr>
            <p:cNvPr id="110" name=""/>
            <p:cNvSpPr/>
            <p:nvPr/>
          </p:nvSpPr>
          <p:spPr>
            <a:xfrm>
              <a:off x="5257800" y="1981080"/>
              <a:ext cx="3720960" cy="3200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1994040"/>
              <a:ext cx="382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360"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avidelné sledovanie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edmetov ochrany v územiach NATURA 2000 vo vzťahu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08560" y="3022560"/>
            <a:ext cx="369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tavu zacho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zentatí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lo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/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eľkosti popul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padu vplyv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inkov opatrení starostli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0920" y="2400480"/>
            <a:ext cx="1676520" cy="3848040"/>
            <a:chOff x="3580920" y="2400480"/>
            <a:chExt cx="1676520" cy="3848040"/>
          </a:xfrm>
        </p:grpSpPr>
        <p:sp>
          <p:nvSpPr>
            <p:cNvPr id="114" name=""/>
            <p:cNvSpPr/>
            <p:nvPr/>
          </p:nvSpPr>
          <p:spPr>
            <a:xfrm flipH="1">
              <a:off x="3580560" y="2400480"/>
              <a:ext cx="1676520" cy="380880"/>
            </a:xfrm>
            <a:custGeom>
              <a:avLst/>
              <a:gdLst>
                <a:gd name="textAreaLeft" fmla="*/ 261360 w 1676520"/>
                <a:gd name="textAreaRight" fmla="*/ 1466640 w 167652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580560" y="5867280"/>
              <a:ext cx="1676520" cy="381240"/>
            </a:xfrm>
            <a:custGeom>
              <a:avLst/>
              <a:gdLst>
                <a:gd name="textAreaLeft" fmla="*/ 261360 w 1676520"/>
                <a:gd name="textAreaRight" fmla="*/ 1466640 w 167652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343400" y="1981080"/>
            <a:ext cx="762120" cy="4495680"/>
            <a:chOff x="4343400" y="1981080"/>
            <a:chExt cx="762120" cy="4495680"/>
          </a:xfrm>
        </p:grpSpPr>
        <p:sp>
          <p:nvSpPr>
            <p:cNvPr id="117" name=""/>
            <p:cNvSpPr/>
            <p:nvPr/>
          </p:nvSpPr>
          <p:spPr>
            <a:xfrm>
              <a:off x="4343400" y="1981080"/>
              <a:ext cx="762120" cy="44956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2878920" y="3655800"/>
              <a:ext cx="3602520" cy="398880"/>
            </a:xfrm>
            <a:prstGeom prst="rect">
              <a:avLst/>
            </a:prstGeom>
            <a:solidFill>
              <a:srgbClr val="ffcc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NITOR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57800" y="5334120"/>
            <a:ext cx="3835440" cy="1294920"/>
            <a:chOff x="5257800" y="5334120"/>
            <a:chExt cx="3835440" cy="1294920"/>
          </a:xfrm>
        </p:grpSpPr>
        <p:sp>
          <p:nvSpPr>
            <p:cNvPr id="120" name=""/>
            <p:cNvSpPr/>
            <p:nvPr/>
          </p:nvSpPr>
          <p:spPr>
            <a:xfrm>
              <a:off x="5257800" y="5334120"/>
              <a:ext cx="3720960" cy="129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4120" y="5426640"/>
              <a:ext cx="375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Dlhodobé sledovanie</a:t>
              </a:r>
              <a:r>
                <a:rPr b="0" lang="sk-SK" sz="1800" spc="-1" strike="noStrike">
                  <a:solidFill>
                    <a:srgbClr val="000000"/>
                  </a:solidFill>
                  <a:latin typeface="Arial"/>
                </a:rPr>
                <a:t> predmetov ochrany v ich prirodzenom areáli ako referenčnej hodno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rot="5400000">
            <a:off x="8267040" y="4914360"/>
            <a:ext cx="609480" cy="381240"/>
          </a:xfrm>
          <a:custGeom>
            <a:avLst/>
            <a:gdLst>
              <a:gd name="textAreaLeft" fmla="*/ 94680 w 609480"/>
              <a:gd name="textAreaRight" fmla="*/ 53316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émy a návrhy riešení pri 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itoring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125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hare logo" descr=""/>
            <p:cNvPicPr/>
            <p:nvPr/>
          </p:nvPicPr>
          <p:blipFill>
            <a:blip r:embed="rId2"/>
            <a:stretch/>
          </p:blipFill>
          <p:spPr>
            <a:xfrm>
              <a:off x="63720" y="76320"/>
              <a:ext cx="7624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5176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22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8423640" y="46080"/>
              <a:ext cx="591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4366800" y="0"/>
              <a:ext cx="3956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462400" y="482040"/>
              <a:ext cx="42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NA OCHRANA PR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ÍRODY SLOVENSKEJ REPUBL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57200" y="5118120"/>
            <a:ext cx="3657600" cy="1219320"/>
            <a:chOff x="457200" y="5118120"/>
            <a:chExt cx="3657600" cy="1219320"/>
          </a:xfrm>
        </p:grpSpPr>
        <p:sp>
          <p:nvSpPr>
            <p:cNvPr id="133" name=""/>
            <p:cNvSpPr/>
            <p:nvPr/>
          </p:nvSpPr>
          <p:spPr>
            <a:xfrm>
              <a:off x="457200" y="5118120"/>
              <a:ext cx="3657600" cy="1219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120" y="5130720"/>
              <a:ext cx="326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dro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ľudské kapac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57200" y="1905120"/>
            <a:ext cx="3657600" cy="609480"/>
            <a:chOff x="457200" y="1905120"/>
            <a:chExt cx="3657600" cy="609480"/>
          </a:xfrm>
        </p:grpSpPr>
        <p:sp>
          <p:nvSpPr>
            <p:cNvPr id="136" name=""/>
            <p:cNvSpPr/>
            <p:nvPr/>
          </p:nvSpPr>
          <p:spPr>
            <a:xfrm>
              <a:off x="457200" y="1905120"/>
              <a:ext cx="36576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981080"/>
              <a:ext cx="361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bl</a:t>
              </a:r>
              <a:r>
                <a:rPr b="1" lang="sk-SK" sz="2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952880" y="1905120"/>
            <a:ext cx="4013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1981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vrh rieš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31640" y="2679840"/>
            <a:ext cx="3657600" cy="609480"/>
            <a:chOff x="431640" y="2679840"/>
            <a:chExt cx="3657600" cy="609480"/>
          </a:xfrm>
        </p:grpSpPr>
        <p:sp>
          <p:nvSpPr>
            <p:cNvPr id="141" name=""/>
            <p:cNvSpPr/>
            <p:nvPr/>
          </p:nvSpPr>
          <p:spPr>
            <a:xfrm>
              <a:off x="431640" y="2679840"/>
              <a:ext cx="3657600" cy="609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27432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Počet predmetov ochr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200" y="3352680"/>
            <a:ext cx="3657600" cy="1600200"/>
            <a:chOff x="457200" y="3352680"/>
            <a:chExt cx="3657600" cy="1600200"/>
          </a:xfrm>
        </p:grpSpPr>
        <p:sp>
          <p:nvSpPr>
            <p:cNvPr id="144" name=""/>
            <p:cNvSpPr/>
            <p:nvPr/>
          </p:nvSpPr>
          <p:spPr>
            <a:xfrm>
              <a:off x="457200" y="3352680"/>
              <a:ext cx="3657600" cy="1600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7960" y="3403440"/>
              <a:ext cx="3467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Intenzita skúma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časov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priestorov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me</a:t>
              </a: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todick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965840" y="2666880"/>
            <a:ext cx="40258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743200"/>
            <a:ext cx="36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príloh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en v prípad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8440" y="3365640"/>
            <a:ext cx="401328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352680"/>
            <a:ext cx="403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tvorenie skup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v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inte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pr. každých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rokov   - každ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štatistický výber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     - každý výsky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eľkostné triedy        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     - počty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78440" y="5143680"/>
            <a:ext cx="4013280" cy="121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51055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árodná databanka na intern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Zapojenie M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Prílo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druhy ako vedúce druhy pre biot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rot="10800000">
            <a:off x="4102200" y="2793960"/>
            <a:ext cx="876240" cy="380880"/>
          </a:xfrm>
          <a:custGeom>
            <a:avLst/>
            <a:gdLst>
              <a:gd name="textAreaLeft" fmla="*/ 136800 w 876240"/>
              <a:gd name="textAreaRight" fmla="*/ 766800 w 87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rot="10800000">
            <a:off x="4121280" y="3352320"/>
            <a:ext cx="876240" cy="381240"/>
          </a:xfrm>
          <a:custGeom>
            <a:avLst/>
            <a:gdLst>
              <a:gd name="textAreaLeft" fmla="*/ 136800 w 876240"/>
              <a:gd name="textAreaRight" fmla="*/ 766800 w 876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rot="10800000">
            <a:off x="4121280" y="5105520"/>
            <a:ext cx="876240" cy="380880"/>
          </a:xfrm>
          <a:custGeom>
            <a:avLst/>
            <a:gdLst>
              <a:gd name="textAreaLeft" fmla="*/ 136800 w 876240"/>
              <a:gd name="textAreaRight" fmla="*/ 766800 w 87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oku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s Committee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toring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„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orting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ocHab 04-03/03, rev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157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3720" y="0"/>
              <a:ext cx="8951040" cy="728280"/>
              <a:chOff x="63720" y="0"/>
              <a:chExt cx="8951040" cy="728280"/>
            </a:xfrm>
          </p:grpSpPr>
          <p:pic>
            <p:nvPicPr>
              <p:cNvPr id="159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63720" y="76320"/>
                <a:ext cx="76248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85068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9188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3280" y="46080"/>
                <a:ext cx="59148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6800" y="0"/>
                <a:ext cx="3956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2462400" y="482040"/>
                <a:ext cx="423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419040" y="2057400"/>
            <a:ext cx="87249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blasť správ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geog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ck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/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lenský št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hodnotenie stavu zachovania zahŕňa jeho určenie a prognó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ové členské štáty sa pripájajú k časovému rámcu stanovenému pre staré členské štáty, t.j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vá správ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ávrh seminára k té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erenčné hodnoty priaznivého stavu biotopov a druhov pre veľkosť areálu, populácie, at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a neobmedzuje len na sústav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Hab 04-03/03, rev.3</a:t>
            </a:r>
            <a:br>
              <a:rPr sz="3600"/>
            </a:b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íloh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tav zachovania druho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-11160" y="-3240"/>
            <a:ext cx="9154800" cy="731520"/>
            <a:chOff x="-11160" y="-3240"/>
            <a:chExt cx="9154800" cy="731520"/>
          </a:xfrm>
        </p:grpSpPr>
        <p:sp>
          <p:nvSpPr>
            <p:cNvPr id="168" name=""/>
            <p:cNvSpPr/>
            <p:nvPr/>
          </p:nvSpPr>
          <p:spPr>
            <a:xfrm>
              <a:off x="-11160" y="-3240"/>
              <a:ext cx="915480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3720" y="0"/>
              <a:ext cx="8951040" cy="728280"/>
              <a:chOff x="63720" y="0"/>
              <a:chExt cx="8951040" cy="728280"/>
            </a:xfrm>
          </p:grpSpPr>
          <p:pic>
            <p:nvPicPr>
              <p:cNvPr id="170" name="Phare 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63720" y="76320"/>
                <a:ext cx="76248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850680" y="227880"/>
                <a:ext cx="189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WINNING SK 2002 IB/EN/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91880" y="304920"/>
                <a:ext cx="103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NATURA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3280" y="46080"/>
                <a:ext cx="591480" cy="49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66800" y="0"/>
                <a:ext cx="3956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462400" y="482040"/>
                <a:ext cx="423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Á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TNA OCHRANA PR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ÍRODY SLOVENSKEJ REPUBLIK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0" y="1828800"/>
            <a:ext cx="3639960" cy="5029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657600" y="1828800"/>
            <a:ext cx="5486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orma pre hodnotenie stavu zachovania druhov zahŕň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arametr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reá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ci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iotop, prognó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eferenčné hodnot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areál a populác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tegóriu „neznám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kategóriu „nepriaznivý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imitné hodnoty 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5, 6 a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3:57:58Z</dcterms:created>
  <dc:creator>BB</dc:creator>
  <dc:description/>
  <dc:language>en-US</dc:language>
  <cp:lastModifiedBy>Medveďová</cp:lastModifiedBy>
  <dcterms:modified xsi:type="dcterms:W3CDTF">2006-01-26T14:00:03Z</dcterms:modified>
  <cp:revision>56</cp:revision>
  <dc:subject/>
  <dc:title>Slide 1</dc:title>
</cp:coreProperties>
</file>