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14C-1BC7-46C1-9343-F3EBF8BD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8CE-424B-4E4C-B999-DA435D8D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CA7-29EB-48CF-90E1-7E65C072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485-11E5-4E9A-A6BD-570A5DAF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3A6-9867-418B-BDA8-8145E87C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889-F26D-4F13-996D-591FAF94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488-1564-4F1D-8F3B-762EF4C3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03E-90A1-4541-813F-F19FBFB0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17D-6A97-457E-9362-7C14AFFC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C9E-3D15-41CC-996A-49C9A92F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39E-2F24-4F43-84FE-E3677E9B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38B-E5C5-4BD7-9300-67144DC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C92E-6DC0-4F59-82D7-4FB6FF7CBF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he „Favourable Conservation Status“ Of Annex I-Habitats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(Habitats-Dire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ort About The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bert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winning SK2002/IB/EN/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atislava, 20.01.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_nat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9880" cy="99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990-CC8F-4B17-AA86-9B500DC927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commendations of the Working Group Gras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05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838080" y="2286000"/>
            <a:ext cx="7848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pping of the habiatat types: building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pping of fauna not oblig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gradations´ reasons: referenc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rvey of habitat types within and beyond the S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rveillance at least all 6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surface of the habitat type is not part of the conservation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771-EE42-40F3-9B08-BE387E8BED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commendations of the Working Group Gras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12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09480" y="2362320"/>
            <a:ext cx="8077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some cases (i.e. habitat type 6210) the contact-biotopes are integrated into th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each habitat type structures have to be listed. The grades have to be described as exact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each habitat type the typical plant-species (animals if possible) a regional list has to be work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worst of several grade parameters predo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7CF-7777-4E43-8D8F-1A36BB7EF7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- A Short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18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62120" y="1371600"/>
            <a:ext cx="7543800" cy="4400640"/>
            <a:chOff x="762120" y="1371600"/>
            <a:chExt cx="7543800" cy="4400640"/>
          </a:xfrm>
        </p:grpSpPr>
        <p:sp>
          <p:nvSpPr>
            <p:cNvPr id="122" name=""/>
            <p:cNvSpPr/>
            <p:nvPr/>
          </p:nvSpPr>
          <p:spPr>
            <a:xfrm>
              <a:off x="1523880" y="1371600"/>
              <a:ext cx="2590920" cy="43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irective 92/43/E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otes“ 97/266/E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First National Working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AN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German State Agenc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arious National Working Grou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24280" y="1371600"/>
              <a:ext cx="3581640" cy="44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990000"/>
                  </a:solidFill>
                  <a:latin typeface="Arial"/>
                </a:rPr>
                <a:t>Conservation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3 sub-crite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3 German sub-criteria as basis for all habitat 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cception of the basis by the States Minist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mplementation of specific German States´ standa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ecommendations for the specific standa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21640" y="1371600"/>
              <a:ext cx="394200" cy="40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1371600"/>
              <a:ext cx="838080" cy="40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838080" y="23623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DE9-EBF7-4B6B-8AC5-1D67A499F7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arious examples of the grading-system have been worked out by the Germa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nge between expert judgement and fixed criteria-lists in manuals (Example: typical spec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. Two Exemples: Habitat Types 6520 &amp; 9160</a:t>
            </a:r>
            <a:br>
              <a:rPr sz="28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.1. Habitat Type 6520 Mountain hay me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130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A9C-7CEB-4E23-A987-88227456DA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 The Term „Favourable Conservation Statu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 In The Habitats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2. In The Document „Standard Data Form -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planatory Notes“ = „Not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. Two Examples: Habitat types 6520 and 9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47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890-7469-43BB-AFCB-B4097FDA83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 The Term Favourable Conservation Status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1. In The Habitats-Di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9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1. Intension of the Directive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logue, Art. 2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2. Definition of the term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1 (e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ex III A(c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lanatory Notes, 1 (i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ex III B (b)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lanatory Notes, 1 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1.3. Proposition for protection and site selection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rt. 3 (1), Art. 4 (4), Art. 14 (1)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11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rt.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.1.4. Financial matter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rt. 8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.1.5. Re-introduction of Annex IV-specie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rt. 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53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8C3-AC65-4ADA-B7D4-3CAB8E16FB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20570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value of a given Habitat Type in a site depends on three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resentativity = Annex III A 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lative Surface = Annex III A 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Annex III A (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2. In The Document „Standard Data Form - Explanatory Notes“ = „Note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59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C6A-E7A0-422F-900F-270897C05C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6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criterion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is summed up to the gr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 = excel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 = g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6800" indent="-766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 = average or 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2. In The Document „Standard Data Form - Explanatory Notes“ = „Note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65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CEB-D51B-43DF-A0DD-75224D9560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criterion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consists of three sub-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gree of conservation of th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gree of conservation of th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toration pos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first and the last sub-criteria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 expert judgement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2. In The Document „Standard Data Form - Explanatory Notes“ = „Note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71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001-01CE-48B9-9CAF-48185B0E8C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 Germany the three sub-criteria of the „Notes“ are implement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leteness of the typical habitat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leteness of the typical species of the habi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gra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77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3CE-83A4-451B-9A3D-4F2B234275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rades of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83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6" name=""/>
          <p:cNvGraphicFramePr/>
          <p:nvPr/>
        </p:nvGraphicFramePr>
        <p:xfrm>
          <a:off x="860400" y="1905120"/>
          <a:ext cx="8283600" cy="4368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0400" y="1905120"/>
                    <a:ext cx="828360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174-24D5-430D-9BCE-329BC95D22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75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me additions of the sub-criteria of </a:t>
            </a:r>
            <a:r>
              <a:rPr b="1" lang="de-DE" sz="2800" spc="-1" strike="noStrike">
                <a:solidFill>
                  <a:srgbClr val="990000"/>
                </a:solidFill>
                <a:latin typeface="Arial"/>
              </a:rPr>
              <a:t>Conservation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. Handling of the Directive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2120" y="5943600"/>
            <a:ext cx="7848000" cy="609480"/>
            <a:chOff x="762120" y="5943600"/>
            <a:chExt cx="7848000" cy="609480"/>
          </a:xfrm>
        </p:grpSpPr>
        <p:sp>
          <p:nvSpPr>
            <p:cNvPr id="91" name=""/>
            <p:cNvSpPr/>
            <p:nvPr/>
          </p:nvSpPr>
          <p:spPr>
            <a:xfrm>
              <a:off x="1447560" y="6019920"/>
              <a:ext cx="71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avourable Conservation Status Of Annex I-Habitats, 20.01.04, Albert La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Logo_nat1" descr=""/>
            <p:cNvPicPr/>
            <p:nvPr/>
          </p:nvPicPr>
          <p:blipFill>
            <a:blip r:embed="rId1"/>
            <a:stretch/>
          </p:blipFill>
          <p:spPr>
            <a:xfrm>
              <a:off x="914040" y="6019920"/>
              <a:ext cx="53316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62120" y="5943600"/>
              <a:ext cx="77720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2438280"/>
            <a:ext cx="7354800" cy="2097360"/>
            <a:chOff x="762120" y="2438280"/>
            <a:chExt cx="7354800" cy="2097360"/>
          </a:xfrm>
        </p:grpSpPr>
        <p:graphicFrame>
          <p:nvGraphicFramePr>
            <p:cNvPr id="95" name=""/>
            <p:cNvGraphicFramePr/>
            <p:nvPr/>
          </p:nvGraphicFramePr>
          <p:xfrm>
            <a:off x="2443320" y="2505240"/>
            <a:ext cx="5673600" cy="20304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43320" y="2505240"/>
                      <a:ext cx="5673600" cy="203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762120" y="2438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tes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38080" y="4114800"/>
            <a:ext cx="7274160" cy="2401920"/>
            <a:chOff x="838080" y="4114800"/>
            <a:chExt cx="7274160" cy="2401920"/>
          </a:xfrm>
        </p:grpSpPr>
        <p:graphicFrame>
          <p:nvGraphicFramePr>
            <p:cNvPr id="99" name=""/>
            <p:cNvGraphicFramePr/>
            <p:nvPr/>
          </p:nvGraphicFramePr>
          <p:xfrm>
            <a:off x="2438280" y="4114800"/>
            <a:ext cx="5673960" cy="240192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38280" y="4114800"/>
                      <a:ext cx="5673960" cy="24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838080" y="4114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BA0-210A-4E18-96DA-1B9B79E135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8:54:39Z</dcterms:created>
  <dc:creator>Lang Albert</dc:creator>
  <dc:description/>
  <dc:language>en-US</dc:language>
  <cp:lastModifiedBy>ŠOP SR</cp:lastModifiedBy>
  <dcterms:modified xsi:type="dcterms:W3CDTF">2004-02-03T18:25:17Z</dcterms:modified>
  <cp:revision>50</cp:revision>
  <dc:subject/>
  <dc:title>The „Favourable conservation status“ Of Habitats  Of Annex I (Habitats-Directive)</dc:title>
</cp:coreProperties>
</file>