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190-7EB3-4DFB-A130-F7F7E8DE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FA9-2EF5-45F6-8C07-CDA6309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05E-53DC-4682-B460-FB33B60C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7CF-94DB-432E-BF0E-379C6245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D49-B783-46BB-8645-A37D59E9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575-5AB4-43F6-9723-202CF000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5B3-BE1C-4F75-955D-89C906B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C0A-8F04-407D-97FA-4434BC4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553-640E-4F83-A098-ADB6B03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15E-5E04-4F47-9D04-1751769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454-C7CB-4800-BC15-3F5C23A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FF0-E1D5-4F31-AB04-CB59908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96B-1414-4007-BB2D-76079577162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Izolova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pulácia (takmer) izolovan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zolovaná populácia, ale na okrajoch areálu rozšírenia (marginál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izolovaná populácia v rámci zväčšeného areálu rozšírenia (rozšíre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elkov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dostaču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mernica Rady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/409/EHS o ochrane voľne žijúc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budú podporovať výskum a akúkoľvek činnosť požadovanú ako základ pre ochranu, manažment a využívanie populácií všetkých druhov vtákov uvedených v článk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vláštna pozornosť bude venovaná výskumu a činnostiam zameraným na predmety uvedené v prílohe V. Členské štáty dodajú Komisii všetky informácie potrebné na to, aby mohla prijať adekvátne opatrenia na koordináciu výskumu a činností uvedených v tomto člá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postúpia Komisii každé tri roky správu o implementácii opatrení prijatých v jednotlivých štátoch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loha V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rodné zoznamy druhov, ktorým hrozí vyhynutie alebo zvlášť ohrozených druhov s ohľadom na ich zemepisné rozšír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a ekologický opis oblastí, ktoré sú zvlášť dôležité pre sťahovavé druhy na ich migračných trasách a ako zimoviská a hniezdisk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údajov o početnosti populácií sťahovavých druhov na základe výsledkov ich krúžkov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vplyvu metód odchytu voľne žijúceho vtáctva na početnosť ich populá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alebo zdokonalenie ekologických metód prevencie škôd spôsobených vták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niektorých druhov ako indikátorov znečist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údium nepriaznivých účinkov chemického znečistenia na početnosť populácií vtáčích druh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princípoch, kritériách a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ovať FCS druhu vo vzťahu k jeho biotopu a prostrednictvom neho (dostatok vhodných biotopov 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rčenie váhy jednotlivých parametrov (napr.1-10) 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dri skup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eter Kaň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ákladné okruhy problé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o je priaznivý stav živočíšneho dru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 čoho priaznivý stav živočíšneho druhu vyplý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ké charakteristiky musí definovanie priaznivého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živočíšneho druhu obsahovať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 žijúcich živočíc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ľne rastúcich rastlí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nnosťou členských štátov je definovať a zabezpečiť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dru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ov v súlade so Smernic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druhu z hľadiska ochrany prírody sa bude považovať za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ke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ho druhu naznačujú, že sa dlhodob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uje ako  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rozšírenia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 pravdepodobne sa ani v dohľadnej d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ude   zmenšovať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 pravdepodobne aj bude existovať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 jeho populá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543/2002 Z.z. o ochrane prírody a kraji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 Priaznivý stav druhu, priaznivý stav biotopu a priaznivý stav časti kraj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Za priaznivý stav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hľadiska jeho ochrany (ďalej len „priaznivý stav druhu “) sa považuje taký stav, ke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daje o populačnej dynamik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u naznačujú, že sa dlhodobo udržuje ako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uje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ho populá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 Súvislá európska sústava chránených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. 1: „.....cieľom súvislej európskej sústavy chránených území je zachova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európskeho významu a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Rady 92/43/EHS z 21. mája 1992 o ochrane biotopov, voľne žijúcich živočíchov a voľne rastúcich rastlí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Rady 79/409/EHS z 2. apríla 1979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žijúcich vtákov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oznamy druhov pre definovanie priazniv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Invertebrat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Pisc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mphib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Repti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Mamma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v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júcich živočíchov a voľne rastúcich rast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 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eál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íslušného dru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topo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a dlhodobé zachovanie populá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Údaje o populá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elatívna počet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 10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   15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     2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odstatný výsk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a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priemerná alebo znížen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eň zachovania vlastností daného biotopu dôležitých pre určité dru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i obno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opsr.saxa</cp:lastModifiedBy>
  <dcterms:modified xsi:type="dcterms:W3CDTF">2004-02-02T07:21:10Z</dcterms:modified>
  <cp:revision>8</cp:revision>
  <dc:subject/>
  <dc:title>DEFINOVANIE PRIAZNIVÉHO STAVU ŽIVOČÍŠNYCH DRUHOV </dc:title>
</cp:coreProperties>
</file>