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9F87-8AEB-4FB2-B027-DDAA15E35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A2D9-5C01-4E53-A7FA-E3E20461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46D3-E9A1-4AE8-96E7-786A642D6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0057-307C-422B-BEDB-0FC2087E0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7927-605C-49B0-9530-21E707D4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4C41-5E75-4AC3-9767-C3508DF5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ADBE-33E4-497D-BA86-5B2C5AEA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00F6-0DA9-4384-8B59-C547C344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0779-ADF6-418C-A040-AEFE5238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E9BA-CBF6-494D-B62D-53BDD259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4A2A-8F4D-4812-955D-BC6A74FB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7CFD-90E5-4E0E-9460-80A3385D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99ff66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50BE-7C46-4814-830D-DD2AEC291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opsr.sk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484360" y="0"/>
            <a:ext cx="2232000" cy="20685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003640" y="260280"/>
            <a:ext cx="1438560" cy="1076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260280"/>
            <a:ext cx="1824120" cy="1916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436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Projekt ochrany a manažmentu medveďa hnedého na Slovensku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7596360" y="260280"/>
            <a:ext cx="1201680" cy="162900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5221080" y="5661000"/>
            <a:ext cx="388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g. Vladimír A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Štátna ochrana prírody 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dbor ochrany lesných biotop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3960" y="6027840"/>
            <a:ext cx="153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ratisl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ebruá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436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Projekt ochrany a manažmentu medveďa hnedého na Slovensku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99ff66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Terénne (vonkajšie) prá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1. Výberové modelové územ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ombinované telemetrické merania – GPS, terestrick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Termovízne kam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eľkoplošné sčítava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2. Územie Slovensk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ber vzoriek tru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raniometrické mer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Mitchellova metóda zisťovania ve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dber vzoriek na veterinárne vyšetr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ravidelné pozorovania v rámci 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isťovanie a presná evidencia škôd spôsobených veľkými šelm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Arial"/>
              </a:rPr>
              <a:t>Návrh modelového územ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427640" y="342864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342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17800" y="3133800"/>
            <a:ext cx="24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CHKO/CHPO Poľ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3640" y="3860640"/>
            <a:ext cx="288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899640" y="414972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66880" y="3573360"/>
            <a:ext cx="233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Poľovná oblasť J X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Kremnické v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642920" y="2781360"/>
            <a:ext cx="5050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979640" y="2997360"/>
            <a:ext cx="26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8000" y="2701800"/>
            <a:ext cx="28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atranský Národný p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99ff66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ncelárske prá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vantitatívna a kvalitatívna analýza získaného empirického  materiá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Časová analýza všetkých vykonaných meraní a zisťova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všeobecnenie získaných informácií na celé územ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rovnanie výsledkov ŠOP SR a výsledkov poľovníckej štatis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rovnanie výsledkov s výsledkami v iných krajiná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ávery a odporúčania pre ochranársku aj poľovnícku pr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ypracovanie jednoduchej metodiky na zisťovanie a aktualizáciu údajov o populác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ypracovanie metód optimálneho spôsobu manažmen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99ff66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Arial"/>
              </a:rPr>
              <a:t>Ciele a prínosy projektu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presnenie údajov 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-  celkovej populácii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-  pohlavnej a vekovej štruktú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-  dennej a sezónnej aktivi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-  zdravotnom stave a kondíci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-  priestorovej aktivite a migráci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-  veľkosti a prekrývaní domovských okrskov (HOME RANGE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-  vzájomných vnútrodruhových vzťahoch v rámci populác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-  ochrane a poľovnom obhospodarova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ypracovanie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rogramov starostlivosti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-  plán ochrany a manažmentu veľkých šeli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ypracovanie (čiastočná úprava)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kčných plánov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v rámci európskeho akčného plán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Medzinárodná spolupráca pri riešení problematiky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chrany a manažmentu veľkých šeli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538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Ďakujem za pozornosť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62640" y="6453360"/>
            <a:ext cx="28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0000"/>
                </a:solidFill>
                <a:latin typeface="Arial"/>
              </a:rPr>
              <a:t>vladimir.antal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@</a:t>
            </a:r>
            <a:r>
              <a:rPr b="1" lang="sk-SK" sz="1800" spc="-1" strike="noStrike">
                <a:solidFill>
                  <a:srgbClr val="ff0000"/>
                </a:solidFill>
                <a:latin typeface="Arial"/>
              </a:rPr>
              <a:t>sopsr.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99ff66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79280" y="549000"/>
            <a:ext cx="850752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3300"/>
                </a:solidFill>
                <a:latin typeface="Arial"/>
              </a:rPr>
              <a:t>Prirodzené podmienky – pasívna ochra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vyšovanie/znižovanie mortality a nat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úlad populácie s úživnosťou územ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amoregulácia – autoregulačné proc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3300"/>
                </a:solidFill>
                <a:latin typeface="Arial"/>
              </a:rPr>
              <a:t>Kultúrna krajina – aktívna ochrana (manažment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chrana a tvorba životného prostred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chrana dru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- druhová ochr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- územná ochrana (chránené územia kde je predmet ochrany konkrétny druh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lánovaná regulácia početnosti –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ásah do pohlavnej a vekovej štruktúry populá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99ff66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39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Medveď hnedý </a:t>
            </a:r>
            <a:r>
              <a:rPr b="1" i="1" lang="sk-SK" sz="4000" spc="-1" strike="noStrike">
                <a:solidFill>
                  <a:srgbClr val="000000"/>
                </a:solidFill>
                <a:latin typeface="Arial"/>
              </a:rPr>
              <a:t>(Ursus arcto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Zákon č. 543/2002 Z. z. o ochrane prír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a krajiny (§ 40, § 3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sk-SK" sz="3200" spc="-1" strike="noStrike" u="sng">
                <a:solidFill>
                  <a:srgbClr val="000000"/>
                </a:solidFill>
                <a:uFillTx/>
                <a:latin typeface="Arial"/>
              </a:rPr>
              <a:t>plánovaný zásah do populácie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 (regulačný lov, odchy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sk-SK" sz="3200" spc="-1" strike="noStrike" u="sng">
                <a:solidFill>
                  <a:srgbClr val="000000"/>
                </a:solidFill>
                <a:uFillTx/>
                <a:latin typeface="Arial"/>
              </a:rPr>
              <a:t>operatívny manažment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 (ochranný l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250920" y="19800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Arial"/>
              </a:rPr>
              <a:t>Problematika manažmentu medveďa na Slovensku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Arial"/>
              </a:rPr>
              <a:t>Areál prirodzeného rozšíren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763640" y="2781360"/>
            <a:ext cx="504720" cy="36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050560" y="3355920"/>
            <a:ext cx="505080" cy="36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40000" y="3932280"/>
            <a:ext cx="504720" cy="36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627280" y="4508640"/>
            <a:ext cx="504720" cy="36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3860640"/>
            <a:ext cx="0" cy="57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4292640"/>
            <a:ext cx="0" cy="57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76720" y="4149720"/>
            <a:ext cx="0" cy="57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24360" y="3932280"/>
            <a:ext cx="0" cy="57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19640" y="4292640"/>
            <a:ext cx="0" cy="57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88000" y="2276640"/>
            <a:ext cx="13687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12000" y="2637000"/>
            <a:ext cx="216036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2997360"/>
            <a:ext cx="309564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99ff66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Arial"/>
              </a:rPr>
              <a:t>Dôvody a naliehavosť vypracovania a realizácie projektu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82360"/>
            <a:ext cx="822960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Úroveň poznania – „vedecký odhad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 pohlavná a veková štruktúra populá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 migrá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 HOME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 hustota populá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 poľovné obhospodarovanie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menšovanie prirodzených biotop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šírenie mimo areálu prirodzeného rozšír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vyšovanie hustoty populá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výšené škody spôsobené veľkými šelm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výšené riziko nebezpečných stret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99ff66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inancovanie projektu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Štrukturálne fon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ccecff"/>
                </a:solidFill>
                <a:latin typeface="Arial"/>
              </a:rPr>
              <a:t>Operačný program Životné prostre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ioritná os 5 –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chrana a regenerácia prírodného prostredia a kraj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peračný cieľ 5.1 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Zabezpečenie  priaznivého stavu biotopov a dru - hov prostredníctvom vypracovania a  realizácie programov starostli - vosti o  chránené územia vrátane území  NATURA  2000 a programov záchrany pre kriticky ohrozené druhy rastlín, živočíchov a území vrá - tane realizácie monitoringu druhov a biotop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Oprávnená aktivita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I. skupina aktivít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– vypracovanie dokumentov starostlivosti, a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- programov starostlivosti o vybrané chránené druhy rastlín a živočíchov (európskeho a národného významu), ak je potrebné stanoviť zásady o tieto druhy 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99ff66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Časový harmonogram a finančná náročnosť projek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100" spc="-1" strike="noStrike">
                <a:solidFill>
                  <a:srgbClr val="000000"/>
                </a:solidFill>
                <a:latin typeface="Arial"/>
              </a:rPr>
              <a:t>2008 – 2012 </a:t>
            </a:r>
            <a:r>
              <a:rPr b="1" lang="sk-SK" sz="3100" spc="-1" strike="noStrike">
                <a:solidFill>
                  <a:srgbClr val="000000"/>
                </a:solidFill>
                <a:latin typeface="Arial"/>
                <a:ea typeface="Arial"/>
              </a:rPr>
              <a:t>→ 5 rokov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100" spc="-1" strike="noStrike">
                <a:solidFill>
                  <a:srgbClr val="000000"/>
                </a:solidFill>
                <a:latin typeface="Arial"/>
                <a:ea typeface="Arial"/>
              </a:rPr>
              <a:t>Hibernácia (nepravý zimný spánok) → cca 4 – 5 mesiacov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100" spc="-1" strike="noStrike">
                <a:solidFill>
                  <a:srgbClr val="000000"/>
                </a:solidFill>
                <a:latin typeface="Arial"/>
                <a:ea typeface="Arial"/>
              </a:rPr>
              <a:t>Trvanie projektu cca 3 rok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k-SK" sz="3100" spc="-1" strike="noStrike">
                <a:solidFill>
                  <a:srgbClr val="000000"/>
                </a:solidFill>
                <a:latin typeface="Arial"/>
                <a:ea typeface="Arial"/>
              </a:rPr>
              <a:t>A. Kontrolné dni → 1 – 2x ročne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k-SK" sz="3100" spc="-1" strike="noStrike">
                <a:solidFill>
                  <a:srgbClr val="000000"/>
                </a:solidFill>
                <a:latin typeface="Arial"/>
                <a:ea typeface="Arial"/>
              </a:rPr>
              <a:t>B. </a:t>
            </a:r>
            <a:r>
              <a:rPr b="0" lang="sk-SK" sz="31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www.sopsr.sk</a:t>
            </a:r>
            <a:r>
              <a:rPr b="1" lang="sk-SK" sz="3100" spc="-1" strike="noStrike">
                <a:solidFill>
                  <a:srgbClr val="000000"/>
                </a:solidFill>
                <a:latin typeface="Arial"/>
                <a:ea typeface="Arial"/>
              </a:rPr>
              <a:t> (informácie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99ff66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Arial"/>
              </a:rPr>
              <a:t>Materiál a metodik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ffcc"/>
                </a:solidFill>
                <a:uFillTx/>
                <a:latin typeface="Arial"/>
              </a:rPr>
              <a:t>Tri základné skupin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ípravné 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énne 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ncelárske 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635200"/>
            <a:ext cx="645768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ípravné prá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ávrh pracovnej skupiny – koordinácia celého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ávrh modelových územ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ávrh výberového dizaj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hoda s vlastník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ávrh software na z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vyhodnocovanie údaj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agácia projek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99ff66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Koordinácia projektu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oordinačná rada pre projekt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800" spc="-1" strike="noStrike">
                <a:solidFill>
                  <a:srgbClr val="3399ff"/>
                </a:solidFill>
                <a:latin typeface="Arial"/>
              </a:rPr>
              <a:t>1. Expertná koordinačná 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Štátna ochrana prírody 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Technická univerzita vo Zvol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Univerzita veterinárneho lekárstva Koš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Univerzita Mateja Bela v Banskej Bystr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Národné lesnícke centrum vo Zvol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Štátna veterinárna a potravinová správa 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800" spc="-1" strike="noStrike">
                <a:solidFill>
                  <a:srgbClr val="3399ff"/>
                </a:solidFill>
                <a:latin typeface="Arial"/>
              </a:rPr>
              <a:t>2. Výkonná, koordinačno – poradenská 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Ministerstvo životného prostredia 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Ministerstvo pôdohospodárstva 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Štátna ochrana prírody 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lovenský poľovnícky zvä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Lesy Slovenskej republiky, š. 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bbe0e3"/>
                </a:solidFill>
                <a:latin typeface="Arial"/>
              </a:rPr>
              <a:t>                                        </a:t>
            </a:r>
            <a:r>
              <a:rPr b="1" lang="sk-SK" sz="2000" spc="-1" strike="noStrike" u="sng">
                <a:solidFill>
                  <a:srgbClr val="bbe0e3"/>
                </a:solidFill>
                <a:uFillTx/>
                <a:latin typeface="Arial"/>
              </a:rPr>
              <a:t>medved</a:t>
            </a:r>
            <a:r>
              <a:rPr b="1" lang="en-US" sz="2000" spc="-1" strike="noStrike" u="sng">
                <a:solidFill>
                  <a:srgbClr val="bbe0e3"/>
                </a:solidFill>
                <a:uFillTx/>
                <a:latin typeface="Arial"/>
              </a:rPr>
              <a:t>@</a:t>
            </a:r>
            <a:r>
              <a:rPr b="1" lang="sk-SK" sz="2000" spc="-1" strike="noStrike" u="sng">
                <a:solidFill>
                  <a:srgbClr val="bbe0e3"/>
                </a:solidFill>
                <a:uFillTx/>
                <a:latin typeface="Arial"/>
              </a:rPr>
              <a:t>sopsr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16:23:58Z</dcterms:created>
  <dc:creator>Kimmiko</dc:creator>
  <dc:description/>
  <dc:language>en-US</dc:language>
  <cp:lastModifiedBy>Antal</cp:lastModifiedBy>
  <dcterms:modified xsi:type="dcterms:W3CDTF">2008-02-13T11:41:33Z</dcterms:modified>
  <cp:revision>58</cp:revision>
  <dc:subject/>
  <dc:title>Snímka 1</dc:title>
</cp:coreProperties>
</file>