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6284773060029"/>
          <c:y val="0.0448132780082988"/>
          <c:w val="0.94724560761347"/>
          <c:h val="0.935078199808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Upravené JKS k 31.3.2006</c:v>
                </c:pt>
              </c:strCache>
            </c:strRef>
          </c:tx>
          <c:spPr>
            <a:solidFill>
              <a:srgbClr val="0000ff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0000ff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4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42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0"/>
                <c:pt idx="0">
                  <c:v>J II. Bebrava</c:v>
                </c:pt>
                <c:pt idx="1">
                  <c:v>J III. Strážovská hornatina</c:v>
                </c:pt>
                <c:pt idx="2">
                  <c:v>J IV. Javorníky I,II</c:v>
                </c:pt>
                <c:pt idx="3">
                  <c:v>J IX. Žiar</c:v>
                </c:pt>
                <c:pt idx="4">
                  <c:v>J VI. Slovenské Beskydy</c:v>
                </c:pt>
                <c:pt idx="5">
                  <c:v>J VII. Oravská Magura</c:v>
                </c:pt>
                <c:pt idx="6">
                  <c:v>J VIII. Malá Fatra</c:v>
                </c:pt>
                <c:pt idx="7">
                  <c:v>J X. Vtáčnik</c:v>
                </c:pt>
                <c:pt idx="8">
                  <c:v>J XI. Kremnické pohorie</c:v>
                </c:pt>
                <c:pt idx="9">
                  <c:v>J XII. Veľká Fatra</c:v>
                </c:pt>
                <c:pt idx="10">
                  <c:v>J XIII. Orava</c:v>
                </c:pt>
                <c:pt idx="11">
                  <c:v>J XIX. Klenovský Vepor</c:v>
                </c:pt>
                <c:pt idx="12">
                  <c:v>J XV. Nízke Tatry - juh I,II</c:v>
                </c:pt>
                <c:pt idx="13">
                  <c:v>J XVI. Nízke Tatry - sever I,II</c:v>
                </c:pt>
                <c:pt idx="14">
                  <c:v>J XVIII. Poľana</c:v>
                </c:pt>
                <c:pt idx="15">
                  <c:v>J XX. Muráň</c:v>
                </c:pt>
                <c:pt idx="16">
                  <c:v>J XXI. Smolník</c:v>
                </c:pt>
                <c:pt idx="17">
                  <c:v>J XXII. Slovenský Raj</c:v>
                </c:pt>
                <c:pt idx="18">
                  <c:v>J XXIII. Levočské pohorie</c:v>
                </c:pt>
                <c:pt idx="19">
                  <c:v>J XXIV. Spišská Magura</c:v>
                </c:pt>
                <c:pt idx="20">
                  <c:v>J XXIX. Vihorlat</c:v>
                </c:pt>
                <c:pt idx="21">
                  <c:v>J XXVIII. Poloninské Karpaty</c:v>
                </c:pt>
                <c:pt idx="22">
                  <c:v>J XXXI. Vysoké Tatry</c:v>
                </c:pt>
                <c:pt idx="23">
                  <c:v>J XXVI. Nízke Beskydy </c:v>
                </c:pt>
                <c:pt idx="24">
                  <c:v>S VII. Štiavnické pohorie</c:v>
                </c:pt>
                <c:pt idx="25">
                  <c:v>S XIII. Tuhár</c:v>
                </c:pt>
                <c:pt idx="26">
                  <c:v>S XV. Málinec</c:v>
                </c:pt>
                <c:pt idx="27">
                  <c:v>S XVII. Gemer</c:v>
                </c:pt>
                <c:pt idx="28">
                  <c:v>S VIII. Zvolen</c:v>
                </c:pt>
                <c:pt idx="29">
                  <c:v>S IX. Javori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0"/>
                <c:pt idx="0">
                  <c:v>11</c:v>
                </c:pt>
                <c:pt idx="1">
                  <c:v>70</c:v>
                </c:pt>
                <c:pt idx="2">
                  <c:v>1.3</c:v>
                </c:pt>
                <c:pt idx="3">
                  <c:v>28</c:v>
                </c:pt>
                <c:pt idx="4">
                  <c:v>16</c:v>
                </c:pt>
                <c:pt idx="5">
                  <c:v>47</c:v>
                </c:pt>
                <c:pt idx="6">
                  <c:v>107</c:v>
                </c:pt>
                <c:pt idx="7">
                  <c:v>12</c:v>
                </c:pt>
                <c:pt idx="8">
                  <c:v>42</c:v>
                </c:pt>
                <c:pt idx="9">
                  <c:v>70</c:v>
                </c:pt>
                <c:pt idx="10">
                  <c:v>45</c:v>
                </c:pt>
                <c:pt idx="11">
                  <c:v>36</c:v>
                </c:pt>
                <c:pt idx="12">
                  <c:v>109</c:v>
                </c:pt>
                <c:pt idx="13">
                  <c:v>105</c:v>
                </c:pt>
                <c:pt idx="14">
                  <c:v>88</c:v>
                </c:pt>
                <c:pt idx="15">
                  <c:v>46</c:v>
                </c:pt>
                <c:pt idx="16">
                  <c:v>12</c:v>
                </c:pt>
                <c:pt idx="17">
                  <c:v>2</c:v>
                </c:pt>
                <c:pt idx="18">
                  <c:v>2.6</c:v>
                </c:pt>
                <c:pt idx="19">
                  <c:v>6.5</c:v>
                </c:pt>
                <c:pt idx="20">
                  <c:v>0.6</c:v>
                </c:pt>
                <c:pt idx="21">
                  <c:v>23</c:v>
                </c:pt>
                <c:pt idx="22">
                  <c:v>85</c:v>
                </c:pt>
                <c:pt idx="23">
                  <c:v>2</c:v>
                </c:pt>
                <c:pt idx="24">
                  <c:v>26</c:v>
                </c:pt>
                <c:pt idx="25">
                  <c:v>1.3</c:v>
                </c:pt>
                <c:pt idx="26">
                  <c:v>20</c:v>
                </c:pt>
                <c:pt idx="27">
                  <c:v>2.6</c:v>
                </c:pt>
                <c:pt idx="28">
                  <c:v>5</c:v>
                </c:pt>
                <c:pt idx="29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ávrh podľa NLC – LVÚ 2004 (ks)</c:v>
                </c:pt>
              </c:strCache>
            </c:strRef>
          </c:tx>
          <c:spPr>
            <a:solidFill>
              <a:srgbClr val="ff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42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0"/>
                <c:pt idx="0">
                  <c:v>J II. Bebrava</c:v>
                </c:pt>
                <c:pt idx="1">
                  <c:v>J III. Strážovská hornatina</c:v>
                </c:pt>
                <c:pt idx="2">
                  <c:v>J IV. Javorníky I,II</c:v>
                </c:pt>
                <c:pt idx="3">
                  <c:v>J IX. Žiar</c:v>
                </c:pt>
                <c:pt idx="4">
                  <c:v>J VI. Slovenské Beskydy</c:v>
                </c:pt>
                <c:pt idx="5">
                  <c:v>J VII. Oravská Magura</c:v>
                </c:pt>
                <c:pt idx="6">
                  <c:v>J VIII. Malá Fatra</c:v>
                </c:pt>
                <c:pt idx="7">
                  <c:v>J X. Vtáčnik</c:v>
                </c:pt>
                <c:pt idx="8">
                  <c:v>J XI. Kremnické pohorie</c:v>
                </c:pt>
                <c:pt idx="9">
                  <c:v>J XII. Veľká Fatra</c:v>
                </c:pt>
                <c:pt idx="10">
                  <c:v>J XIII. Orava</c:v>
                </c:pt>
                <c:pt idx="11">
                  <c:v>J XIX. Klenovský Vepor</c:v>
                </c:pt>
                <c:pt idx="12">
                  <c:v>J XV. Nízke Tatry - juh I,II</c:v>
                </c:pt>
                <c:pt idx="13">
                  <c:v>J XVI. Nízke Tatry - sever I,II</c:v>
                </c:pt>
                <c:pt idx="14">
                  <c:v>J XVIII. Poľana</c:v>
                </c:pt>
                <c:pt idx="15">
                  <c:v>J XX. Muráň</c:v>
                </c:pt>
                <c:pt idx="16">
                  <c:v>J XXI. Smolník</c:v>
                </c:pt>
                <c:pt idx="17">
                  <c:v>J XXII. Slovenský Raj</c:v>
                </c:pt>
                <c:pt idx="18">
                  <c:v>J XXIII. Levočské pohorie</c:v>
                </c:pt>
                <c:pt idx="19">
                  <c:v>J XXIV. Spišská Magura</c:v>
                </c:pt>
                <c:pt idx="20">
                  <c:v>J XXIX. Vihorlat</c:v>
                </c:pt>
                <c:pt idx="21">
                  <c:v>J XXVIII. Poloninské Karpaty</c:v>
                </c:pt>
                <c:pt idx="22">
                  <c:v>J XXXI. Vysoké Tatry</c:v>
                </c:pt>
                <c:pt idx="23">
                  <c:v>J XXVI. Nízke Beskydy </c:v>
                </c:pt>
                <c:pt idx="24">
                  <c:v>S VII. Štiavnické pohorie</c:v>
                </c:pt>
                <c:pt idx="25">
                  <c:v>S XIII. Tuhár</c:v>
                </c:pt>
                <c:pt idx="26">
                  <c:v>S XV. Málinec</c:v>
                </c:pt>
                <c:pt idx="27">
                  <c:v>S XVII. Gemer</c:v>
                </c:pt>
                <c:pt idx="28">
                  <c:v>S VIII. Zvolen</c:v>
                </c:pt>
                <c:pt idx="29">
                  <c:v>S IX. Javori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0"/>
                <c:pt idx="0">
                  <c:v>2</c:v>
                </c:pt>
                <c:pt idx="1">
                  <c:v>25</c:v>
                </c:pt>
                <c:pt idx="2">
                  <c:v>2</c:v>
                </c:pt>
                <c:pt idx="3">
                  <c:v>35</c:v>
                </c:pt>
                <c:pt idx="4">
                  <c:v>20</c:v>
                </c:pt>
                <c:pt idx="5">
                  <c:v>30</c:v>
                </c:pt>
                <c:pt idx="6">
                  <c:v>60</c:v>
                </c:pt>
                <c:pt idx="7">
                  <c:v>12</c:v>
                </c:pt>
                <c:pt idx="8">
                  <c:v>25</c:v>
                </c:pt>
                <c:pt idx="9">
                  <c:v>27</c:v>
                </c:pt>
                <c:pt idx="10">
                  <c:v>20</c:v>
                </c:pt>
                <c:pt idx="11">
                  <c:v>30</c:v>
                </c:pt>
                <c:pt idx="12">
                  <c:v>50</c:v>
                </c:pt>
                <c:pt idx="13">
                  <c:v>70</c:v>
                </c:pt>
                <c:pt idx="14">
                  <c:v>60</c:v>
                </c:pt>
                <c:pt idx="15">
                  <c:v>50</c:v>
                </c:pt>
                <c:pt idx="16">
                  <c:v>50</c:v>
                </c:pt>
                <c:pt idx="17">
                  <c:v>0</c:v>
                </c:pt>
                <c:pt idx="18">
                  <c:v>15</c:v>
                </c:pt>
                <c:pt idx="19">
                  <c:v>8</c:v>
                </c:pt>
                <c:pt idx="20">
                  <c:v>5</c:v>
                </c:pt>
                <c:pt idx="21">
                  <c:v>20</c:v>
                </c:pt>
                <c:pt idx="22">
                  <c:v>70</c:v>
                </c:pt>
                <c:pt idx="23">
                  <c:v>11</c:v>
                </c:pt>
                <c:pt idx="24">
                  <c:v>8</c:v>
                </c:pt>
                <c:pt idx="25">
                  <c:v>0</c:v>
                </c:pt>
                <c:pt idx="26">
                  <c:v>5</c:v>
                </c:pt>
                <c:pt idx="27">
                  <c:v>2</c:v>
                </c:pt>
                <c:pt idx="28">
                  <c:v>5</c:v>
                </c:pt>
                <c:pt idx="29">
                  <c:v>5</c:v>
                </c:pt>
              </c:numCache>
            </c:numRef>
          </c:val>
        </c:ser>
        <c:gapWidth val="100"/>
        <c:overlap val="0"/>
        <c:axId val="13589959"/>
        <c:axId val="98373337"/>
      </c:barChart>
      <c:catAx>
        <c:axId val="13589959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86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  <a:r>
                  <a:rPr b="0" sz="86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Poľovná oblasť</a:t>
                </a:r>
              </a:p>
            </c:rich>
          </c:tx>
          <c:layout>
            <c:manualLayout>
              <c:xMode val="edge"/>
              <c:yMode val="edge"/>
              <c:x val="0.490117130307467"/>
              <c:y val="0.945100542610916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 rot="5400000"/>
          <a:lstStyle/>
          <a:p>
            <a:pPr>
              <a:defRPr b="0" sz="81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98373337"/>
        <c:crossesAt val="0"/>
        <c:auto val="1"/>
        <c:lblAlgn val="ctr"/>
        <c:lblOffset val="100"/>
        <c:noMultiLvlLbl val="0"/>
      </c:catAx>
      <c:valAx>
        <c:axId val="98373337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2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  <a:r>
                  <a:rPr b="0" sz="123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Ks</a:t>
                </a:r>
              </a:p>
            </c:rich>
          </c:tx>
          <c:layout>
            <c:manualLayout>
              <c:xMode val="edge"/>
              <c:yMode val="edge"/>
              <c:x val="0.0199030014641288"/>
              <c:y val="0.46970954356846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13589959"/>
        <c:crosses val="min"/>
        <c:crossBetween val="between"/>
      </c:valAx>
      <c:spPr>
        <a:solidFill>
          <a:srgbClr val="00ff00"/>
        </a:solidFill>
        <a:ln w="0">
          <a:noFill/>
        </a:ln>
      </c:spPr>
    </c:plotArea>
    <c:legend>
      <c:legendPos val="b"/>
      <c:layout>
        <c:manualLayout>
          <c:xMode val="edge"/>
          <c:yMode val="edge"/>
          <c:x val="0.00617679355783309"/>
          <c:y val="0.931503351420364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  <a:ea typeface="Arial Unicode MS"/>
            </a:defRPr>
          </a:pPr>
        </a:p>
      </c:txPr>
    </c:legend>
    <c:plotVisOnly val="0"/>
    <c:dispBlanksAs val="gap"/>
  </c:chart>
  <c:spPr>
    <a:solidFill>
      <a:srgbClr val="ffffcc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8107-957A-426F-A2FA-339027F5AC3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K zmene podmienok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1/ Povoliť lov medveďa aj v jarnom období- ľahšie vnadenie, presnejšie určenie jeho hmotnostneja vekovej kateg=orie podľa stôp na snehu, ľahší lov, ľahšia dohľadá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ri správne stanovenom čase lovu sa na minimum obmedzí možnosť ulovenia dojčiacej medve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/ povoliť mäsité vnad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3/ včas vydávať povolenia na l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4/ vypracovať návrh akčného plánu ochrany a poľovníckeho obhospodarovania medveď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Na záver mi dovoľte povedať jednu vet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en objektívny prístup a úsilie bez predsudkov a zaujatosti zhodnotiť doterajší manažment medveďa hnedého, odvaha nebáť sa prehodnotiť doterajšiu prax, neaktuálne nahradiť novým a úzka spolupráca odborníkov a praktikovz oboch rezortov  pomôžu v budúcnosti pre medveďa aj naďalej optimálne podmienky na jeho nerušenú existenciu v prirodzených biotopoch pre súčasné aj budúce generácie, ktoré bude rešpektovať poľovnícka aj nepoľovnícka verejnosť. A to bude užitočné pre nás i pre medveď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ko som už povedal výnimku na usmrtenie medveďa hnedého môže povoliť MŽP SR po dohode s MP SR. MŽP SR v prípade udelenia výnimky určuje aj podmienky jej realizácie. Podľa užívateľov poľ. Revírov niektoré z týchto podmienok značne obmedzujú možnosti realizácie lovu medveďov. Sú to najmä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povolenia lovu iba v jesennom období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jesenné obdobie lovu poskytuje podstatne menej príležitostí prečo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medveďe migrujú do p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zhoršujú sa svetelné podmienk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identif. Medveďa podľa stôp je oveľa ťažš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lov je možný iba v noci počas splnu mesiaca,(zvyšuje sa riziko ulovenia vodiacej medvedice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-  povolenie vnadenia na rastlinnú potravu (pri dostatku prirodzenej potravy je takéto vnadenie me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traktívne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epovolenie mäsitej návnad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neskorené povolenie výnimk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 takto sprísnené podmienky doplácajú užívatelia poľovných revírov dvakrát: nezrealizujú odstrel a hradia škody,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14A-35B8-46FB-9717-A77584C8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B18-54B0-43C9-A285-13F58549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AEA-8AA8-480E-A67F-A2C00941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929-AAE2-4253-A756-5FA4CC31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9B7-363B-420A-BD25-1FAF6B7F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A478-E648-4306-A4AD-04C0C2C0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263E-5C79-465B-B4B5-E3DC61FE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51E6-1AA7-4847-AF6B-79E7BBB3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4A71-D70C-4F7E-8F8B-64F48E2C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0BC1-FBEB-4805-B9D0-F454688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96CE-E669-4F40-958F-B129F14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B09-6238-448C-AAC5-E02CC5C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40DA-5037-444F-833E-3E56E471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556A-716D-4C8A-B4B3-DD875DD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89E8-1C7A-492C-B7CF-4F2D608E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BECE-280B-49D6-A21F-6F7FA6EE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B631-9CC8-4F58-A6DE-F437F0D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C1C-7660-4E29-82B5-DD913FE3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E82-AA61-49F4-AF12-264476F4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4C5-1D10-4995-98D4-46CC6A92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173-27AF-4D70-BFE9-08FBDA66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801-82AB-4E97-9602-FABC1622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89F-F6B0-4267-A000-23A9738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D76-EE14-4870-93B7-D4FDEA04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9310-FF4C-4A95-A4A3-FB07C95E688B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20CE-F117-49D5-B50B-0C62798E6CE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581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050920" y="5013360"/>
            <a:ext cx="572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Ako ďalej s medveďom?</a:t>
            </a:r>
            <a:endParaRPr b="1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7600" y="49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863040" cy="5424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100080" y="478440"/>
            <a:ext cx="64947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br. 1  Rozšírenie medveďa hnedého v poľovných oblastiach v rokoch 1998 a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08760" y="750600"/>
            <a:ext cx="62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br. 4. Porovnanie rozšírenia medveďa hnedého v rokoch 1998 a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1295280"/>
            <a:ext cx="7197840" cy="5562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15960" y="1100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eec94"/>
                </a:solidFill>
                <a:latin typeface="Times New Roman"/>
              </a:rPr>
              <a:t>Dôsledky 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výšenie celkových stavo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Rozšírenie do úplne nových lokalít, vrátane oblastí s chovom srnčej zve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výšenie počtu stretov medveďov s občanmi so zdravotnými následkam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výšenie ohrozenia občanov, pracujúcich v lese (lesné robotníčky, taxátori ) alebo sa v lese pohybujúcich (hríbari, turisti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,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mena postoja najmä tejto časti verejnosti k medveďovi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ýchodiská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otreba zastaviť nárast početných stavov najmä v lokalitách s premnožením a v nových lokalitách výskytu s chovom srnčej zve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ástro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Zmena podmienok lovu medveďov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Pružnejšie rozhodovanie o povolení výnimie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Užšia spolupráca MŽP SR a ŠOP s MP S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Ďakujem   za pozornosť 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74640" y="1600200"/>
            <a:ext cx="599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Poľovníctvo je súhrn činností zameraných na zachovanie, zveľaďovanie, ochranu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optimálne využívanie genofondu zveri ako prírodného bohatstva  Slovenskej   republik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Ústredné riadenie poľovníctva patrí Ministerstvu pôdohospodárstva Slovenskej republ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Úlohy v poľovníctve zabezpečuje Ministerstvo pôdohospodárstva za účinnej spolupráce so slovenským poľovníckym zväzo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Orgán ochrany prírody môže v odôvodnených prípadoch povoliť výnimku z podmienok ochrany chránených druhov, vybraných druhov rastlín a vybraných druhov živočíchov, a to len v prípade, že neexistuje iná alternatíva  a výnimka neohrozí zachovanie populácií dotknutých druhov, ak ide o chránené druhy živočíchov, ktoré sú zároveň poľovnou zverou, výnimku možno povoliť až po dohode s ministerstvom pôdohospodárst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Ministerstvo pôdohospodárstva SR môže po dohode s orgánom ochrany prírody povoliť pre určité druhy zveri a oblasti na prechodný čas výnimky z ustanovení § 1 a § 2 vyhlášky č. 172/1975 Zb. o ochrane a o čase, spôsobe a podmienkach lovu .... v z. n. p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1557360"/>
          <a:ext cx="914400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inisterstvo pôdohospodárstva Slovenskej republiky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 Samostatné oddelenie poľovníct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7174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187280" y="26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476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-612720" y="0"/>
          <a:ext cx="108014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2720" y="0"/>
                    <a:ext cx="10801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9800" y="226440"/>
            <a:ext cx="82411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c94"/>
                </a:solidFill>
                <a:latin typeface="Times New Roman"/>
                <a:ea typeface="Arial Unicode MS"/>
              </a:rPr>
              <a:t>Obr. 11. Navrhované a upravené (-35%) jarné kmeňové stavy medveďa hnedého k 31.3.200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84240" y="1009800"/>
          <a:ext cx="7867800" cy="5638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8" name=""/>
          <p:cNvSpPr/>
          <p:nvPr/>
        </p:nvSpPr>
        <p:spPr>
          <a:xfrm>
            <a:off x="295200" y="805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79280" y="620640"/>
          <a:ext cx="8964720" cy="623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8388360" y="19162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3068640"/>
            <a:ext cx="57636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8360" y="220500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8360" y="256536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8360" y="544500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844640"/>
            <a:ext cx="28872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2205000"/>
            <a:ext cx="28872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492280"/>
            <a:ext cx="28872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3141720"/>
            <a:ext cx="287640" cy="142920"/>
          </a:xfrm>
          <a:prstGeom prst="leftArrow">
            <a:avLst>
              <a:gd name="adj1" fmla="val 50000"/>
              <a:gd name="adj2" fmla="val 5031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445000"/>
            <a:ext cx="28872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3284640"/>
            <a:ext cx="289080" cy="14436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429000"/>
            <a:ext cx="289080" cy="216000"/>
          </a:xfrm>
          <a:prstGeom prst="lef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3645000"/>
            <a:ext cx="289080" cy="14436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789360"/>
            <a:ext cx="289080" cy="14436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933720"/>
            <a:ext cx="289080" cy="216000"/>
          </a:xfrm>
          <a:prstGeom prst="left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4149720"/>
            <a:ext cx="289080" cy="142920"/>
          </a:xfrm>
          <a:prstGeom prst="leftArrow">
            <a:avLst>
              <a:gd name="adj1" fmla="val 50000"/>
              <a:gd name="adj2" fmla="val 505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ec94"/>
                </a:solidFill>
                <a:latin typeface="Times New Roman"/>
              </a:rPr>
              <a:t>Tabuľka 1 </a:t>
            </a:r>
            <a:br>
              <a:rPr sz="1000"/>
            </a:br>
            <a:r>
              <a:rPr b="0" lang="en-US" sz="1000" spc="-1" strike="noStrike">
                <a:solidFill>
                  <a:srgbClr val="feec94"/>
                </a:solidFill>
                <a:latin typeface="Times New Roman"/>
              </a:rPr>
              <a:t>Výmery životného priestoru pripadajúceho na jedného medveďa hnedého v poľovných oblastiach a ich porovnanie s návrhom NLC</a:t>
            </a:r>
            <a:endParaRPr b="1" lang="en-US" sz="1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2040" y="708120"/>
            <a:ext cx="767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c94"/>
                </a:solidFill>
                <a:latin typeface="Times New Roman"/>
                <a:ea typeface="Arial Unicode MS"/>
              </a:rPr>
              <a:t>Obr. 3. Rozšírenie medveďa hnedého v jednotlivých poľovných oblastiach v roku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837120" cy="528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690480" y="1318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48080" y="3648240"/>
            <a:ext cx="2209680" cy="685800"/>
          </a:xfrm>
          <a:custGeom>
            <a:avLst/>
            <a:gdLst/>
            <a:ahLst/>
            <a:rect l="l" t="t" r="r" b="b"/>
            <a:pathLst>
              <a:path w="1392" h="432">
                <a:moveTo>
                  <a:pt x="1392" y="258"/>
                </a:moveTo>
                <a:cubicBezTo>
                  <a:pt x="1366" y="249"/>
                  <a:pt x="1346" y="237"/>
                  <a:pt x="1320" y="228"/>
                </a:cubicBezTo>
                <a:cubicBezTo>
                  <a:pt x="1314" y="230"/>
                  <a:pt x="1306" y="230"/>
                  <a:pt x="1302" y="234"/>
                </a:cubicBezTo>
                <a:cubicBezTo>
                  <a:pt x="1287" y="249"/>
                  <a:pt x="1307" y="269"/>
                  <a:pt x="1284" y="234"/>
                </a:cubicBezTo>
                <a:cubicBezTo>
                  <a:pt x="1274" y="143"/>
                  <a:pt x="1273" y="158"/>
                  <a:pt x="1182" y="150"/>
                </a:cubicBezTo>
                <a:cubicBezTo>
                  <a:pt x="1166" y="139"/>
                  <a:pt x="1128" y="126"/>
                  <a:pt x="1128" y="126"/>
                </a:cubicBezTo>
                <a:cubicBezTo>
                  <a:pt x="1106" y="128"/>
                  <a:pt x="1083" y="126"/>
                  <a:pt x="1062" y="132"/>
                </a:cubicBezTo>
                <a:cubicBezTo>
                  <a:pt x="1054" y="134"/>
                  <a:pt x="1037" y="188"/>
                  <a:pt x="1026" y="204"/>
                </a:cubicBezTo>
                <a:cubicBezTo>
                  <a:pt x="1010" y="202"/>
                  <a:pt x="993" y="204"/>
                  <a:pt x="978" y="198"/>
                </a:cubicBezTo>
                <a:cubicBezTo>
                  <a:pt x="971" y="195"/>
                  <a:pt x="973" y="182"/>
                  <a:pt x="966" y="180"/>
                </a:cubicBezTo>
                <a:cubicBezTo>
                  <a:pt x="954" y="177"/>
                  <a:pt x="926" y="187"/>
                  <a:pt x="912" y="192"/>
                </a:cubicBezTo>
                <a:cubicBezTo>
                  <a:pt x="894" y="186"/>
                  <a:pt x="876" y="180"/>
                  <a:pt x="858" y="174"/>
                </a:cubicBezTo>
                <a:cubicBezTo>
                  <a:pt x="852" y="172"/>
                  <a:pt x="840" y="168"/>
                  <a:pt x="840" y="168"/>
                </a:cubicBezTo>
                <a:cubicBezTo>
                  <a:pt x="806" y="173"/>
                  <a:pt x="773" y="173"/>
                  <a:pt x="744" y="192"/>
                </a:cubicBezTo>
                <a:cubicBezTo>
                  <a:pt x="694" y="179"/>
                  <a:pt x="644" y="157"/>
                  <a:pt x="594" y="150"/>
                </a:cubicBezTo>
                <a:cubicBezTo>
                  <a:pt x="565" y="140"/>
                  <a:pt x="541" y="155"/>
                  <a:pt x="564" y="120"/>
                </a:cubicBezTo>
                <a:cubicBezTo>
                  <a:pt x="562" y="112"/>
                  <a:pt x="563" y="102"/>
                  <a:pt x="558" y="96"/>
                </a:cubicBezTo>
                <a:cubicBezTo>
                  <a:pt x="545" y="80"/>
                  <a:pt x="521" y="103"/>
                  <a:pt x="558" y="78"/>
                </a:cubicBezTo>
                <a:cubicBezTo>
                  <a:pt x="554" y="65"/>
                  <a:pt x="547" y="36"/>
                  <a:pt x="534" y="24"/>
                </a:cubicBezTo>
                <a:cubicBezTo>
                  <a:pt x="523" y="15"/>
                  <a:pt x="498" y="0"/>
                  <a:pt x="498" y="0"/>
                </a:cubicBezTo>
                <a:cubicBezTo>
                  <a:pt x="484" y="3"/>
                  <a:pt x="451" y="9"/>
                  <a:pt x="450" y="12"/>
                </a:cubicBezTo>
                <a:cubicBezTo>
                  <a:pt x="443" y="42"/>
                  <a:pt x="463" y="130"/>
                  <a:pt x="420" y="144"/>
                </a:cubicBezTo>
                <a:cubicBezTo>
                  <a:pt x="415" y="152"/>
                  <a:pt x="403" y="174"/>
                  <a:pt x="390" y="174"/>
                </a:cubicBezTo>
                <a:cubicBezTo>
                  <a:pt x="383" y="174"/>
                  <a:pt x="379" y="165"/>
                  <a:pt x="372" y="162"/>
                </a:cubicBezTo>
                <a:cubicBezTo>
                  <a:pt x="338" y="147"/>
                  <a:pt x="301" y="138"/>
                  <a:pt x="264" y="132"/>
                </a:cubicBezTo>
                <a:cubicBezTo>
                  <a:pt x="242" y="117"/>
                  <a:pt x="247" y="104"/>
                  <a:pt x="222" y="96"/>
                </a:cubicBezTo>
                <a:cubicBezTo>
                  <a:pt x="198" y="104"/>
                  <a:pt x="188" y="111"/>
                  <a:pt x="174" y="132"/>
                </a:cubicBezTo>
                <a:cubicBezTo>
                  <a:pt x="169" y="159"/>
                  <a:pt x="165" y="175"/>
                  <a:pt x="150" y="198"/>
                </a:cubicBezTo>
                <a:cubicBezTo>
                  <a:pt x="144" y="229"/>
                  <a:pt x="146" y="241"/>
                  <a:pt x="120" y="258"/>
                </a:cubicBezTo>
                <a:cubicBezTo>
                  <a:pt x="118" y="264"/>
                  <a:pt x="118" y="272"/>
                  <a:pt x="114" y="276"/>
                </a:cubicBezTo>
                <a:cubicBezTo>
                  <a:pt x="104" y="286"/>
                  <a:pt x="78" y="300"/>
                  <a:pt x="78" y="300"/>
                </a:cubicBezTo>
                <a:cubicBezTo>
                  <a:pt x="76" y="306"/>
                  <a:pt x="76" y="314"/>
                  <a:pt x="72" y="318"/>
                </a:cubicBezTo>
                <a:cubicBezTo>
                  <a:pt x="62" y="328"/>
                  <a:pt x="36" y="342"/>
                  <a:pt x="36" y="342"/>
                </a:cubicBezTo>
                <a:cubicBezTo>
                  <a:pt x="22" y="385"/>
                  <a:pt x="35" y="371"/>
                  <a:pt x="6" y="390"/>
                </a:cubicBezTo>
                <a:cubicBezTo>
                  <a:pt x="13" y="432"/>
                  <a:pt x="0" y="426"/>
                  <a:pt x="30" y="42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28:54Z</dcterms:created>
  <dc:creator>Jozef.Hlasnik</dc:creator>
  <dc:description/>
  <dc:language>en-US</dc:language>
  <cp:lastModifiedBy>Valer Cmorik</cp:lastModifiedBy>
  <dcterms:modified xsi:type="dcterms:W3CDTF">2001-05-03T12:39:21Z</dcterms:modified>
  <cp:revision>10</cp:revision>
  <dc:subject/>
  <dc:title>Snímka 1</dc:title>
</cp:coreProperties>
</file>