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13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504-FE21-4452-9429-2F2823BB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C12-060A-4918-98FD-17FE9B6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DE1-FEB6-4168-99E8-17002FE6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BCB-A4F3-4B84-8DC8-778C4A12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E92-E710-4ED9-9260-E202620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A89-0936-4A90-937A-19165F70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44A-49B3-4DF2-B021-997C1B82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EDE-12F6-4652-ABFA-0D7C5641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7EA-BDBB-4028-99D9-B68CC375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B50-F268-4811-9FE8-C7437A2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DE7-6F81-4387-B52C-67CB691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31C-28F1-415C-A8A5-07AA1D0D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EE40-87A2-48A1-8732-D3EDB8F8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16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43280" cy="217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istória a súčasnosť obhospodarovania veľkých šeliem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a Slovens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560" y="3644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. Peter Kaš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árodné lesnícke centrum – Lesnícky výskumný ústav Zvo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203640" y="4724280"/>
            <a:ext cx="24876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čiatok 20. storočia oblasť severovýchodného Slovensk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roku 1945 dochádza k rozširovaniu na územie stredného Slovensk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1955 trvalý výskyt v oblasti severovýchodného Slovenska, Vysokých Tatier, Oravy, Poľany a Slovenského kra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čiatok 70. rokov areál opätovne zúžený na oblasť východného Slovens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 80. rokoch expanzia areálu na západ, hornaté oblasti severného a stredného Slovenska. Ojedinele vlky prenikajú do Maďarska a na severnú Moravu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547120" cy="5158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200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56908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73324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orský poľovný zákonný článok XX z roku 1883 dovoľoval majiteľovi pozemkov ničiť dravú a škodlivú zver na vlastnej pô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kon č. 225/1947 o poľovníctve celoročný lov (odstrel, železá, tráv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č. 172/1975 Zb. doba lovu od 16. septembra do 28. februá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MŽP SR č. 93/1999 Z. z. doba ochrany od 16. januára do 31. októbra – rozpor s platnou poľovníckou legislatí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80" idx="3"/>
            <a:endCxn id="80" idx="3"/>
          </p:cNvCxnSpPr>
          <p:nvPr/>
        </p:nvCxnSpPr>
        <p:spPr>
          <a:xfrm>
            <a:off x="8892720" y="4061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la vyhlášky MP SR č. 172/1975 Zb. o ochrane a o čase, spôsobe a podmienkach lovu zveri č. 230/2001 Z. z. určuje dobu lovu od 1. novembra do 15. januá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MŽP SR č. 24/2003 Z. z. ktorou sa vykonáva zákon č. 543/2002 Z. z. o ochrane prírody (príloha č.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3"/>
            <a:endCxn id="83" idx="3"/>
          </p:cNvCxnSpPr>
          <p:nvPr/>
        </p:nvCxnSpPr>
        <p:spPr>
          <a:xfrm>
            <a:off x="8892720" y="4061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8604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20. a 30. roky niektoré oblasti stredného Sloven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väčšovanie areálu počas 2. svetovej vojny a po n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49 Slovenské Beskydy, Oravská Magura, Veľká Fatra, Liptovské hole, Vysoké Tatry, Spišská Magura, Levočské Vrchy, Slovenské Rudohorie a Vihor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55 výskyt v ďalších pohoriach smerom na západ (Malá Fatra, Kremnické vrchy), severovýchod (Čergov, Ondavská vrchovina), juh (Slovenské Rudohorie, Juhoslovenský kras) a severného okraja Východoslovenskej nížiny. Výskyt sa uvádza aj z oblasti Čadce a Moravsko – Sliezskych Beský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64 – 1968 výskyt vo všetkých pohoriach okrem Malých Karpát, južnej časti Bielych Karpát, Považského Inovca, Tríbča, Pohronského Inovca, južnej časti Krupinskej planiny a Slánskeho poh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72 – 1975 zmenšenie areálu rysa v oblasti západného a severozápadného Slovenska (Biele Karpaty, Javorníky), juh stredného Slovenska (Štiavnické vrchy, Krupinská planina, Javorie), nesúvislý areál na východnom Sloven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 r. 1980 opätovné zväčšovanie areálu až do súčasnej podo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642160" cy="505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424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lom 19. a 20. storočia na strednom a severnom Slovensku hojný, na západnom vyhuben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32 prežíva v horských oblastiach stredného Sloven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47 Veľká a Malá Fatra, Vtáčnik, Oravská Magura, Slovenské Beskydy, Chočské vrchy, Nízke a Vysoké Tatry, Spišská Magura, Levočské pohorie a Polonin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66 – 1968 Veľká a Malá Fatra, Vtáčnik, Oravská Magura, Slovenské Beskydy, Chočské vrchy, Nízke a Vysoké Tatry, Strážovské vrchy, Kremnické vrchy, Žiar, Poľana, Slovenské Rudohorie, Slovenský Raj a Vihor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</a:t>
            </a:r>
            <a:r>
              <a:rPr b="0" lang="sk-SK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47640" y="2452680"/>
            <a:ext cx="7302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</a:t>
            </a:r>
            <a:r>
              <a:rPr b="0" lang="sk-SK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orský poľovný zákonný článok XX z roku 1883 dovoľoval majiteľovi pozemkov ničiť dravú a škodlivú zver na vlastnej pô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r. 1936 čiastočná ochrana od 1. marca do 31. jú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r. 1955 povolený celoročný 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č. 172/1975 Zb. doba lovu od 16. septembra do 28. februá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MŽP SR č. 93/1999 Z. z. celoročná ochrana – rozpor s platnou poľovníckou legislatí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100" idx="3"/>
            <a:endCxn id="100" idx="3"/>
          </p:cNvCxnSpPr>
          <p:nvPr/>
        </p:nvCxnSpPr>
        <p:spPr>
          <a:xfrm>
            <a:off x="8892720" y="4061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</a:t>
            </a:r>
            <a:r>
              <a:rPr b="0" lang="sk-SK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la vyhlášky MP SR č. 172/1975 Zb. o ochrane a o čase, spôsobe a podmienkach lovu zveri č. 230/2001 Z. z. zaradila rysa medzi celoročne chránené druhy zv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3" idx="3"/>
            <a:endCxn id="103" idx="3"/>
          </p:cNvCxnSpPr>
          <p:nvPr/>
        </p:nvCxnSpPr>
        <p:spPr>
          <a:xfrm>
            <a:off x="8892720" y="4061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Ďakujem za pozornosť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85 rozšírenie do oblasti Moravsko – Sliezskych Beskýd, Javorníkov, severnej časti Bielych Karpát, Považského Inovca a Jav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a 17 rokov posun západnej hranice západokarpatského areálu o 40 km na západ a jeho východnej hranice o 50 km na výc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 východnom Slovensku sa medveď vyskytoval v oblastiach Vihorlat, Busov a Laborecká vrchov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8497800" cy="5419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200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17880" y="2306520"/>
            <a:ext cx="3870000" cy="2130480"/>
          </a:xfrm>
          <a:custGeom>
            <a:avLst/>
            <a:gdLst/>
            <a:ahLst/>
            <a:rect l="l" t="t" r="r" b="b"/>
            <a:pathLst>
              <a:path w="2438" h="1342">
                <a:moveTo>
                  <a:pt x="434" y="187"/>
                </a:moveTo>
                <a:cubicBezTo>
                  <a:pt x="282" y="283"/>
                  <a:pt x="8" y="461"/>
                  <a:pt x="4" y="616"/>
                </a:cubicBezTo>
                <a:cubicBezTo>
                  <a:pt x="0" y="771"/>
                  <a:pt x="216" y="994"/>
                  <a:pt x="412" y="1115"/>
                </a:cubicBezTo>
                <a:cubicBezTo>
                  <a:pt x="608" y="1236"/>
                  <a:pt x="918" y="1342"/>
                  <a:pt x="1183" y="1342"/>
                </a:cubicBezTo>
                <a:cubicBezTo>
                  <a:pt x="1448" y="1342"/>
                  <a:pt x="1804" y="1198"/>
                  <a:pt x="2000" y="1115"/>
                </a:cubicBezTo>
                <a:cubicBezTo>
                  <a:pt x="2196" y="1032"/>
                  <a:pt x="2294" y="941"/>
                  <a:pt x="2362" y="843"/>
                </a:cubicBezTo>
                <a:cubicBezTo>
                  <a:pt x="2430" y="745"/>
                  <a:pt x="2438" y="632"/>
                  <a:pt x="2408" y="526"/>
                </a:cubicBezTo>
                <a:cubicBezTo>
                  <a:pt x="2378" y="420"/>
                  <a:pt x="2309" y="291"/>
                  <a:pt x="2181" y="208"/>
                </a:cubicBezTo>
                <a:cubicBezTo>
                  <a:pt x="2053" y="125"/>
                  <a:pt x="1848" y="54"/>
                  <a:pt x="1637" y="27"/>
                </a:cubicBezTo>
                <a:cubicBezTo>
                  <a:pt x="1426" y="0"/>
                  <a:pt x="1114" y="16"/>
                  <a:pt x="914" y="43"/>
                </a:cubicBezTo>
                <a:cubicBezTo>
                  <a:pt x="714" y="70"/>
                  <a:pt x="586" y="91"/>
                  <a:pt x="434" y="18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56600" y="2517840"/>
            <a:ext cx="1439640" cy="1415880"/>
          </a:xfrm>
          <a:custGeom>
            <a:avLst/>
            <a:gdLst/>
            <a:ahLst/>
            <a:rect l="l" t="t" r="r" b="b"/>
            <a:pathLst>
              <a:path w="907" h="892">
                <a:moveTo>
                  <a:pt x="333" y="30"/>
                </a:moveTo>
                <a:cubicBezTo>
                  <a:pt x="265" y="0"/>
                  <a:pt x="241" y="23"/>
                  <a:pt x="196" y="30"/>
                </a:cubicBezTo>
                <a:cubicBezTo>
                  <a:pt x="151" y="37"/>
                  <a:pt x="90" y="45"/>
                  <a:pt x="60" y="75"/>
                </a:cubicBezTo>
                <a:cubicBezTo>
                  <a:pt x="30" y="105"/>
                  <a:pt x="0" y="158"/>
                  <a:pt x="15" y="211"/>
                </a:cubicBezTo>
                <a:cubicBezTo>
                  <a:pt x="30" y="264"/>
                  <a:pt x="113" y="333"/>
                  <a:pt x="151" y="393"/>
                </a:cubicBezTo>
                <a:cubicBezTo>
                  <a:pt x="189" y="453"/>
                  <a:pt x="234" y="506"/>
                  <a:pt x="242" y="574"/>
                </a:cubicBezTo>
                <a:cubicBezTo>
                  <a:pt x="250" y="642"/>
                  <a:pt x="181" y="748"/>
                  <a:pt x="196" y="801"/>
                </a:cubicBezTo>
                <a:cubicBezTo>
                  <a:pt x="211" y="854"/>
                  <a:pt x="273" y="892"/>
                  <a:pt x="333" y="892"/>
                </a:cubicBezTo>
                <a:cubicBezTo>
                  <a:pt x="393" y="892"/>
                  <a:pt x="483" y="847"/>
                  <a:pt x="559" y="801"/>
                </a:cubicBezTo>
                <a:cubicBezTo>
                  <a:pt x="635" y="755"/>
                  <a:pt x="733" y="687"/>
                  <a:pt x="786" y="619"/>
                </a:cubicBezTo>
                <a:cubicBezTo>
                  <a:pt x="839" y="551"/>
                  <a:pt x="907" y="461"/>
                  <a:pt x="877" y="393"/>
                </a:cubicBezTo>
                <a:cubicBezTo>
                  <a:pt x="847" y="325"/>
                  <a:pt x="688" y="271"/>
                  <a:pt x="605" y="211"/>
                </a:cubicBezTo>
                <a:cubicBezTo>
                  <a:pt x="522" y="151"/>
                  <a:pt x="401" y="60"/>
                  <a:pt x="333" y="30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04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7416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orský poľovný zákonný článok XX z roku 1883 platný na Slovensku s rôznymi obmenami a doplnkami až do vydania nového zákona o poľovníctve č. 225/1947, dovoľoval majiteľovi pozemkov ničiť dravú a škodlivú zver na vlastnej pô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1932 nariadenie č. 127203 – 14 o celoročnej ochrane medveďa, ktoré malo platiť až do 31. 12. 193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oročná ochrana sa uplatňovala aj v ďalších rokoch a bola zakotvená vo všetkých nasledujúcich predpisoch na úseku poľovníctva a ochrany prírody až do súčas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1962 povolenie odstrelu na základe výnimky z jeho ochr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1980 sa lov medveďov plánoval podľa hmotnostných kategórií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do 100 kg     40 – 50 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do 200 kg     40 – 50 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200 kg             10 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1990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do 100 kg     90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do 150 kg     10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1999 stanovené nové podmienky lov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hmotnosť do 100 kg, alebo šírka prednej laby do 12 c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čas lovu od 1.6. do 30.11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zákaz lovu v jarnom období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zákaz vnadenia mäsitou potravou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vnadenie a lov len na schválenej lokalite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roku 1962 sa oficiálne ulovilo spolu 1421 jedinc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roko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2 – 196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emerne 10 jedincov roč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 – 197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jedinc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 – 198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 jedinc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 – 199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jedinc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ximum 1991 a 1992 po 73 jedincov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roku 1999, po zavedení nových podmienok (obmedzení), došlo k podstatnému poklesu realizovaného regulačného lo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47640" y="5589720"/>
            <a:ext cx="6135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9:37:27Z</dcterms:created>
  <dc:creator>Ing. Peter Kaštier</dc:creator>
  <dc:description/>
  <dc:language>en-US</dc:language>
  <cp:lastModifiedBy>Ing. Peter Kaštier</cp:lastModifiedBy>
  <dcterms:modified xsi:type="dcterms:W3CDTF">2008-02-10T22:58:22Z</dcterms:modified>
  <cp:revision>58</cp:revision>
  <dc:subject/>
  <dc:title>História a súčasnosť obhospodarovania veľkých šeliem  na Slovensku</dc:title>
</cp:coreProperties>
</file>