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D4D7-358B-49FC-BD9A-9B1B19137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9434-6BA3-48DF-B848-3392DF9C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7F24-1745-4C09-A7C4-2C0384140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236D-CC92-40A4-A101-0BE101392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73DF-D6A0-4609-8604-7C90DD9C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FB1A-BFDC-4CEF-B0CB-A1AE803C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7FB0-FDD9-42A2-93B1-FA317BAA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59D4-75A0-477D-AB83-8A751359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CF3F-BA8F-4949-8DD1-635912F5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2B52-AF9F-4566-8728-098B2F7D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6322-44FC-4431-A5F4-96463CC1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839C-209C-4C59-BCD6-05B85E1C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20C2-9696-4675-A636-89A54E87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1D06-81DA-47BD-BAF0-74755317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9A6E-F73E-4C38-9F30-8A1E1575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4A69-AA83-4EFB-918B-3F5964E34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3C39-47B1-43D8-B6F0-2D43D33B4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DAEB-1FAA-434A-BE8F-CF32D33E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87A8-D532-4184-BB38-3A01CFC9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C1F7-69E6-4F0A-93C3-FEABE7E5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DE51-7632-4D99-B453-92E9A880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AEEF-8869-44AB-939F-ADCAFEA3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721D-24EC-458E-8306-8F3E128C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110B-85B9-4AC9-9F62-7EAB5539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00FB-C0D6-48AD-85AA-F831025143BF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BE3F-41B4-4818-9D5E-0ED41933F664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Genetická diverzita a diferenciácia populácií medveďa hnedého (</a:t>
            </a:r>
            <a:r>
              <a:rPr b="0" i="1" lang="en-US" sz="4000" spc="-1" strike="noStrike">
                <a:solidFill>
                  <a:srgbClr val="e5ffff"/>
                </a:solidFill>
                <a:latin typeface="Tahoma"/>
              </a:rPr>
              <a:t>Ursus arctos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L.) v Karpatoch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tin Stra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47640" y="2997360"/>
            <a:ext cx="676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Genetická diverzita a diferenciácia populácií medveďa hnedého (</a:t>
            </a:r>
            <a:r>
              <a:rPr b="0" i="1" lang="en-US" sz="3600" spc="-1" strike="noStrike">
                <a:solidFill>
                  <a:srgbClr val="e5ffff"/>
                </a:solidFill>
                <a:latin typeface="Tahoma"/>
              </a:rPr>
              <a:t>Ursus arctos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L.) v Karpato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63640" y="5734080"/>
            <a:ext cx="60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dislav Paule,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Martin Strak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ana Krajmerov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&amp; Michal Adam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tódy molekulárnej genetik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úžia ako nástroj pre potreby populačnej biológ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dhad veľkosti populácie, pomer pohlav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novenie populačnej diverzity, diferenciácie, toku génov, systém páren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ylogenéza, fylogeograf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nzervačná biológ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dhad veľkosti populác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hady veľkosti populácie sú obyčajne  skresle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einvazívny spôsob odberu vzoriek – vzorky trusu, sr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genotyping – určenie genotypu vzorky na základe analýzy viacerých lokuso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čet neidentických genotypov je funkcio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čtu vyzbieraných vzori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 tejto závislosti je odhadnutá početnosť populác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ikrosatel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TR – </a:t>
            </a:r>
            <a:r>
              <a:rPr b="0" lang="sk-SK" sz="3200" spc="-1" strike="noStrike" u="sng">
                <a:solidFill>
                  <a:srgbClr val="ffffff"/>
                </a:solidFill>
                <a:uFillTx/>
                <a:latin typeface="Tahoma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hort </a:t>
            </a:r>
            <a:r>
              <a:rPr b="0" lang="sk-SK" sz="3200" spc="-1" strike="noStrike" u="sng">
                <a:solidFill>
                  <a:srgbClr val="ffffff"/>
                </a:solidFill>
                <a:uFillTx/>
                <a:latin typeface="Tahoma"/>
              </a:rPr>
              <a:t>T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andem </a:t>
            </a:r>
            <a:r>
              <a:rPr b="0" lang="sk-SK" sz="3200" spc="-1" strike="noStrike" u="sng">
                <a:solidFill>
                  <a:srgbClr val="ffffff"/>
                </a:solidFill>
                <a:uFillTx/>
                <a:latin typeface="Tahoma"/>
              </a:rPr>
              <a:t>R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epea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nukleotidové opakovani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kodominantn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kódujúce úseky – nie sú nositelia informácie pre tvorbu produ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ysoko polymorfné úse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ampl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ork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tkanív z ulovených medveďov (spolupráca so ŠOP S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orky krv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edzinárodná spolupráca – vzorky tkanív z Rumunska a zo Slovins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invazívne odoberanie vzoriek – trus, srsť – oblasť Poľ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uzeálne exponáty – srsť, k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zolácia DN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tkanivá – fenol/chloroformová metó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Qiagen Tissue K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trus – Qiagen Stool K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romega DNA IQ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C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plifikácia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požadovaných lokusov pomocou termostabilnej polymeráz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teoreticky je možné získať z 1 molekuly DNA milióny kópií daného úsek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amplifikácia 12 lokusov (Bellemain </a:t>
            </a:r>
            <a:r>
              <a:rPr b="0" i="1" lang="sk-SK" sz="3200" spc="-1" strike="noStrike">
                <a:solidFill>
                  <a:srgbClr val="ffffff"/>
                </a:solidFill>
                <a:latin typeface="Tahoma"/>
              </a:rPr>
              <a:t>et al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. 2004, Waits </a:t>
            </a:r>
            <a:r>
              <a:rPr b="0" i="1" lang="sk-SK" sz="3200" spc="-1" strike="noStrike">
                <a:solidFill>
                  <a:srgbClr val="ffffff"/>
                </a:solidFill>
                <a:latin typeface="Tahoma"/>
              </a:rPr>
              <a:t>et al.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2000) a 1 pohlavne špecifického  markéru (SR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e5ffff"/>
                </a:solidFill>
                <a:latin typeface="Tahoma"/>
              </a:rPr>
              <a:t>Genotypovan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určenie genotypu jedinca na základe analýzy viacerých lokuso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určenie pohlav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analýza pomocou sekvenáto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3280" y="2205000"/>
            <a:ext cx="403884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ie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istiť diverzitu slovenskej populácie (bottleneck) a ako sa líši od ostatných  karpatských a balkánskych populácií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a modelovom území odhadnúť početnosť populáci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okúsiť sa objasniť či územie Západných Karpát predstavovalo glaciálne refúgiu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e5ffff"/>
                </a:solidFill>
                <a:latin typeface="Tahoma"/>
              </a:rPr>
              <a:t>Výsledk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votná analýza 94 vzoriek tkanív zo Slovenska, Rumunska, Bosny a Rus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istené efektívne počty alel a alelické frekvenc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tanovená očakávaná a pozorovaná heterozygotnos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orovnanie so Škandinávskou populáciou (Waits </a:t>
            </a:r>
            <a:r>
              <a:rPr b="0" i="1" lang="sk-SK" sz="3200" spc="-1" strike="noStrike">
                <a:solidFill>
                  <a:srgbClr val="ffffff"/>
                </a:solidFill>
                <a:latin typeface="Tahoma"/>
              </a:rPr>
              <a:t>et al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. 200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457200" y="380880"/>
          <a:ext cx="8229600" cy="4983120"/>
        </p:xfrm>
        <a:graphic>
          <a:graphicData uri="http://schemas.openxmlformats.org/drawingml/2006/table">
            <a:tbl>
              <a:tblPr/>
              <a:tblGrid>
                <a:gridCol w="1303200"/>
                <a:gridCol w="1073160"/>
                <a:gridCol w="1073160"/>
                <a:gridCol w="1276560"/>
                <a:gridCol w="1276200"/>
                <a:gridCol w="1114560"/>
                <a:gridCol w="1112760"/>
              </a:tblGrid>
              <a:tr h="453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ok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i="1" lang="en-US" sz="20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i="1" lang="en-US" sz="20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i="1" lang="sk-SK" sz="20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(Nei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u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83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78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78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8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1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u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77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7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81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8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u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736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7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73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79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1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u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62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7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80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8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u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68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8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76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83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10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556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6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57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8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iem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70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748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74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806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468360" y="5805360"/>
            <a:ext cx="576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18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sk-SK" sz="1800" spc="-1" strike="noStrike">
                <a:solidFill>
                  <a:srgbClr val="ffffff"/>
                </a:solidFill>
                <a:latin typeface="Tahoma"/>
              </a:rPr>
              <a:t> slovenská populácia (94 jedincov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Tahoma"/>
              </a:rPr>
              <a:t>B </a:t>
            </a:r>
            <a:r>
              <a:rPr b="0" lang="sk-SK" sz="18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sk-SK" sz="1800" spc="-1" strike="noStrike">
                <a:solidFill>
                  <a:srgbClr val="ffffff"/>
                </a:solidFill>
                <a:latin typeface="Tahoma"/>
              </a:rPr>
              <a:t> škandinávska populácia (30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jväčšia populácia – územie Ruska a SV Európ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sleduje populácia v Karpatoch a na Balká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ápadná Európa – málopočetné populácie ohrozené vyhynut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e5ffff"/>
                </a:solidFill>
                <a:latin typeface="Tahoma"/>
              </a:rPr>
              <a:t>Medveď v Európ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Porovnanie </a:t>
            </a:r>
            <a:r>
              <a:rPr b="0" lang="sk-SK" sz="3200" spc="-1" strike="noStrike">
                <a:solidFill>
                  <a:srgbClr val="e5ffff"/>
                </a:solidFill>
                <a:latin typeface="Tahoma"/>
              </a:rPr>
              <a:t>karpat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sk</a:t>
            </a:r>
            <a:r>
              <a:rPr b="0" lang="sk-SK" sz="3200" spc="-1" strike="noStrike">
                <a:solidFill>
                  <a:srgbClr val="e5ffff"/>
                </a:solidFill>
                <a:latin typeface="Tahoma"/>
              </a:rPr>
              <a:t>ý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ch a balk</a:t>
            </a:r>
            <a:r>
              <a:rPr b="0" lang="sk-SK" sz="3200" spc="-1" strike="noStrike">
                <a:solidFill>
                  <a:srgbClr val="e5ffff"/>
                </a:solidFill>
                <a:latin typeface="Tahoma"/>
              </a:rPr>
              <a:t>á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nskych popul</a:t>
            </a:r>
            <a:r>
              <a:rPr b="0" lang="sk-SK" sz="3200" spc="-1" strike="noStrike">
                <a:solidFill>
                  <a:srgbClr val="e5ffff"/>
                </a:solidFill>
                <a:latin typeface="Tahoma"/>
              </a:rPr>
              <a:t>á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ci</a:t>
            </a:r>
            <a:r>
              <a:rPr b="0" lang="sk-SK" sz="3200" spc="-1" strike="noStrike">
                <a:solidFill>
                  <a:srgbClr val="e5ffff"/>
                </a:solidFill>
                <a:latin typeface="Tahoma"/>
              </a:rPr>
              <a:t>í medveď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2060640"/>
            <a:ext cx="914400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e5ffff"/>
                </a:solidFill>
                <a:latin typeface="Tahoma"/>
              </a:rPr>
              <a:t>Genetická podobnosť populáci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2050920"/>
            <a:ext cx="914400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95280" y="1889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opulácia v Škandinávii – vyššia variabilita vďaka toku génov zo susedných populáci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omerne vysoká variabilita napriek zahrdleniu populác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otrebná analýza viacerých lokusov –sledované lokusy nemusia byť dostatočne reprezentatívne, lepšie možnosti porovnan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e5ffff"/>
                </a:solidFill>
                <a:latin typeface="Tahoma"/>
              </a:rPr>
              <a:t>Záve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e5ffff"/>
                </a:solidFill>
                <a:latin typeface="Tahoma"/>
              </a:rPr>
              <a:t>Čo treba dokončiť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orovnanie slovenskej populácie s rumunskou, slovisnkou, prípadne inými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genotypovanie trusu – odhad početnosti v úzko lokalizovanej oblasti (napr. na Poľane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analýza mtDNA – určenie fylogeografického pôvodu karpatských populácií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508464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Tahoma"/>
              </a:rPr>
              <a:t>Ďakujem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sk-SK" sz="4000" spc="-1" strike="noStrike">
                <a:solidFill>
                  <a:srgbClr val="000000"/>
                </a:solidFill>
                <a:latin typeface="Tahoma"/>
              </a:rPr>
              <a:t> za pozornos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1177920"/>
            <a:ext cx="4572000" cy="3424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572000" y="1170000"/>
            <a:ext cx="457200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lýza mitochondriálnej DNA – rozdelenie európskych populácii na 2 lín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ápadoeurópske populácie -pochádzajúce z Balkánu a Pyrenej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ýchodoeurópske – možné glaciálne refúgium v Karpatoch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e5ffff"/>
                </a:solidFill>
                <a:latin typeface="Tahoma"/>
              </a:rPr>
              <a:t>Medveď v Európ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Zahrdlenie populáci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níženie efektívnej početnosti populáci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trata genetickej variability (genetický drif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nížený reprodukčný potenciál – „inbreeding depression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dveď hnedý v Karpato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a Slovensku v medzivojnovom období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0–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0 jedinco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d 2. polovice 20. storočia chránený druh – neustály nárast početnosti populáci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súčasnosti 600–800 jedinco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a základe výnimiek zo zákona – regulačn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chranný odlov 10% populácie roč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 Rumunsku populácia nikdy neklesla pod  1000 jedinco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eko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 pracovn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 hypot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á slovenská populácia zníženú diverzitu oproti rumunskej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 akej miery sa západokarpatské populácie odlišujú od východakarpatských a od balkánskych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dveď hnedý v Karpato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epojenie západokarpatskej a východokarpatskej populácie – obnovenie génového tok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a Slovensku diskontinuálne rozšíren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epojenie cez Poľsko, Ukrajin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4360" y="2828880"/>
            <a:ext cx="7135560" cy="4029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rot="3923400">
            <a:off x="4217400" y="4893840"/>
            <a:ext cx="557280" cy="636840"/>
          </a:xfrm>
          <a:prstGeom prst="upDownArrow">
            <a:avLst>
              <a:gd name="adj1" fmla="val 50000"/>
              <a:gd name="adj2" fmla="val 2274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0796000">
            <a:off x="5579640" y="5084640"/>
            <a:ext cx="557280" cy="4003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3923400">
            <a:off x="2810880" y="3965400"/>
            <a:ext cx="557280" cy="636840"/>
          </a:xfrm>
          <a:prstGeom prst="upDownArrow">
            <a:avLst>
              <a:gd name="adj1" fmla="val 50000"/>
              <a:gd name="adj2" fmla="val 2274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3923400">
            <a:off x="4787640" y="5950080"/>
            <a:ext cx="431640" cy="4316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6734400">
            <a:off x="4787280" y="3284280"/>
            <a:ext cx="431640" cy="4316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5:08:46Z</dcterms:created>
  <dc:creator>Straka</dc:creator>
  <dc:description/>
  <dc:language>en-US</dc:language>
  <cp:lastModifiedBy>Paule</cp:lastModifiedBy>
  <dcterms:modified xsi:type="dcterms:W3CDTF">2008-02-10T19:21:05Z</dcterms:modified>
  <cp:revision>20</cp:revision>
  <dc:subject/>
  <dc:title>Genetická diverzita a diferenciácia populácií medveďa hnedého v Karpatoch</dc:title>
</cp:coreProperties>
</file>