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3.wmf" ContentType="image/x-wmf"/>
  <Override PartName="/ppt/media/image10.png" ContentType="image/png"/>
  <Override PartName="/ppt/media/image11.jpeg" ContentType="image/jpeg"/>
  <Override PartName="/ppt/media/image1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C04-DCCB-4C7A-8F90-7847D02F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47E-541D-42D6-A3E4-F274F736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4F5-77DC-4CA1-A261-A93FE62D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D53-1991-4D1E-91B3-37CEEFE8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99C-7C51-4102-A974-52C9D7D4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E77-C355-40AD-A476-6BDC9B04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D90-209C-4467-96C7-4A637C8D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B99-4B30-4CEF-AE7B-1A3B6562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067-55AD-4951-A701-E8A07C34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F40-0C4D-426A-8152-F69992A5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4B57-98A4-4358-9649-83E89330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A05A-DE32-4A3C-9B33-CEDC0A82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0EDE-B162-40A7-8B74-70D893C30CF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6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ZNAM ZÁPADNÝCH KARPÁT PRE OCHRANU A ZACHOVANIE VEĽKÝCH ŠELIEM V STREDNEJ EURÓP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638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H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L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J. SLAMEČKA – D. KRAJ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1175040" cy="1676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0574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doeurópsky inštitút ekológie zveri, Viedeň, Brno, Ni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skumný ústav živočíšnej výroby, SCPV Nit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venský poľovnícky zväz Bratisl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304920"/>
            <a:ext cx="1981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429000" y="228600"/>
          <a:ext cx="2209680" cy="15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28600"/>
                    <a:ext cx="220968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39092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rcRect l="11912" t="5051" r="78145" b="87551"/>
          <a:stretch/>
        </p:blipFill>
        <p:spPr>
          <a:xfrm>
            <a:off x="6877080" y="404640"/>
            <a:ext cx="1440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87760" cy="710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3564000" y="0"/>
          <a:ext cx="5580000" cy="3608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0"/>
                    <a:ext cx="558000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635280" y="3645000"/>
            <a:ext cx="550872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raf svedčí o nežiaducom trvalom náraste medvedej populácie v západných Karpatoch v dôsledku jej nedostatočnej regulácie, spôsobenej nadmernými reštrikciami zo strany MŽP SR pri realizovaní jeho povoleného redukčného lovu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9144000" cy="521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5229360"/>
            <a:ext cx="8964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orovnanie počtu zničených úľov a strhnutých hosp. zvierat (v ks) s vývojom početnosti medveďa (v %) v rokoch 1997 – 20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očty HZ a včelstiev na Slovensku za uvedené obdobie poklesl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Škody spôsobené medveďom na hosp. zvieratách a včelstvách sú z pohľadu národného hospodárstva bezvýznamné, z lokálneho pohľadu však značné a ich nahradzovanie je zatiaľ neuspokojivé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át nahrádza škody medveďom len tam, kde nebol povolený odstre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aj keď sa ho nepodarilo realizovať, čo môže viesť aj k nežiaduci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egál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stre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trebné zintenzívniť ochranu proti škodám spôsobeným veľkými šelmami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aždoročne dochádza k priamym fyzickým stretom medveďov s ľuďmi (5 – 6 osôb). Ich následky sú často váž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írastok medvieďat dosahuje v lete až 20 % jarného stavu populácie. Preto je jej regulácia, minimálne vo výške 10 % nevyhnutná. Tá sa však bude môcť realizovať len vtedy, keď prestanú kontraproduktívne byrokratické obmedzenia jej realizáci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á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edačné pôsobenie všetkých troch druhov veľkých šeliem je na Slovensku synergické a preto zvlášť citeľn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aše skúsenosti potvrdzujú, že keď sa veľké šelmy početne racionálne regulujú, je možný úspešný manažment raticovej zveri a aj škody na hosp. zvieratách a včelstvách možno udržať na únosnej úrov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Je potrebné udržiavať primerané stavy raticovej zveri nielen v záujme jej poľovníckeho obhospodarovania, ale aj ako základného zdroja obživy veľkých šeli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ápadné Karpaty sú významným refúgiom veľkých šeliem v strednej Európe, odkiaľ tieto môžu spontánne migrovať do susedných štátov. Ide o autochtónnych členov karpatskej fauny a preto ich musíme trvalo zachovať, samozrejme v únosnej početnos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a prelome 19. a 20. storočia žili v Karpatoch posledné a najzápadnejšie populácie veľkých šeliem v strednej Euró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Z tohto aspektu boli východné Karpaty lepším refúgiom veľkých šeliem ako západn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 západných Karpatoch bola početnosť veľkých šeliem už len minimálna (asi 20 – 30 medveďov, málo rysov, minimum vlkov na východe Slovenska a ich občasné zimné invázie z Poľsk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eľká raticová zver bola v absolútnom minime, srnčia bola trochu početnejšia a preto predstavovali hospodárske zvieratá na pastvinách významný zdroj potravy pre veľké šelm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reto boli veľké šelmy silne prenasledované a pretrvával aj trofejový lov medveďov, realizovaný najmä českými poľovníkmi a to aj na Podkarpatskej Ru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 roku 1933 bola z iniciatívy poľovníkov zavedená ochrana medveďa a jeho stavy sa začali zvyšovať. Vlk bol stále intenzívne lovený. Početnosť vlka a rysa sa zvýšila až po II. svetovej voj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tedy sa rozšíril najmä rys, vznikla malá populácia aj na severovýchode Moravy, ktorá však bola čoskoro zlikvidovaná. Rysy zo západných Karpát sa objavovali aj v býv. NDR, Maďarsku a Rakúsku, ale taktiež tam dlho nepreži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a prelome 60. a 70. rokov minulého storočia sa stavy  vlka a rysa dostali opäť do minima a preto im bol v roku 1975, z iniciatívy poľovníkov, uzákonený čas ochrany od 1. marca do 15. septemb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 dôsledku toho sa veľmi rozšíril areál vlka a početnosť všetkých troch druhov veľkých šeliem neustále narasta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956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3049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Areál veľkých šeliem v západných Karpato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943600"/>
            <a:ext cx="882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Zelená farba znázorňuje zalesnenie (199 k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z čoho veľké šelmy osídľujú asi 70 - 75 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956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R421" descr=""/>
          <p:cNvPicPr/>
          <p:nvPr/>
        </p:nvPicPr>
        <p:blipFill>
          <a:blip r:embed="rId1"/>
          <a:stretch/>
        </p:blipFill>
        <p:spPr>
          <a:xfrm>
            <a:off x="0" y="974880"/>
            <a:ext cx="9144000" cy="4829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052640"/>
            <a:ext cx="20509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äčšina veľkých šeliem, ktoré odmigrovali zo západných Karpát, bola v zahraničí uloven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lk a medveď sa v súčasnosti trvalo usídlil na severovýchodnej Morave, pri rysovi na východe ČR je ťažké povedať, akým podielom sú tam zastúpené spontánne migranty zo Slovenska a z umelých introdukci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Do Rakúska prenikajú veľké šelmy z Balkánu a aj zo západných Karpát. Napriek tomu sú tu ich populácie minimálne, lebo pri intenzívnom chove jelenej zveri na hornej hranici lesa v Alpách sú nežiaduce (najmä vlk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Do Maďarska prenikali veľké šelmy zo západných Karpát neustále a prenikajú aj v súčasnosti, stabilizované populácie však zatiaľ nevznikli a sú odkázané na neustály prísun zo Slovensk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336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76720" y="0"/>
            <a:ext cx="381636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imes New Roman"/>
              </a:rPr>
              <a:t>Slovenskí poľovníci odchytili veľa živých rysov do sklopcov na účely ich reintrodukcie v Slovinsku, Nemecku, Švajčiarsku, Rakúsku, Francúzsku, Taliansku a v ČR. Export z veľkej časti organizovala ZOO Ostrava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527280"/>
            <a:ext cx="914400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500" spc="-1" strike="noStrike">
                <a:solidFill>
                  <a:srgbClr val="000000"/>
                </a:solidFill>
                <a:latin typeface="Times New Roman"/>
              </a:rPr>
              <a:t>V niektorých rokoch sa na Slovensku lovilo až 100 rysov. Populácia expandovala, rysy prenikali do nových regiónov a často vnikali (najmä mladé) aj do ľudských sídiel. Prírastok populácie je veľmi vysoký (napr. Šumava, Kočevje atď.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imes New Roman"/>
              </a:rPr>
              <a:t>V súčasnosti je početnosť populácie trochu nižšia (okolo 250 jedincov), možno aj v dôsledku nárastu populácie vlka. Je celoročne chránený, robí len minimálne škody na hosp. zvieratách, ale loví veľa prežúvavej zveri (60 – 70 ks ročne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47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4869000"/>
            <a:ext cx="9144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rnec lesný je hlavnou korisťou rysa v západných Karpatoch (r = -0,346, ale do lovu je započítaná aj srnčia zver žijúca mimo areálu rysa). Rys intenzívne loví aj jelenčatá a inú raticovú zver. V súčasnosti takéto porovnávanie pre zákaz lovu rysa nie je možné, o jeho ilegálnom love nemáme informáci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33818" r="0" b="8455"/>
          <a:stretch/>
        </p:blipFill>
        <p:spPr>
          <a:xfrm>
            <a:off x="0" y="0"/>
            <a:ext cx="9144000" cy="3370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3500280"/>
            <a:ext cx="91440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d roku 2000 sa na Slovensku loví ročne 74 – 118, priemerne  98 vlkov. Ich početnosť odhadujeme na cca 250 jedinco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írastok populácie dosahuje najmenej 50 % z jarného stavu, pričom 1 vlk spotrebuje ročne podľa prof. Bibikova 500 – 800 kg mäsa. Loví nielen raticovú zver, ale aj hosp. zvieratá a občas aj poľovné p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lk v súčasnosti už osídľuje lesy celého severného a stredného Slovenska. Čas jeho lovu je veľmi skrátený (od 1. 11. do 15. 1.), čo úplne nepostačuje na účinnú reguláciu jeho početnos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5148360" cy="29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14836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5076720" y="0"/>
            <a:ext cx="40672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raf presvedčivo ukazuje, že súčasná úroveň regulácie početnosti vlka jeho populáciu neohrozuje. Je potrebná aj v záujme zníženia škôd na hosp. zvieratách (0,8 mil. Sk ročne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2997360"/>
          <a:ext cx="4284720" cy="309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997360"/>
                    <a:ext cx="428472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211640" y="2997360"/>
          <a:ext cx="4680000" cy="3095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2997360"/>
                    <a:ext cx="46800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076720" y="4005360"/>
            <a:ext cx="100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0,6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65720"/>
            <a:ext cx="838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orovnanie lovu vlka a jeleňa (vľavo), resp. diviaka (vpravo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9:35:13Z</dcterms:created>
  <dc:creator>kastier</dc:creator>
  <dc:description/>
  <dc:language>en-US</dc:language>
  <cp:lastModifiedBy>Jaroslav Slamečka</cp:lastModifiedBy>
  <dcterms:modified xsi:type="dcterms:W3CDTF">2008-01-29T11:09:17Z</dcterms:modified>
  <cp:revision>74</cp:revision>
  <dc:subject/>
  <dc:title>SCHÄDEN DURCH GROSSRAUBWILD IN DER SLOWAKEI UND MÖGLICHKEITEN IHRER VERHÜTUNG (Schutz, Erhaltung und Regulierung des Grossraubwildes) </dc:title>
</cp:coreProperties>
</file>