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4.png" ContentType="image/png"/>
  <Override PartName="/ppt/media/image12.wmf" ContentType="image/x-wmf"/>
  <Override PartName="/ppt/media/image1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8.wmf" ContentType="image/x-wmf"/>
  <Override PartName="/ppt/media/image9.png" ContentType="image/png"/>
  <Override PartName="/ppt/media/image33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3.png" ContentType="image/pn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media/image20.jpeg" ContentType="image/jpeg"/>
  <Override PartName="/ppt/media/image1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964-14A7-4AC7-ADFE-5CF79656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D2D-E9FC-48DC-B2F5-6F2E2EB1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7AD-FC9B-48A0-8EB6-4EA50438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824-654C-4353-B9A7-398C2DB8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3A3F-8DB7-4EE3-8C6F-54ED624F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3A70-251C-4526-889A-6DD36EB8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4456-65B1-4E5C-B486-3FDB084C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39EF-C9BB-496A-A472-25EE4ED0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7967-3C49-4C51-87ED-3B377D75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C2B0-4CF1-41C8-A38E-FD9EC62D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21A2-42AD-4626-A6DE-EBD7AC7C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107-FAC3-4A23-ABF2-70B9E2F7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101D-AD11-415F-88C7-466560F7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3497-2755-45CE-854E-31FD779C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B7C7-04AF-496B-922F-4122BE10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CA00-4B58-4523-97B4-A156BDA7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4B04-43C3-49FE-8458-5113C061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24E-9540-44C8-9AAD-67651B7C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DF0-54DA-4F4F-A665-D240B4D5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1AE-84A1-4349-A2EC-0F21AE9A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9BF-BA02-4C24-9D04-B6293EA2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F31-FBC8-4998-9C76-F75EA703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39AE-8BD9-43E8-9B82-21DD942B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18C-A6CB-4456-903D-0C2120A2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339966">
                  <a:alpha val="50196"/>
                </a:srgbClr>
              </a:gs>
              <a:gs pos="100000">
                <a:srgbClr val="1f5e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004600"/>
              </a:gs>
              <a:gs pos="50000">
                <a:srgbClr val="009900"/>
              </a:gs>
              <a:gs pos="100000">
                <a:srgbClr val="004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7170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175A-25CD-48FB-B644-5CE69ED4566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1f5e3e"/>
              </a:gs>
              <a:gs pos="50000">
                <a:srgbClr val="339966">
                  <a:alpha val="50196"/>
                </a:srgbClr>
              </a:gs>
              <a:gs pos="100000">
                <a:srgbClr val="1f5e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7170f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232E-5C54-49C9-9BB0-AE9E59102E3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713800" cy="191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4f5cd"/>
                </a:solidFill>
                <a:latin typeface="Arial"/>
                <a:ea typeface="Arial"/>
              </a:rPr>
              <a:t>Právne aspekty ochrany veľkých šeliem na Slovensk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52480"/>
            <a:ext cx="4343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Michal Adam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eter Pilinsk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Štátna ochrana prírody S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MŽP S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6118200"/>
            <a:ext cx="43434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Bratislava, 11.2.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58920" y="4653000"/>
            <a:ext cx="2087640" cy="1630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0" y="2319480"/>
            <a:ext cx="4572000" cy="453852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9560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46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233676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380880" y="2286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zšírenie vlka (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is lupu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na Slovensk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 územia s 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jeho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loro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u ochran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9560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286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zšírenie vlka (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is lupu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na Slovensk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 migračné korid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792920" cy="4032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233676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57880" y="2060640"/>
            <a:ext cx="2670120" cy="403236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Rys - sta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648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200"/>
                <a:gridCol w="952560"/>
              </a:tblGrid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č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dstr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úhy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6125760" y="639144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Arial"/>
                <a:ea typeface="Arial"/>
              </a:rPr>
              <a:t>zdroj - Lesnícky výskumný ústav Zvol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5400" y="1563840"/>
            <a:ext cx="57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- početnosť sa odhaduje na 400 jedinco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844640"/>
          <a:ext cx="8715240" cy="45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871524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7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Rys - rozšíreni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792920" y="0"/>
            <a:ext cx="1351080" cy="1600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1360" y="-6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9640" y="1989000"/>
            <a:ext cx="8163000" cy="3878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1128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Rys - ochra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6920" y="1700280"/>
          <a:ext cx="7539120" cy="865080"/>
        </p:xfrm>
        <a:graphic>
          <a:graphicData uri="http://schemas.openxmlformats.org/drawingml/2006/table">
            <a:tbl>
              <a:tblPr/>
              <a:tblGrid>
                <a:gridCol w="1413000"/>
                <a:gridCol w="1278000"/>
                <a:gridCol w="1104840"/>
                <a:gridCol w="1332000"/>
                <a:gridCol w="531720"/>
                <a:gridCol w="876240"/>
                <a:gridCol w="100332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yhláš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íloha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 C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Z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Č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B, 6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I</a:t>
                      </a: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R: </a:t>
                      </a: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250920" y="2637000"/>
            <a:ext cx="828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4f5cd"/>
                </a:solidFill>
                <a:latin typeface="Arial"/>
                <a:ea typeface="Arial"/>
              </a:rPr>
              <a:t>celoročne chránený druh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ruh, pre ktorý sa vyhlasujú chránené územ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(druh európskeho významu)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spoločenská hodno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4f5cd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4f5cd"/>
                </a:solidFill>
                <a:latin typeface="Arial"/>
                <a:ea typeface="Arial"/>
              </a:rPr>
              <a:t>80 000,- 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16360" y="3790800"/>
            <a:ext cx="4464000" cy="306720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339840"/>
            <a:ext cx="85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4f5cd"/>
                </a:solidFill>
                <a:latin typeface="Arial"/>
              </a:rPr>
              <a:t>Náhrada škôd - kompenzác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49076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medveď hnedý (</a:t>
            </a:r>
            <a:r>
              <a:rPr b="0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Ursus arcto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vlk dravý (</a:t>
            </a:r>
            <a:r>
              <a:rPr b="0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Canis lupu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rys ostrovid (</a:t>
            </a:r>
            <a:r>
              <a:rPr b="0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Lynx  lynx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30560" y="3357720"/>
            <a:ext cx="3097080" cy="218268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77080" y="2997360"/>
            <a:ext cx="1747800" cy="251280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2235240" cy="221760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p:transition spd="slow"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339840"/>
            <a:ext cx="85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4f5cd"/>
                </a:solidFill>
                <a:latin typeface="Arial"/>
              </a:rPr>
              <a:t>Predmet náhrady škô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86080"/>
            <a:ext cx="76327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život a zdravie fyzickej osob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ybrané domestikované živočíchy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kôň, osol, ich krížen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dobytok, ovca, koza, ošípaná,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hydina, 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ráliky 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ožušinové živočích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sy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oužívané na stráženie pred útokmi šelie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ryby chované na hospodársky účel v rybochovný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ariadenia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čelstvá a včel. zariadeni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ľné plodin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reviny a lesné poras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4f5c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4f5cd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4f5cd"/>
                </a:solidFill>
                <a:latin typeface="Arial"/>
              </a:rPr>
              <a:t>poľovná raticová zv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4f5cd"/>
                </a:solidFill>
                <a:latin typeface="Arial"/>
              </a:rPr>
              <a:t>v oblastiach s celoročn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4f5cd"/>
                </a:solidFill>
                <a:latin typeface="Arial"/>
              </a:rPr>
              <a:t>ochranou medveďa a vl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strips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339840"/>
            <a:ext cx="85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4f5cd"/>
                </a:solidFill>
                <a:latin typeface="Arial"/>
              </a:rPr>
              <a:t>Post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26828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redložiť písomnú žiadosť najneskôr do jedného mesiaca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od vzniku šk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komisi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Úrad životného prostr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Lesný úr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ŠOP S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majiteľ (poškoden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a ďalš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formulár o obhliadke šk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rozhodnutie o uhrad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neposkytuje sa, ak škoda bola spôsobená chráneným živočíchom mimo doby jeho druhovej ochrany alebo na  území, pre  ktoré bola  povolená výnim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716360" y="1952640"/>
            <a:ext cx="4176720" cy="313200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478476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38600" y="0"/>
            <a:ext cx="4686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4000" y="339840"/>
            <a:ext cx="85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4f5cd"/>
                </a:solidFill>
                <a:latin typeface="Arial"/>
              </a:rPr>
              <a:t>Podmienk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26828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náhrada škody na domestikovaných živočíchoch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kopytníky musia byť umiestnené v uzatvorenom objekte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v elektrickom ohradníku alebo pod priamym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ohľadom osoby alebo pastierskeho p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hydina, králiky a kožušinové živočíchy musia byť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umiestnené v uzatvorenom objek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škody sú spravidla spôsobované veľkými šelmami –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medveď, vlk, ry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229440" y="4657680"/>
            <a:ext cx="2914560" cy="220032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24000" y="4678200"/>
            <a:ext cx="2160360" cy="213552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771640" y="4653000"/>
            <a:ext cx="3240360" cy="217476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p:transition spd="slow">
    <p:strips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76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</a:rPr>
              <a:t>Veľké šelmy na Slovensk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336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Medveď (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Ursus arcto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Vlk  (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Canis lupu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Rys (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Lynx lynx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5880" y="3048120"/>
            <a:ext cx="2819520" cy="2071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2819520" cy="1776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14800" y="3962520"/>
            <a:ext cx="1984320" cy="2579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561080" cy="5187960"/>
          </a:xfrm>
          <a:prstGeom prst="rect">
            <a:avLst/>
          </a:prstGeom>
          <a:ln cap="sq" w="12600">
            <a:solidFill>
              <a:srgbClr val="ff7c80"/>
            </a:solidFill>
            <a:miter/>
          </a:ln>
        </p:spPr>
      </p:pic>
    </p:spTree>
  </p:cSld>
  <p:transition spd="slow">
    <p:strips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339840"/>
            <a:ext cx="85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4f5cd"/>
                </a:solidFill>
                <a:latin typeface="Arial"/>
              </a:rPr>
              <a:t>Legislatív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155736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4f5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4f5cd"/>
                </a:solidFill>
                <a:uFillTx/>
                <a:latin typeface="Arial"/>
              </a:rPr>
              <a:t> </a:t>
            </a:r>
            <a:r>
              <a:rPr b="1" lang="sk-SK" sz="2400" spc="-1" strike="noStrike" u="sng">
                <a:solidFill>
                  <a:srgbClr val="f4f5cd"/>
                </a:solidFill>
                <a:uFillTx/>
                <a:latin typeface="Arial"/>
              </a:rPr>
              <a:t>zákon o ochrane prírody a krajiny </a:t>
            </a:r>
            <a:r>
              <a:rPr b="0" lang="sk-SK" sz="2400" spc="-1" strike="noStrike">
                <a:solidFill>
                  <a:srgbClr val="f4f5cd"/>
                </a:solidFill>
                <a:latin typeface="Arial"/>
              </a:rPr>
              <a:t>č. 543/2002 Z.z. (vyhl. 24/2003 Z. z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4f5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4f5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4f5cd"/>
                </a:solidFill>
                <a:uFillTx/>
                <a:latin typeface="Arial"/>
              </a:rPr>
              <a:t> </a:t>
            </a:r>
            <a:r>
              <a:rPr b="1" lang="sk-SK" sz="2400" spc="-1" strike="noStrike" u="sng">
                <a:solidFill>
                  <a:srgbClr val="f4f5cd"/>
                </a:solidFill>
                <a:uFillTx/>
                <a:latin typeface="Arial"/>
              </a:rPr>
              <a:t>poľovný zákon </a:t>
            </a:r>
            <a:r>
              <a:rPr b="0" lang="sk-SK" sz="2400" spc="-1" strike="noStrike">
                <a:solidFill>
                  <a:srgbClr val="f4f5cd"/>
                </a:solidFill>
                <a:latin typeface="Arial"/>
              </a:rPr>
              <a:t>23/1962 Zb. (vyhl. 172/1975 Zb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27600" y="3576600"/>
            <a:ext cx="5181480" cy="330840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</p:spTree>
  </p:cSld>
  <p:transition spd="slow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Medveď  - sta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2193840"/>
          <a:ext cx="4246560" cy="4114800"/>
        </p:xfrm>
        <a:graphic>
          <a:graphicData uri="http://schemas.openxmlformats.org/drawingml/2006/table">
            <a:tbl>
              <a:tblPr/>
              <a:tblGrid>
                <a:gridCol w="958680"/>
                <a:gridCol w="1123920"/>
                <a:gridCol w="988920"/>
                <a:gridCol w="1175040"/>
              </a:tblGrid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č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dstr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úhy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69000" y="2637000"/>
            <a:ext cx="3806640" cy="285264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504760" y="60213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Arial"/>
                <a:ea typeface="Arial"/>
              </a:rPr>
              <a:t>zdroj - Lesnícky výskumný ústav Zvol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6280" y="1698480"/>
            <a:ext cx="68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- Reálna početnosť sa odhaduje na 800 jedinco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2060640"/>
          <a:ext cx="8856720" cy="446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060640"/>
                    <a:ext cx="8856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4051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         </a:t>
            </a:r>
            <a:r>
              <a:rPr b="1" lang="sk-SK" sz="4000" spc="-1" strike="noStrike">
                <a:solidFill>
                  <a:srgbClr val="f4f5cd"/>
                </a:solidFill>
                <a:latin typeface="Arial"/>
                <a:ea typeface="Arial"/>
              </a:rPr>
              <a:t>Medveď rozšíren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0920" cy="1484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093080" y="0"/>
            <a:ext cx="205092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Medveď - ochra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03640" y="3348000"/>
            <a:ext cx="4032360" cy="2889360"/>
          </a:xfrm>
          <a:prstGeom prst="rect">
            <a:avLst/>
          </a:prstGeom>
          <a:ln cap="sq" w="12600">
            <a:solidFill>
              <a:srgbClr val="ff7c80"/>
            </a:solidFill>
            <a:miter/>
          </a:ln>
        </p:spPr>
      </p:pic>
      <p:graphicFrame>
        <p:nvGraphicFramePr>
          <p:cNvPr id="114" name=""/>
          <p:cNvGraphicFramePr/>
          <p:nvPr/>
        </p:nvGraphicFramePr>
        <p:xfrm>
          <a:off x="826920" y="1700280"/>
          <a:ext cx="7539120" cy="865080"/>
        </p:xfrm>
        <a:graphic>
          <a:graphicData uri="http://schemas.openxmlformats.org/drawingml/2006/table">
            <a:tbl>
              <a:tblPr/>
              <a:tblGrid>
                <a:gridCol w="1413000"/>
                <a:gridCol w="1278000"/>
                <a:gridCol w="1104840"/>
                <a:gridCol w="1332000"/>
                <a:gridCol w="531720"/>
                <a:gridCol w="876240"/>
                <a:gridCol w="100332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yhláš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íloha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 C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B, 6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 4 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R: c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R: l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24000" y="2743200"/>
            <a:ext cx="47527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4f5cd"/>
                </a:solidFill>
                <a:latin typeface="Arial"/>
                <a:ea typeface="Arial"/>
              </a:rPr>
              <a:t>celoročne chránený druh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ruh, pre ktorý sa vyhlasuj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chránené územ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(prioritný druh eur. významu)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spoločenská hodno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4f5cd"/>
                </a:solidFill>
                <a:latin typeface="Arial"/>
                <a:ea typeface="Arial"/>
              </a:rPr>
              <a:t>  </a:t>
            </a:r>
            <a:r>
              <a:rPr b="1" lang="sk-SK" sz="2400" spc="-1" strike="noStrike">
                <a:solidFill>
                  <a:srgbClr val="f4f5cd"/>
                </a:solidFill>
                <a:latin typeface="Arial"/>
                <a:ea typeface="Arial"/>
              </a:rPr>
              <a:t>80 000,- Sk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výnimka na usmrten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- tzv. regulačný odstr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ochranný lov tzv. škodníkov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9920" y="2103480"/>
            <a:ext cx="2368440" cy="3557520"/>
          </a:xfrm>
          <a:prstGeom prst="rect">
            <a:avLst/>
          </a:prstGeom>
          <a:ln w="9360">
            <a:solidFill>
              <a:srgbClr val="ff7c80"/>
            </a:solidFill>
            <a:miter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Vlk - stav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  <a:gridCol w="952200"/>
              </a:tblGrid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č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dstr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úhy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008040" y="64641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Arial"/>
                <a:ea typeface="Arial"/>
              </a:rPr>
              <a:t>zdroj - Lesnícky výskumný ústav Zvol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480" y="1490760"/>
            <a:ext cx="57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- početnosť sa odhaduje na 500 jedinco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844640"/>
          <a:ext cx="7993080" cy="4559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844640"/>
                    <a:ext cx="79930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1047600"/>
            <a:ext cx="8277480" cy="5810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1152360"/>
            <a:ext cx="8065800" cy="5705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Vlk - rozšíren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8576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8058240" y="0"/>
            <a:ext cx="108576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1128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4f5cd"/>
                </a:solidFill>
                <a:latin typeface="Arial"/>
                <a:ea typeface="Arial"/>
              </a:rPr>
              <a:t>Vlk - ochra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26920" y="1700280"/>
          <a:ext cx="7539120" cy="865080"/>
        </p:xfrm>
        <a:graphic>
          <a:graphicData uri="http://schemas.openxmlformats.org/drawingml/2006/table">
            <a:tbl>
              <a:tblPr/>
              <a:tblGrid>
                <a:gridCol w="1413000"/>
                <a:gridCol w="1278000"/>
                <a:gridCol w="1104840"/>
                <a:gridCol w="1332000"/>
                <a:gridCol w="531720"/>
                <a:gridCol w="876240"/>
                <a:gridCol w="100332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yhláš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íloha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r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 CI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B</a:t>
                      </a: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 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 </a:t>
                      </a: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R: </a:t>
                      </a: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R:</a:t>
                      </a: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2895480"/>
            <a:ext cx="51055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4f5cd"/>
                </a:solidFill>
                <a:latin typeface="Arial"/>
                <a:ea typeface="Arial"/>
              </a:rPr>
              <a:t>druh s čiastočnou ochranou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chránený v čase od 16.1. do  31.10. kalendárneho rok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ve oblasti s celoročnou ochranou- CHKO Kysuce a NP Slovenský k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ruh pre ktorý sa vyhlasuj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chránené územi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(prioritný druh európske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význam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26120" y="3048120"/>
            <a:ext cx="3809880" cy="3382920"/>
          </a:xfrm>
          <a:prstGeom prst="rect">
            <a:avLst/>
          </a:prstGeom>
          <a:ln cap="sq" w="12600">
            <a:solidFill>
              <a:srgbClr val="ff7c8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2700360" y="1989000"/>
            <a:ext cx="576360" cy="57492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li</cp:lastModifiedBy>
  <dcterms:modified xsi:type="dcterms:W3CDTF">2008-02-09T20:59:30Z</dcterms:modified>
  <cp:revision>141</cp:revision>
  <dc:subject/>
  <dc:title>Prezentace aplikace PowerPoint</dc:title>
</cp:coreProperties>
</file>